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290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962160" y="0"/>
            <a:ext cx="30286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76480" y="694800"/>
            <a:ext cx="4641840" cy="3481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0" y="8817120"/>
            <a:ext cx="30290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962160" y="8817120"/>
            <a:ext cx="30286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8FD4E21-1A45-4005-A84E-3A9024D265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that we’ve figured out how to evaluate how good a specified Bayes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 structure is, let’s consider learning simple network structures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.  In particular, let’s consider networks where each bit is conditioned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ctly one other bit, except one bit that serves as the root of the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pose I start off with no arcs.  Now, suppose we were to consider ad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rc from, say, x17 to x22.  How much would the total network score go up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 before the arc is added, x22’s contribution to the score is minus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conditional entropy of x22.  After the arc is added, then its contrib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e conditional entropy of X22 given X17.  So the increase in the score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inus this, which is the MUTUAL INFORMATION of x17 and x2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ugh it’s not obvious from these equation here, the mutual informa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metri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unwittingly reinvented by Baluja and Davies thirty years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You can either have a real honest-to-goodness noisy dataset to start with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start off with a uniform prior; it doesn’t usually make too much difference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til we run out of time or the algorithm is generating the same solution o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over again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 … using the maximum spanning tree algorithm we just describ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uts exponentially decreasing weight on datapoints that were gene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a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generate bitstrings?  Depth-first traversal of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actually have to remember old bitstrings: just keep around O(n^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fficient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K.  So, now we know how to use the maximum spanning tree algorithm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best Bayesian network in which each node has at most one parent,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use such models for optimization.  How about more complic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s?  For example, how about…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fortunately, though K=1 is relatively easy, as we just saw, when you bu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 up to 2 the problem suddenly becomes NP-comple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ever, as is often the case with NP-complete problems, you can use sear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uristics to come with what are hopefully reasonably good solution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people have tried using hillclimbing and simulated anne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search for good network structures.   Obvious question now is, what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do you use during this search over network structur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now, just to be wild and crazy, let’s consider using hillclimbing over Bayes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s in order to find more complex probabilistic models of the goo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tstrings generated so far during combinatorial optimization ru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before, we start with a dataset taken from uniform distribution, but n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also start with an empty Bayesian network (containing no arcs) from 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begin our first hillclimbing run over Bayesian network struc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again, we loop until we get bored or the algorithm conver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each iteration, first we start a search for a network that is a lo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mal model of our current dataset.  We use steepest-descent hillclimb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every single step is an edge addition, removal, or reversal.  After w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a locally optimal network, we do the same thing we did with the tree-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hm: generate a bunch of bitstrings, evaluate them, and stick them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ataset after decaying the weight of the old data by a b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es a bit better on some problems, about the same as the Tree-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hm on others (and the tree-based algorithm seems to work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tty well).  However, it is much more of a CPU and memory ho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it’s not clear it’s worth 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are our results only a little bett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that more complex networks start putting too much emphasis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oitation rather than exploration.  Or, maybe we’re just not finding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ght network struc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 so far we’ve shown the tree algorithm works well on problems up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256 bits.  Why haven’t we talked about any real problems ye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possible approach: instead of  generating candidate solutions exclusive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the probabilistic models used here, like the tree-shaped models, we 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the models to select good starting points for f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here’s an algorithm that does just that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we tried this algorithm out on some larger optimization proble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used a stochastic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ompared COMIT against hillclimbers using completely random resta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against hillclimbers that choose the best string of many randomly gene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ings and then start hillclimbing on tha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ternative approach we’ll be exploring in this t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pproaches we’ll be looking at all have the following in comm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ain an explicit blah blah blah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explore three or four different classes of probability distributions in th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date rule: similar to update rule used in unsupervised competitive lear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ole thing is very similar to a team of cooperative learning automata in 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isions are made independently but the reinforcement depends on all of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omata’s chosen actions.  Update rule is just reward-inaction up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is, find the single probability model with the greatest posterior likeli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tically, of course, we might want to average over all ALL of the Pi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ed by their posterior likelihoods, but that’s impossible in practice si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possible models is way, way too bi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Bayes’ rule and ignoring the P(D) on the bottom because it’s a constan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th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, for the moment let’s assume we have uniform priors over the allow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 structures, and concentrate on this te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E6D60-3065-485E-95BD-3DD8CE557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399A2-7FD0-4555-8E2F-D3572624C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6401B-42B1-431D-AEBD-042EA8681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1819B-A975-4DEE-80DE-5B0828CA8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06196-CBC0-4A50-BAF9-F24ED6152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F8C6B-FE4C-4D5F-B90A-FF1CF8BA4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8A6B1-6D6A-4EC7-9220-C51F962F8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4E89B-C269-4D72-8DC0-B7DE6AB5E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03174-89D5-4B1C-9112-52F96F6A3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01A5B-C3DA-4908-BD32-FD13A91CA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94B0E-211B-4089-B47B-0F7A15829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9B9FD-F8A8-415D-9217-0F722D056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2F650-8F17-49A0-9B5E-DA5F71B3C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242D1-F54E-4AFE-BC7A-1A8F81680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9A679-836E-4809-8678-1896866F7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7A22A-BB45-4AFB-90F8-E01EA305B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8FF6A-E727-4A76-BCFE-DB8335182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B452B-D205-4D0F-BD28-6B617AA1C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B1441-30FA-4AE5-A555-F0ECA6915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3DEAA-976A-47CD-8BD5-63B4C77F3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AF304-F6AA-4789-B94C-431AFAAC1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13224-FE10-463B-BE62-41B2F828F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82325-B702-449A-8BDE-2E3B791A7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04AB1-63AF-4F7C-8B1F-161FEB7A7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86801-428D-44B2-B6A5-912E9804AC8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1066680"/>
            <a:ext cx="8458200" cy="22860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33512-DFC2-4833-9ADB-5A11072FEBC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981080"/>
            <a:ext cx="8458200" cy="304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ast Probabilistic Modeling for 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33720" y="3048120"/>
            <a:ext cx="68580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tt Dav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ool of Computer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and Justsystem Pittsburgh Research Cent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t work with 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arning Network Structures from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88480" y="186696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ing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reduces to maximiz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the set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s parent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…) is the average entropy of an empirical distribution exhibited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3352680" y="2590920"/>
                <a:ext cx="210996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’s allow each bit to be conditioned on at most one other b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208960" y="2057400"/>
            <a:ext cx="4801680" cy="2362320"/>
            <a:chOff x="2208960" y="2057400"/>
            <a:chExt cx="4801680" cy="2362320"/>
          </a:xfrm>
        </p:grpSpPr>
        <p:sp>
          <p:nvSpPr>
            <p:cNvPr id="151" name=""/>
            <p:cNvSpPr/>
            <p:nvPr/>
          </p:nvSpPr>
          <p:spPr>
            <a:xfrm>
              <a:off x="4191120" y="20574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4197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048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334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495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352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3623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8" name=""/>
            <p:cNvCxnSpPr>
              <a:stCxn id="151" idx="4"/>
              <a:endCxn id="152" idx="0"/>
            </p:cNvCxnSpPr>
            <p:nvPr/>
          </p:nvCxnSpPr>
          <p:spPr>
            <a:xfrm>
              <a:off x="4419360" y="2528640"/>
              <a:ext cx="229320" cy="276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9" name=""/>
            <p:cNvCxnSpPr>
              <a:stCxn id="151" idx="3"/>
              <a:endCxn id="153" idx="7"/>
            </p:cNvCxnSpPr>
            <p:nvPr/>
          </p:nvCxnSpPr>
          <p:spPr>
            <a:xfrm flipH="1">
              <a:off x="343800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0" name=""/>
            <p:cNvCxnSpPr>
              <a:stCxn id="151" idx="5"/>
              <a:endCxn id="154" idx="1"/>
            </p:cNvCxnSpPr>
            <p:nvPr/>
          </p:nvCxnSpPr>
          <p:spPr>
            <a:xfrm>
              <a:off x="458136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1" name=""/>
            <p:cNvCxnSpPr>
              <a:stCxn id="153" idx="3"/>
              <a:endCxn id="157" idx="0"/>
            </p:cNvCxnSpPr>
            <p:nvPr/>
          </p:nvCxnSpPr>
          <p:spPr>
            <a:xfrm flipH="1">
              <a:off x="2590560" y="3224160"/>
              <a:ext cx="52416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2" name=""/>
            <p:cNvCxnSpPr>
              <a:stCxn id="153" idx="5"/>
              <a:endCxn id="156" idx="0"/>
            </p:cNvCxnSpPr>
            <p:nvPr/>
          </p:nvCxnSpPr>
          <p:spPr>
            <a:xfrm>
              <a:off x="3438000" y="3224160"/>
              <a:ext cx="14364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63" name=""/>
            <p:cNvSpPr/>
            <p:nvPr/>
          </p:nvSpPr>
          <p:spPr>
            <a:xfrm>
              <a:off x="55627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40080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5" name=""/>
            <p:cNvCxnSpPr>
              <a:stCxn id="154" idx="4"/>
              <a:endCxn id="163" idx="0"/>
            </p:cNvCxnSpPr>
            <p:nvPr/>
          </p:nvCxnSpPr>
          <p:spPr>
            <a:xfrm>
              <a:off x="5562360" y="3290400"/>
              <a:ext cx="22932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6" name=""/>
            <p:cNvCxnSpPr>
              <a:stCxn id="154" idx="5"/>
              <a:endCxn id="164" idx="1"/>
            </p:cNvCxnSpPr>
            <p:nvPr/>
          </p:nvCxnSpPr>
          <p:spPr>
            <a:xfrm>
              <a:off x="5724360" y="3224160"/>
              <a:ext cx="743760" cy="486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7" name=""/>
            <p:cNvCxnSpPr>
              <a:stCxn id="157" idx="3"/>
            </p:cNvCxnSpPr>
            <p:nvPr/>
          </p:nvCxnSpPr>
          <p:spPr>
            <a:xfrm flipH="1">
              <a:off x="2208960" y="4061880"/>
              <a:ext cx="2199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8" name=""/>
            <p:cNvCxnSpPr>
              <a:stCxn id="155" idx="5"/>
            </p:cNvCxnSpPr>
            <p:nvPr/>
          </p:nvCxnSpPr>
          <p:spPr>
            <a:xfrm>
              <a:off x="488592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9" name=""/>
            <p:cNvCxnSpPr>
              <a:stCxn id="163" idx="4"/>
            </p:cNvCxnSpPr>
            <p:nvPr/>
          </p:nvCxnSpPr>
          <p:spPr>
            <a:xfrm>
              <a:off x="5790960" y="4128840"/>
              <a:ext cx="1080" cy="291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0" name=""/>
            <p:cNvCxnSpPr>
              <a:stCxn id="164" idx="3"/>
            </p:cNvCxnSpPr>
            <p:nvPr/>
          </p:nvCxnSpPr>
          <p:spPr>
            <a:xfrm flipH="1">
              <a:off x="617220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1" name=""/>
            <p:cNvCxnSpPr>
              <a:stCxn id="155" idx="3"/>
            </p:cNvCxnSpPr>
            <p:nvPr/>
          </p:nvCxnSpPr>
          <p:spPr>
            <a:xfrm flipH="1">
              <a:off x="441900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2" name=""/>
            <p:cNvCxnSpPr>
              <a:stCxn id="164" idx="5"/>
            </p:cNvCxnSpPr>
            <p:nvPr/>
          </p:nvCxnSpPr>
          <p:spPr>
            <a:xfrm>
              <a:off x="6791400" y="4061880"/>
              <a:ext cx="21960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3" name=""/>
            <p:cNvCxnSpPr>
              <a:stCxn id="156" idx="3"/>
            </p:cNvCxnSpPr>
            <p:nvPr/>
          </p:nvCxnSpPr>
          <p:spPr>
            <a:xfrm flipH="1">
              <a:off x="3123360" y="4061880"/>
              <a:ext cx="29628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4" name=""/>
            <p:cNvCxnSpPr>
              <a:stCxn id="156" idx="5"/>
            </p:cNvCxnSpPr>
            <p:nvPr/>
          </p:nvCxnSpPr>
          <p:spPr>
            <a:xfrm>
              <a:off x="374328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5" name=""/>
            <p:cNvCxnSpPr>
              <a:stCxn id="152" idx="4"/>
              <a:endCxn id="155" idx="0"/>
            </p:cNvCxnSpPr>
            <p:nvPr/>
          </p:nvCxnSpPr>
          <p:spPr>
            <a:xfrm>
              <a:off x="4647960" y="3290400"/>
              <a:ext cx="7668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76" name=""/>
          <p:cNvSpPr/>
          <p:nvPr/>
        </p:nvSpPr>
        <p:spPr>
          <a:xfrm>
            <a:off x="822240" y="457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" y="4724280"/>
            <a:ext cx="85345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an arc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reases network score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information gain”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not necessarily obvious, but tr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tual 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255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optimal single-parent tree-shaped network, just find maximum spanning tree us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s the weight for the edge betwe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                [Chow and Liu, 1968]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done in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ime (assum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already been reduced to sufficient statis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al Dependency Trees for Combinatorial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Baluja &amp; Davies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with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itialized from the uniform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probability distribution represen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string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fter decaying the weight of all datapoints already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a facto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0 and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time: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*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per it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523880" y="2743200"/>
            <a:ext cx="6553440" cy="3886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-Coloring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isy Graph-Coloring 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edge connected to vertices of different colors, add +1 to evaluation function with probability 0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pogp" descr=""/>
          <p:cNvPicPr/>
          <p:nvPr/>
        </p:nvPicPr>
        <p:blipFill>
          <a:blip r:embed="rId1"/>
          <a:stretch/>
        </p:blipFill>
        <p:spPr>
          <a:xfrm>
            <a:off x="1600200" y="2819520"/>
            <a:ext cx="6400800" cy="37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Dependency Tree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sted following optimization algoirthms on variety of small problems, up to 256 bits lo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ation with optimal dependency tr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ation with chain-shaped networks (ala MIMI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l tren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&amp; GAs did relatively poor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mong probabilistic methods, PBIL &lt; Chains &lt; Trees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re accurate models are be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Higher-Order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ximum spanning tree algorithm gives us the optimal Bayesian Network in which each node has at most one pa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bout finding the best network in which each node has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rent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1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P-complete problem! [Chickering, et al., 199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can use search heuristics to look for “good” network structures (e.g., [Heckerman, et al., 1995]), e.g. hillclimb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ayesian Network-Based Combinatorial Optim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uniform distribution, and Bayesian networ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empty network containing no e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steepest-ascent hillclimbing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find locally optimal network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peat until no changes increase sco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how each possible edge addition, removal or deletion would affect penalized log-likelihood s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change that maximizes increase in sc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and evalu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ay weight of datapoi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cently generated datapoint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 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yesian Network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636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better than Tree-based optimization algorithm on some to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ghly the same as Tree-based algorithm on other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ly more computation than Tree-based algorithm, however, despite efficiency ha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not much better result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much emphasis on exploitation rather than explor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epest-ascent hillclimbing over network structures not good enough, particularly when starting from old network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9194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Probabilistic Models for Intelligent Rest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algorithm’s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execution time per iteration very expensive for large probl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more so for algorithm based on more complicated Bayesian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possible approach: use probabilistic models to select good starting points for faster optimization algorithms, e.g. hillclimbing or PB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162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“evaluation function”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: fixed-length bitstr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…,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: real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ght repres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b shop sche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P t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ized numeric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focus: “Black Box”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omain-dependent heu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48520" y="3586320"/>
            <a:ext cx="1544400" cy="888840"/>
          </a:xfrm>
          <a:prstGeom prst="rect">
            <a:avLst/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48520" y="3324240"/>
            <a:ext cx="2006640" cy="262080"/>
          </a:xfrm>
          <a:prstGeom prst="parallelogram">
            <a:avLst>
              <a:gd name="adj" fmla="val 191415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rot="5392800">
            <a:off x="7471080" y="3637080"/>
            <a:ext cx="1150920" cy="517680"/>
          </a:xfrm>
          <a:prstGeom prst="parallelogram">
            <a:avLst>
              <a:gd name="adj" fmla="val 48592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711840" y="3794040"/>
            <a:ext cx="571680" cy="444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66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(x)</a:t>
            </a:r>
            <a:endParaRPr b="0" i="1" lang="en-US" sz="2400" spc="1" strike="noStrike">
              <a:ln w="9360">
                <a:solidFill>
                  <a:srgbClr val="0066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6711840" y="3375000"/>
            <a:ext cx="1131840" cy="157320"/>
          </a:xfrm>
          <a:prstGeom prst="parallelogram">
            <a:avLst>
              <a:gd name="adj" fmla="val 179863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20000" y="3375000"/>
            <a:ext cx="0" cy="15732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762600" y="2590920"/>
            <a:ext cx="1081080" cy="26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=1001001...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7277040" y="2957400"/>
            <a:ext cx="0" cy="312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277040" y="4578480"/>
            <a:ext cx="0" cy="260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072200" y="4943520"/>
            <a:ext cx="411120" cy="314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37.4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ing Optimizers with Mutual Information Trees [Baluja and Davies, 1998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data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bitstrings drawn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.  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Execute a fast-search procedure, initialized with the best solutions generated from </a:t>
            </a:r>
            <a:r>
              <a:rPr b="0" i="1" lang="en-US" sz="2000" spc="-1" strike="noStrike">
                <a:solidFill>
                  <a:srgbClr val="ff66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lace up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the worst bitstring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the best bitstrings found during the fast-search run just execu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ith Hill-climb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single best bitstring generated by tree as starting point of a stochastic hillclimbing algorithm that allows at most PATIENCE moves to points of equal value before giving 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kept at 1000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et to 10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compare COMIT vs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itstrings 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est bitstring ou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533520" y="1981080"/>
            <a:ext cx="8076960" cy="43434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Hillclimbing: Example of Behav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SP domain: 100 cities, 700 b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HCperf.lite" descr=""/>
          <p:cNvPicPr/>
          <p:nvPr/>
        </p:nvPicPr>
        <p:blipFill>
          <a:blip r:embed="rId1"/>
          <a:stretch/>
        </p:blipFill>
        <p:spPr>
          <a:xfrm>
            <a:off x="1676520" y="2133720"/>
            <a:ext cx="6643440" cy="1676160"/>
          </a:xfrm>
          <a:prstGeom prst="rect">
            <a:avLst/>
          </a:prstGeom>
          <a:ln w="0">
            <a:noFill/>
          </a:ln>
        </p:spPr>
      </p:pic>
      <p:pic>
        <p:nvPicPr>
          <p:cNvPr id="204" name="Tperf.lite" descr=""/>
          <p:cNvPicPr/>
          <p:nvPr/>
        </p:nvPicPr>
        <p:blipFill>
          <a:blip r:embed="rId2"/>
          <a:stretch/>
        </p:blipFill>
        <p:spPr>
          <a:xfrm>
            <a:off x="1676520" y="3962520"/>
            <a:ext cx="6656400" cy="167616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503880" y="5790240"/>
            <a:ext cx="277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ion Number *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15840" y="2594880"/>
            <a:ext cx="546120" cy="23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ur Length *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876920" y="2285280"/>
            <a:ext cx="123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illcli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189760" y="419040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104900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Hillclimbing: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number is average over at least 25 ru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algorithm given 200,000 evaluation function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lighted: better than each non-COMIT hillclimber with confidence &gt; 95%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HCxxx: pick best of xxx randomly generated starting points before hillclimb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ITxxx: pick best of xxx starting points generated by tree before hillclimb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380880" y="3124080"/>
          <a:ext cx="8382240" cy="348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124080"/>
                    <a:ext cx="8382240" cy="348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ith PBI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amples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;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itialize PBIL’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ctor according to the unconditional distributions contained in the be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% of these exam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run terminated after 5000 evaluations without improv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 kept at 1000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t to 100 (as befo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 parameters: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.15; updat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single best example out of 50 each iteration; some “mutation” of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d as w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PBIL: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1295280" y="3124080"/>
          <a:ext cx="68281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3124080"/>
                    <a:ext cx="68281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70102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number is average over at least 50 ru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algorithm given 600,000 evaluation function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lighted: better than opposing algorithm(s) with confidence &gt; 95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BIL+R: PBIL with restart after 5000 evaluations without improvement (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reinitialized to 0.5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clusions &amp; 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makes probabilistic modeling applicable to much larger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led to significant improvements over baseline search algorithm in most problems tes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ing COMIT to more interesting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ing COMIT to combine results of multiple search algorith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corporating domain knowled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ing algorithm based on complex Bayesian Networks more pract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w/simpler search algorithm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ying COMIT to more interesting problems and other baseline search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KS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more sophisticated probabilistic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COMIT to combine results of multiple search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monly Used Approa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limbing, simulated anne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andidate solutions “neighboring” single current working solution (e.g. differing by one b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make no attempt to model how particular bits affect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mpt to implicitly capture dependency of solution quality on bit values by maintaining a population of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rossover and mutation operators on population members to generate new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Explicit Probabilistic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n explicit probabilit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which we generate new candidate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didate solution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make it more likely to generate solutions “similar” to the “good”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different choices for what sort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use and how to update it after candidate solution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pulation-Based Incremental Lear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ion-Based Incremental Learning (PBIL) [Baluja, 1995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s a vector of probabilities: on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depend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babilit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 for each bi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(Each initialized to 0.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a populatio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ach of the b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of the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adju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make that bitstring more likel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428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so sometimes uses “mutation” and/or pushes P away from bad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ten works very well (compared to hillclimbing and GAs) despite its independence assum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1981080" y="4572000"/>
                <a:ext cx="3657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'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2" name=""/>
          <p:cNvSpPr/>
          <p:nvPr/>
        </p:nvSpPr>
        <p:spPr>
          <a:xfrm>
            <a:off x="5791320" y="447408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3048120" y="4910040"/>
                <a:ext cx="213336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4" name=""/>
          <p:cNvSpPr/>
          <p:nvPr/>
        </p:nvSpPr>
        <p:spPr>
          <a:xfrm>
            <a:off x="5791320" y="483912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514960" y="487584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Inter-Bit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MIC [De Bonet, et al., 1997]: sort bits into Markov Chain in which each bit’s distribution is conditionalized on value of previous bit in ch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.g.: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…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hain from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% of bitstrings evaluated so far; generate new bitstrings from chain; repe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general framework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" y="5257800"/>
            <a:ext cx="8178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3962160"/>
            <a:ext cx="8178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2056680" y="1447920"/>
            <a:ext cx="5106240" cy="2285640"/>
            <a:chOff x="2056680" y="1447920"/>
            <a:chExt cx="5106240" cy="2285640"/>
          </a:xfrm>
        </p:grpSpPr>
        <p:sp>
          <p:nvSpPr>
            <p:cNvPr id="122" name=""/>
            <p:cNvSpPr/>
            <p:nvPr/>
          </p:nvSpPr>
          <p:spPr>
            <a:xfrm>
              <a:off x="3812400" y="144792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45840" y="151308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775240" y="20354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609800" y="236232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806440" y="31460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695320" y="31460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8" name=""/>
            <p:cNvCxnSpPr>
              <a:stCxn id="122" idx="3"/>
              <a:endCxn id="124" idx="7"/>
            </p:cNvCxnSpPr>
            <p:nvPr/>
          </p:nvCxnSpPr>
          <p:spPr>
            <a:xfrm flipH="1">
              <a:off x="3387600" y="1961640"/>
              <a:ext cx="528840" cy="147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9" name=""/>
            <p:cNvCxnSpPr>
              <a:stCxn id="122" idx="5"/>
              <a:endCxn id="125" idx="1"/>
            </p:cNvCxnSpPr>
            <p:nvPr/>
          </p:nvCxnSpPr>
          <p:spPr>
            <a:xfrm>
              <a:off x="4425480" y="1961640"/>
              <a:ext cx="289440" cy="4741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0" name=""/>
            <p:cNvCxnSpPr>
              <a:stCxn id="124" idx="4"/>
              <a:endCxn id="127" idx="0"/>
            </p:cNvCxnSpPr>
            <p:nvPr/>
          </p:nvCxnSpPr>
          <p:spPr>
            <a:xfrm flipH="1">
              <a:off x="3053880" y="2635200"/>
              <a:ext cx="80280" cy="498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1" name=""/>
            <p:cNvCxnSpPr>
              <a:stCxn id="125" idx="3"/>
              <a:endCxn id="127" idx="7"/>
            </p:cNvCxnSpPr>
            <p:nvPr/>
          </p:nvCxnSpPr>
          <p:spPr>
            <a:xfrm flipH="1">
              <a:off x="3308760" y="2876760"/>
              <a:ext cx="1405800" cy="343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2" name=""/>
            <p:cNvCxnSpPr>
              <a:stCxn id="123" idx="3"/>
              <a:endCxn id="125" idx="7"/>
            </p:cNvCxnSpPr>
            <p:nvPr/>
          </p:nvCxnSpPr>
          <p:spPr>
            <a:xfrm flipH="1">
              <a:off x="5222520" y="2027160"/>
              <a:ext cx="927720" cy="408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3" name=""/>
            <p:cNvCxnSpPr>
              <a:stCxn id="123" idx="4"/>
              <a:endCxn id="126" idx="0"/>
            </p:cNvCxnSpPr>
            <p:nvPr/>
          </p:nvCxnSpPr>
          <p:spPr>
            <a:xfrm flipH="1">
              <a:off x="6165000" y="2113200"/>
              <a:ext cx="239760" cy="1020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4" name=""/>
            <p:cNvCxnSpPr>
              <a:stCxn id="125" idx="5"/>
              <a:endCxn id="126" idx="1"/>
            </p:cNvCxnSpPr>
            <p:nvPr/>
          </p:nvCxnSpPr>
          <p:spPr>
            <a:xfrm>
              <a:off x="5223240" y="2876760"/>
              <a:ext cx="687960" cy="343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5" name=""/>
            <p:cNvCxnSpPr>
              <a:stCxn id="123" idx="5"/>
            </p:cNvCxnSpPr>
            <p:nvPr/>
          </p:nvCxnSpPr>
          <p:spPr>
            <a:xfrm>
              <a:off x="6659280" y="2027160"/>
              <a:ext cx="504000" cy="59616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36" name=""/>
            <p:cNvCxnSpPr>
              <a:stCxn id="124" idx="3"/>
            </p:cNvCxnSpPr>
            <p:nvPr/>
          </p:nvCxnSpPr>
          <p:spPr>
            <a:xfrm flipH="1">
              <a:off x="2056680" y="2549880"/>
              <a:ext cx="823320" cy="46584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37" name=""/>
            <p:cNvCxnSpPr>
              <a:stCxn id="125" idx="4"/>
            </p:cNvCxnSpPr>
            <p:nvPr/>
          </p:nvCxnSpPr>
          <p:spPr>
            <a:xfrm flipH="1">
              <a:off x="4768920" y="2961720"/>
              <a:ext cx="199800" cy="77220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</p:grpSp>
      <p:sp>
        <p:nvSpPr>
          <p:cNvPr id="138" name=""/>
          <p:cNvSpPr/>
          <p:nvPr/>
        </p:nvSpPr>
        <p:spPr>
          <a:xfrm>
            <a:off x="990720" y="4724280"/>
            <a:ext cx="784836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ed b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 structure (must be a DA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ability distribution for each variable (bit) given each possible combination of its parents’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ization with Bayesian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operations we need to perform during optimiz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network, generate bitstrings from the probability distribution represented by that net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ivial with Bayesian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set of “good” bitstrings, find the network most likely to have generated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iven a fixed network structure, trivial to fill in the probability tables optimal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ut what structure should we use?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arning Network Structures from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statement: given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a set of allowable Bayesian networks, find the network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the maximum posterior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1295280" y="3505320"/>
                <a:ext cx="6448680" cy="76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2057400" y="4343400"/>
                <a:ext cx="5224320" cy="77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5T00:35:01Z</dcterms:created>
  <dc:creator>Scott Davies</dc:creator>
  <dc:description/>
  <dc:language>en-US</dc:language>
  <cp:lastModifiedBy>Scott Davies</cp:lastModifiedBy>
  <cp:lastPrinted>1997-11-19T08:05:56Z</cp:lastPrinted>
  <dcterms:modified xsi:type="dcterms:W3CDTF">1998-07-20T05:32:28Z</dcterms:modified>
  <cp:revision>114</cp:revision>
  <dc:subject/>
  <dc:title>No Slide Title</dc:title>
</cp:coreProperties>
</file>