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962160" y="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76480" y="694800"/>
            <a:ext cx="46418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881712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962160" y="881712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7F706CA-D992-4624-BE95-C433EAAA10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at we’ve figured out how to evaluate how good a specified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 is, let’s consider learning simple network structures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.  In particular, let’s consider networks where each bit is conditioned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ctly one other bit, except one bit that serves as the root of the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se I start off with no arcs.  Now, suppose we were to consider ad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c from, say, x17 to x22.  How much would the total network score go u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before the arc is added, x22’s contribution to the score is minu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nditional entropy of x22.  After the arc is added, then its con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conditional entropy of X22 given X17.  So the increase in the score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inus this, which is the MUTUAL INFORMATION of x17 and x2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 it’s not obvious from these equation here, the mutual informa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metr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unwittingly reinvented by Baluja and Davies thirty years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ou can either have a real honest-to-goodness noisy dataset to start with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tart off with a uniform prior; it doesn’t usually make too much difference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il we run out of time or the algorithm is generating the same solution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over agai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… using the maximum spanning tree algorithm we just descri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uts exponentially decreasing weight on datapoints that were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a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K.  So, now we know how to use the maximum spanning tree algorithm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best Bayesian network in which each node has at most one parent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use such models for optimization.  How about more complic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?  For example, how about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fortunately, though K=1 is relatively easy, as we just saw, when you b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up to 2 the problem suddenly becomes NP-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as is often the case with NP-complete problems, you can use 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uristics to come with what are hopefully reasonably good soluti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people have tried using hillclimbing and simulated anne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earch for good network structures.   Obvious question now is, what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do you use during this search over network structur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now, just to be wild and crazy, let’s consider using hillclimbing over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 in order to find more complex probabilistic models of the goo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s generated so far during combinatorial optimization r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before, we start with a dataset taken from uniform distribution, but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lso start with an empty Bayesian network (containing no arcs) from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begin our first hillclimbing run over Bayesian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again, we loop until we get bored or the algorithm conve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each iteration, first we start a search for a network that is a lo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mal model of our current dataset.  We use steepest-descent hillclimb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every single step is an edge addition, removal, or reversal.  After 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locally optimal network, we do the same thing we did with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: generate a bunch of bitstrings, evaluate them, and stick them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ataset after decaying the weight of the old data by a b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a bit better on some problems, about the same as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 on others (and the tree-based algorithm seems to wor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tty well).  However, it is much more of a CPU and memory ho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it’s not clear it’s worth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our results only a little bet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that more complex networks start putting too much emphasis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itation rather than exploration.  Or, maybe we’re just not finding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so far we’ve shown the tree algorithm works well on problems up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256 bits.  Why haven’t we talked about any real problems ye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possible approach: instead of  generating candidate solutions exclusiv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probabilistic models used here, like the tree-shaped models, we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models to select good starting points for f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here’s an algorithm that does just that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we tried this algorithm out on some larger optimization probl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used a stochastic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mpared COMIT against hillclimbers using completely random rest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gainst hillclimbers that choose the best string of many randomly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ings and then start hillclimbing on th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pproaches we’ll be looking at all have the following in comm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 an explicit blah blah blah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explore three or four different classes of probability distributions in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date rule: similar to update rule used in unsupervised competitive lea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 thing is very similar to a team of cooperative learning automata in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isions are made independently but the reinforcement depends on all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mata’s chosen actions.  Update rule is just reward-inaction up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Bayes’ rule and ignoring the P(D) on the bottom because it’s a consta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for the moment let’s assume we have uniform priors over the allow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s, and concentrate on this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ACF1-1C6A-4FFA-A399-66055970E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C9DB-38FF-426B-A058-EFFA3BB80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57EC-A333-4DC3-A55D-B1F787E59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E106-32E1-4F79-9736-EF0244819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BDF87-6054-44A8-8E93-C8411F328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9C3B2-3176-4C62-8D21-4506299FF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5585A-F669-4715-B9A3-0FBAE8C27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1B834-7359-418D-973D-4BC54FB3C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F1A72-699A-4D0E-90B1-B5DA86C28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32465-65D1-4F30-B49F-21539CBE5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206D9-7928-4906-87AD-FE61049CA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5037-E069-4B7D-AB8E-EE8769938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A9769-8AAE-443B-9F41-86A6C7A59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83462-0293-4B34-962C-D8E65567C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AE260-C85E-41D6-8D0D-88C0E355D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DD97C-B171-4CA3-A7F6-E9CB48E91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3F559-68AE-4558-AD68-C21BC70D9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D103-CFE5-42E9-AEA5-F7BB54FB7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3BF2-9A40-43B9-B3CE-0E53DC1DE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4812-5B7F-408B-B9A5-2EFE6D799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5094-5268-4F32-93E7-E11E4CEEA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6771-D17B-45A9-BE64-3B8AF7FD4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FBCC-D806-485B-8836-8720AEBDD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789D-2921-4BD0-9925-3C95CBC94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C70D3-FCAE-4E31-A511-095AB415C9A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946B7-9AC3-4A01-8E0A-280A342352D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st 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8580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nd Justsystem Pittsburgh Research Cen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88480" y="186696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ing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duces to maximi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set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…) is the average entropy of an empirical distribution exhibited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352680" y="2590920"/>
                <a:ext cx="210996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151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8" name=""/>
            <p:cNvCxnSpPr>
              <a:stCxn id="151" idx="4"/>
              <a:endCxn id="152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9" name=""/>
            <p:cNvCxnSpPr>
              <a:stCxn id="151" idx="3"/>
              <a:endCxn id="153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0" name=""/>
            <p:cNvCxnSpPr>
              <a:stCxn id="151" idx="5"/>
              <a:endCxn id="154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>
              <a:stCxn id="153" idx="3"/>
              <a:endCxn id="157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2" name=""/>
            <p:cNvCxnSpPr>
              <a:stCxn id="153" idx="5"/>
              <a:endCxn id="156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3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5" name=""/>
            <p:cNvCxnSpPr>
              <a:stCxn id="154" idx="4"/>
              <a:endCxn id="163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6" name=""/>
            <p:cNvCxnSpPr>
              <a:stCxn id="154" idx="5"/>
              <a:endCxn id="164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" name=""/>
            <p:cNvCxnSpPr>
              <a:stCxn id="157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8" name=""/>
            <p:cNvCxnSpPr>
              <a:stCxn id="155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" name=""/>
            <p:cNvCxnSpPr>
              <a:stCxn id="163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" name=""/>
            <p:cNvCxnSpPr>
              <a:stCxn id="164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1" name=""/>
            <p:cNvCxnSpPr>
              <a:stCxn id="155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2" name=""/>
            <p:cNvCxnSpPr>
              <a:stCxn id="164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" name=""/>
            <p:cNvCxnSpPr>
              <a:stCxn id="156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4" name=""/>
            <p:cNvCxnSpPr>
              <a:stCxn id="156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5" name=""/>
            <p:cNvCxnSpPr>
              <a:stCxn id="152" idx="4"/>
              <a:endCxn id="155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76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255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*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523880" y="2743200"/>
            <a:ext cx="6553440" cy="3886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isy Graph-Coloring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edge connected to vertices of different colors, add +1 to evaluation function with probability 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ogp" descr=""/>
          <p:cNvPicPr/>
          <p:nvPr/>
        </p:nvPicPr>
        <p:blipFill>
          <a:blip r:embed="rId1"/>
          <a:stretch/>
        </p:blipFill>
        <p:spPr>
          <a:xfrm>
            <a:off x="1600200" y="2819520"/>
            <a:ext cx="640080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Dependency Tree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ed following optimization algoirthms on variety of small problems, up to 256 bits lo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optimal dependency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chain-shaped networks (ala MIM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tren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&amp; GAs did relatively poor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ong probabilistic methods, PBIL &lt; Chains &lt; Trees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accurate models are be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than Tree-based algorithm, however, despite efficiency h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resul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, particularly when starting from old networ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it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algorithm based on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 or PB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162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…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66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and Davies, 199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Execute a fast-search procedure, initialized with the best solutions generated from </a:t>
            </a:r>
            <a:r>
              <a:rPr b="0" i="1" lang="en-US" sz="2000" spc="-1" strike="noStrike">
                <a:solidFill>
                  <a:srgbClr val="ff66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worst bitstring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the best bitstrings found during the fast-search run just execu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Hill-clim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single best bitstring generated by tree as starting point of a stochastic hillclimbing algorithm that allows at most PATIENCE moves to points of equal value before giving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t to 1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533520" y="1981080"/>
            <a:ext cx="8076960" cy="434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SP domain: 100 cities, 700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HCperf.lite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6643440" cy="1676160"/>
          </a:xfrm>
          <a:prstGeom prst="rect">
            <a:avLst/>
          </a:prstGeom>
          <a:ln w="0">
            <a:noFill/>
          </a:ln>
        </p:spPr>
      </p:pic>
      <p:pic>
        <p:nvPicPr>
          <p:cNvPr id="204" name="Tperf.lite" descr=""/>
          <p:cNvPicPr/>
          <p:nvPr/>
        </p:nvPicPr>
        <p:blipFill>
          <a:blip r:embed="rId2"/>
          <a:stretch/>
        </p:blipFill>
        <p:spPr>
          <a:xfrm>
            <a:off x="1676520" y="3962520"/>
            <a:ext cx="6656400" cy="16761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503880" y="5790240"/>
            <a:ext cx="27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ion Number *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15840" y="2594880"/>
            <a:ext cx="546120" cy="23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ur Length *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76920" y="2285280"/>
            <a:ext cx="12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llcli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89760" y="41904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10490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25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2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each non-COMIT hillclimber with confidence &gt; 95%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HCxxx: pick best of xxx randomly generated starting points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ITxxx: pick best of xxx starting points generated by tree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80880" y="3124080"/>
          <a:ext cx="8382240" cy="348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124080"/>
                    <a:ext cx="8382240" cy="34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PB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amples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e PBIL’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ctor according to the unconditional distributions contained in the be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% of these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run terminated after 5000 evaluations without impro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t to 100 (as bef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parameters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.15; updat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single best example out of 50 each iteration; some “mutation”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as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PBIL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295280" y="3124080"/>
          <a:ext cx="68281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124080"/>
                    <a:ext cx="68281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7010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50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6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opposing algorithm(s) with confidence &gt; 9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BIL+R: PBIL with restart after 5000 evaluations without improvement (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reinitialized to 0.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clusions &amp; 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probabilistic modeling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led to significant improvements over baseline search algorithm in most problems t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orporating domain knowl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ing COMIT to more interesting problems and other baselin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more sophisticated probabilistic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depen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(Each initialized to 0.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ach of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dju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make that bitstring more like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28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 sometimes uses “mutation” and/or pushes P away from bad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works very well (compared to hillclimbing and GAs) despite its independence assu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981080" y="45720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5791320" y="44740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048120" y="4910040"/>
                <a:ext cx="213336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5791320" y="48391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4960" y="487584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MIC [De Bonet, et al., 1997]: sort bits into Markov Chain in which each bit’s distribution is conditionalized on value of previous bit in ch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: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hain from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 of bitstrings evaluated so far; generate new bitstrings from chain; rep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general framework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396216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056680" y="1447920"/>
            <a:ext cx="5106240" cy="2285640"/>
            <a:chOff x="2056680" y="1447920"/>
            <a:chExt cx="5106240" cy="2285640"/>
          </a:xfrm>
        </p:grpSpPr>
        <p:sp>
          <p:nvSpPr>
            <p:cNvPr id="122" name=""/>
            <p:cNvSpPr/>
            <p:nvPr/>
          </p:nvSpPr>
          <p:spPr>
            <a:xfrm>
              <a:off x="3812400" y="14479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45840" y="151308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775240" y="20354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09800" y="23623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80644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9532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8" name=""/>
            <p:cNvCxnSpPr>
              <a:stCxn id="122" idx="3"/>
              <a:endCxn id="124" idx="7"/>
            </p:cNvCxnSpPr>
            <p:nvPr/>
          </p:nvCxnSpPr>
          <p:spPr>
            <a:xfrm flipH="1">
              <a:off x="3387600" y="1961640"/>
              <a:ext cx="528840" cy="147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9" name=""/>
            <p:cNvCxnSpPr>
              <a:stCxn id="122" idx="5"/>
              <a:endCxn id="125" idx="1"/>
            </p:cNvCxnSpPr>
            <p:nvPr/>
          </p:nvCxnSpPr>
          <p:spPr>
            <a:xfrm>
              <a:off x="4425480" y="1961640"/>
              <a:ext cx="289440" cy="474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0" name=""/>
            <p:cNvCxnSpPr>
              <a:stCxn id="124" idx="4"/>
              <a:endCxn id="127" idx="0"/>
            </p:cNvCxnSpPr>
            <p:nvPr/>
          </p:nvCxnSpPr>
          <p:spPr>
            <a:xfrm flipH="1">
              <a:off x="3053880" y="2635200"/>
              <a:ext cx="80280" cy="49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1" name=""/>
            <p:cNvCxnSpPr>
              <a:stCxn id="125" idx="3"/>
              <a:endCxn id="127" idx="7"/>
            </p:cNvCxnSpPr>
            <p:nvPr/>
          </p:nvCxnSpPr>
          <p:spPr>
            <a:xfrm flipH="1">
              <a:off x="3308760" y="2876760"/>
              <a:ext cx="140580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2" name=""/>
            <p:cNvCxnSpPr>
              <a:stCxn id="123" idx="3"/>
              <a:endCxn id="125" idx="7"/>
            </p:cNvCxnSpPr>
            <p:nvPr/>
          </p:nvCxnSpPr>
          <p:spPr>
            <a:xfrm flipH="1">
              <a:off x="5222520" y="2027160"/>
              <a:ext cx="927720" cy="40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3" name=""/>
            <p:cNvCxnSpPr>
              <a:stCxn id="123" idx="4"/>
              <a:endCxn id="126" idx="0"/>
            </p:cNvCxnSpPr>
            <p:nvPr/>
          </p:nvCxnSpPr>
          <p:spPr>
            <a:xfrm flipH="1">
              <a:off x="6165000" y="2113200"/>
              <a:ext cx="239760" cy="1020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4" name=""/>
            <p:cNvCxnSpPr>
              <a:stCxn id="125" idx="5"/>
              <a:endCxn id="126" idx="1"/>
            </p:cNvCxnSpPr>
            <p:nvPr/>
          </p:nvCxnSpPr>
          <p:spPr>
            <a:xfrm>
              <a:off x="5223240" y="2876760"/>
              <a:ext cx="68796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5" name=""/>
            <p:cNvCxnSpPr>
              <a:stCxn id="123" idx="5"/>
            </p:cNvCxnSpPr>
            <p:nvPr/>
          </p:nvCxnSpPr>
          <p:spPr>
            <a:xfrm>
              <a:off x="6659280" y="2027160"/>
              <a:ext cx="504000" cy="59616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6" name=""/>
            <p:cNvCxnSpPr>
              <a:stCxn id="124" idx="3"/>
            </p:cNvCxnSpPr>
            <p:nvPr/>
          </p:nvCxnSpPr>
          <p:spPr>
            <a:xfrm flipH="1">
              <a:off x="2056680" y="2549880"/>
              <a:ext cx="823320" cy="46584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25" idx="4"/>
            </p:cNvCxnSpPr>
            <p:nvPr/>
          </p:nvCxnSpPr>
          <p:spPr>
            <a:xfrm flipH="1">
              <a:off x="4768920" y="2961720"/>
              <a:ext cx="199800" cy="77220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sp>
        <p:nvSpPr>
          <p:cNvPr id="138" name=""/>
          <p:cNvSpPr/>
          <p:nvPr/>
        </p:nvSpPr>
        <p:spPr>
          <a:xfrm>
            <a:off x="990720" y="4724280"/>
            <a:ext cx="78483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ed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structure (must be a DA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ility distribution for each variable (bit) given each possible combination of its parents’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ization with 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operations we need to perform during optimiz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network, generate bitstrings from the probability distribution represented by that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vial with Bayesian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set of “good” bitstrings, find the network most likely to have generated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n a fixed network structure, trivial to fill in the probability tables optim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t what structure should we use?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a set of allowable Bayesian networks, find the network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295280" y="3505320"/>
                <a:ext cx="644868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057400" y="4343400"/>
                <a:ext cx="522432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 Davies</cp:lastModifiedBy>
  <cp:lastPrinted>1997-11-19T08:05:56Z</cp:lastPrinted>
  <dcterms:modified xsi:type="dcterms:W3CDTF">1998-07-20T05:32:28Z</dcterms:modified>
  <cp:revision>114</cp:revision>
  <dc:subject/>
  <dc:title>No Slide Title</dc:title>
</cp:coreProperties>
</file>