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A3754-F34B-4214-849A-EFCE3C237E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is, find the single probability model with the greatest posterior likeli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tically, of course, we might want to average over all ALL of the Pi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ed by their posterior likelihoods, but that’s impossible in practice si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possible models is way, way too bi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tstring long enough that we can’t afford exhaustive sear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(x) referred to as “evaluate function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“Maximize” as much as possible -- typically, find as good a 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possible within a specified number of evaluations of f or CPU tim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generate bitstrings?  Depth-first traversal of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actually have to remember old bitstrings: just keep around O(n^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fficient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Justin’s STAGE stuff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ternative approach we’ll be exploring in this t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ces between algorithms in this class lie largely i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What sorts of models they 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How P is updated after solutions are evalu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: how do we represent probability distributions over bitstring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ly, you can write an alternative factorization for any other ordering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ariab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^n-1, actually, since the probabilities have to sum to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E35F2-6417-445A-B73E-EA1E3299C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4F4AB-2490-4844-90CC-A2959EAC5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0D4C1-D1E3-4CEE-A9CF-CD4365981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426F3-C9D4-4442-84D5-C662324A9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715D4-BE4E-4865-8F32-3EB8A700B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BCDB5-730C-4A7C-992C-472CFB026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9E3D2-B11A-4FD7-8C10-54DFAD629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3CDF3-2EE9-4564-BF04-B13F2E9BD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7C3F7-95A9-4CE8-B222-DD196ACDC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D8BF9-4B2C-4EEF-92ED-6FB20A3C0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996A0-9919-4AC3-9CC4-651894613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2CD1B-F625-44AF-B124-97AB7866D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1C2DD-7CF7-4EF6-A15B-2C3BB96CC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67FD0-48BE-42A8-8173-A31195691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6C9AA-BDE0-45EC-9D1E-DB72AA967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559D1-4E3B-4E6E-98AF-F5888C0D3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7E4FA-28A2-41D2-BD43-88DFFE79A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EA0DC-80F8-4DC2-B129-93AA07CC1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6D22E-8933-4812-8D5A-2B639B116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0C173-E20C-4EC6-851C-AA9A70D48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A7095-3333-45A2-90A9-E058EF080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CE55E-9F83-4C08-A0E5-761EF032E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0F53A-EBEF-4819-8090-E01DD63B4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4B726-BD5D-4280-8EFF-94F41D16E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EFCB9-FE61-404A-85D3-A53A1E4143E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1066680"/>
            <a:ext cx="8458200" cy="22860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b4e1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2B714-3036-43D7-AD7C-A81F5D4BA45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981080"/>
            <a:ext cx="8458200" cy="304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b4e1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babilistic Modeling for 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33720" y="3048120"/>
            <a:ext cx="64008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tt Dav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ool of Computer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t work with 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BIL vs. Genetic Algorith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originated as tool for understanding GA behavi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ilar to Bit-Based Simulated Crossover (BSC) [Syswerda, 1993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enera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scratch after every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K used to update P, weighted according to probabilities that a GA would have selected them for rep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might normal GAs be bette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icitly capture inter-bit dependencies with pop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because model is only implicit, crossover must be randomized.  Also, limited population size often leads to premature convergence based on noise in samp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 Peaks Probl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used in [Baluja &amp; Caruana, 1995] to test how well GAs maintain multiple solutions before converg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input vect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its, and difficulty paramet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Peaks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=MAX(head(1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tail(0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)+Bonus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d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# of contiguous leading bit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il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# of contiguous trailing bit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nus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100 if (head(1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&gt;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AND (tail(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&gt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, or             0 otherw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ould theoretically be easy for GA to handle with single-point crosso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 Peaks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nasty photocopy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arge-Scale PBIL Empirical Comparis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e bug-ugly photocopied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Inter-Bit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1532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about automatically learning probability distributions in which at least some dependencies between variables are model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statement: given a dataset D and a set of allowable Bayesian networks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find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the maximum posterior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447920" y="5105520"/>
                <a:ext cx="670536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5" name=""/>
          <p:cNvSpPr/>
          <p:nvPr/>
        </p:nvSpPr>
        <p:spPr>
          <a:xfrm>
            <a:off x="457200" y="5257800"/>
            <a:ext cx="8178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quations.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wuh hah hah hah!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52280" y="4571640"/>
            <a:ext cx="51818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th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value assigned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 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e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pare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554040" y="1616040"/>
                <a:ext cx="4149720" cy="76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D</m:t>
                        </m:r>
                      </m:sub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|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2133720" y="2362320"/>
                <a:ext cx="4792680" cy="95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D</m:t>
                        </m:r>
                      </m:sub>
                      <m:sup/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Sup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j</m:t>
                                </m:r>
                              </m:sup>
                            </m:sSubSup>
                          </m:e>
                        </m:nary>
                      </m:e>
                    </m:nary>
                    <m:r>
                      <m:t xml:space="preserve">|</m:t>
                    </m:r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d</m:t>
                        </m:r>
                      </m:e>
                      <m:sub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j</m:t>
                        </m:r>
                      </m:sup>
                    </m:sSubSup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1112760" y="3521160"/>
                <a:ext cx="6919920" cy="112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D</m:t>
                        </m:r>
                      </m:e>
                    </m:d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1" name=""/>
          <p:cNvSpPr/>
          <p:nvPr/>
        </p:nvSpPr>
        <p:spPr>
          <a:xfrm>
            <a:off x="6080040" y="4800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876920" y="4648320"/>
            <a:ext cx="426708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lvl="1" marL="683280" indent="-262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set of values assigned to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empirical probability distribution exhibi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715000" y="4648320"/>
                <a:ext cx="4348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d</m:t>
                        </m:r>
                      </m:e>
                      <m:sub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j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mmm...Entrop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3124080"/>
            <a:ext cx="81788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ct: given th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a network structu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 optimal probabilities to use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just the probabilitie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i.e.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S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312920" y="1828800"/>
                <a:ext cx="631656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3061080" y="1446840"/>
            <a:ext cx="27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Maxim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1271520" y="5029200"/>
                <a:ext cx="636912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9" name=""/>
          <p:cNvSpPr/>
          <p:nvPr/>
        </p:nvSpPr>
        <p:spPr>
          <a:xfrm>
            <a:off x="3061080" y="4647240"/>
            <a:ext cx="26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Maxim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3057480" y="5791320"/>
                <a:ext cx="265284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ntropy Calculation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1066320" y="1371240"/>
            <a:ext cx="1676880" cy="1752840"/>
            <a:chOff x="1066320" y="1371240"/>
            <a:chExt cx="1676880" cy="1752840"/>
          </a:xfrm>
        </p:grpSpPr>
        <p:sp>
          <p:nvSpPr>
            <p:cNvPr id="203" name=""/>
            <p:cNvSpPr/>
            <p:nvPr/>
          </p:nvSpPr>
          <p:spPr>
            <a:xfrm>
              <a:off x="1219320" y="17524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752480" y="26668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286000" y="17524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06" name=""/>
            <p:cNvCxnSpPr>
              <a:stCxn id="203" idx="5"/>
              <a:endCxn id="204" idx="1"/>
            </p:cNvCxnSpPr>
            <p:nvPr/>
          </p:nvCxnSpPr>
          <p:spPr>
            <a:xfrm>
              <a:off x="1609200" y="2157120"/>
              <a:ext cx="210600" cy="56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7" name=""/>
            <p:cNvCxnSpPr>
              <a:stCxn id="205" idx="3"/>
              <a:endCxn id="204" idx="7"/>
            </p:cNvCxnSpPr>
            <p:nvPr/>
          </p:nvCxnSpPr>
          <p:spPr>
            <a:xfrm flipH="1">
              <a:off x="2142720" y="2157120"/>
              <a:ext cx="210240" cy="56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8" name=""/>
            <p:cNvCxnSpPr>
              <a:endCxn id="203" idx="1"/>
            </p:cNvCxnSpPr>
            <p:nvPr/>
          </p:nvCxnSpPr>
          <p:spPr>
            <a:xfrm>
              <a:off x="1066320" y="1371600"/>
              <a:ext cx="219960" cy="434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9" name=""/>
            <p:cNvCxnSpPr>
              <a:endCxn id="203" idx="7"/>
            </p:cNvCxnSpPr>
            <p:nvPr/>
          </p:nvCxnSpPr>
          <p:spPr>
            <a:xfrm flipH="1">
              <a:off x="1608840" y="1447920"/>
              <a:ext cx="219960" cy="357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0" name=""/>
            <p:cNvCxnSpPr/>
            <p:nvPr/>
          </p:nvCxnSpPr>
          <p:spPr>
            <a:xfrm flipH="1">
              <a:off x="2513880" y="1371240"/>
              <a:ext cx="153000" cy="3675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11" name=""/>
          <p:cNvSpPr/>
          <p:nvPr/>
        </p:nvSpPr>
        <p:spPr>
          <a:xfrm>
            <a:off x="390240" y="3097800"/>
            <a:ext cx="3404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contribution to sco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355760" y="6095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3733920" y="1600200"/>
            <a:ext cx="4572000" cy="3886200"/>
            <a:chOff x="3733920" y="1600200"/>
            <a:chExt cx="4572000" cy="3886200"/>
          </a:xfrm>
        </p:grpSpPr>
        <p:graphicFrame>
          <p:nvGraphicFramePr>
            <p:cNvPr id="214" name=""/>
            <p:cNvGraphicFramePr/>
            <p:nvPr/>
          </p:nvGraphicFramePr>
          <p:xfrm>
            <a:off x="3733920" y="1600200"/>
            <a:ext cx="4572000" cy="388620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21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733920" y="1600200"/>
                      <a:ext cx="4572000" cy="3886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216" name=""/>
            <p:cNvGrpSpPr/>
            <p:nvPr/>
          </p:nvGrpSpPr>
          <p:grpSpPr>
            <a:xfrm>
              <a:off x="4689000" y="2261520"/>
              <a:ext cx="3412080" cy="3086640"/>
              <a:chOff x="4689000" y="2261520"/>
              <a:chExt cx="3412080" cy="3086640"/>
            </a:xfrm>
          </p:grpSpPr>
          <p:sp>
            <p:nvSpPr>
              <p:cNvPr id="217" name=""/>
              <p:cNvSpPr/>
              <p:nvPr/>
            </p:nvSpPr>
            <p:spPr>
              <a:xfrm flipV="1">
                <a:off x="558396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5583960" y="2261520"/>
                <a:ext cx="2516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715032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H="1">
                <a:off x="4689000" y="2261520"/>
                <a:ext cx="894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68900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4689000" y="5348160"/>
                <a:ext cx="3412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810108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4" name=""/>
            <p:cNvSpPr/>
            <p:nvPr/>
          </p:nvSpPr>
          <p:spPr>
            <a:xfrm>
              <a:off x="4689000" y="306972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689000" y="380484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689000" y="461340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326640" y="2261520"/>
              <a:ext cx="0" cy="3086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6857280" y="5408280"/>
            <a:ext cx="143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127160" y="4495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914400" y="4114800"/>
                <a:ext cx="317808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914400" y="4952880"/>
                <a:ext cx="315108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232" name=""/>
          <p:cNvSpPr/>
          <p:nvPr/>
        </p:nvSpPr>
        <p:spPr>
          <a:xfrm>
            <a:off x="380520" y="5942520"/>
            <a:ext cx="422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974880" y="3505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85800" y="3581280"/>
                <a:ext cx="257796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H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let’s allow each bit to be conditioned on at most one other b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2208960" y="2057400"/>
            <a:ext cx="4801680" cy="2362320"/>
            <a:chOff x="2208960" y="2057400"/>
            <a:chExt cx="4801680" cy="2362320"/>
          </a:xfrm>
        </p:grpSpPr>
        <p:sp>
          <p:nvSpPr>
            <p:cNvPr id="238" name=""/>
            <p:cNvSpPr/>
            <p:nvPr/>
          </p:nvSpPr>
          <p:spPr>
            <a:xfrm>
              <a:off x="4191120" y="20574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4197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048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334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495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352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3623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45" name=""/>
            <p:cNvCxnSpPr>
              <a:stCxn id="238" idx="4"/>
              <a:endCxn id="239" idx="0"/>
            </p:cNvCxnSpPr>
            <p:nvPr/>
          </p:nvCxnSpPr>
          <p:spPr>
            <a:xfrm>
              <a:off x="4419360" y="2528640"/>
              <a:ext cx="229320" cy="276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6" name=""/>
            <p:cNvCxnSpPr>
              <a:stCxn id="238" idx="3"/>
              <a:endCxn id="240" idx="7"/>
            </p:cNvCxnSpPr>
            <p:nvPr/>
          </p:nvCxnSpPr>
          <p:spPr>
            <a:xfrm flipH="1">
              <a:off x="343800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7" name=""/>
            <p:cNvCxnSpPr>
              <a:stCxn id="238" idx="5"/>
              <a:endCxn id="241" idx="1"/>
            </p:cNvCxnSpPr>
            <p:nvPr/>
          </p:nvCxnSpPr>
          <p:spPr>
            <a:xfrm>
              <a:off x="458136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8" name=""/>
            <p:cNvCxnSpPr>
              <a:stCxn id="240" idx="3"/>
              <a:endCxn id="244" idx="0"/>
            </p:cNvCxnSpPr>
            <p:nvPr/>
          </p:nvCxnSpPr>
          <p:spPr>
            <a:xfrm flipH="1">
              <a:off x="2590560" y="3224160"/>
              <a:ext cx="52416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9" name=""/>
            <p:cNvCxnSpPr>
              <a:stCxn id="240" idx="5"/>
              <a:endCxn id="243" idx="0"/>
            </p:cNvCxnSpPr>
            <p:nvPr/>
          </p:nvCxnSpPr>
          <p:spPr>
            <a:xfrm>
              <a:off x="3438000" y="3224160"/>
              <a:ext cx="14364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55627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40080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52" name=""/>
            <p:cNvCxnSpPr>
              <a:stCxn id="241" idx="4"/>
              <a:endCxn id="250" idx="0"/>
            </p:cNvCxnSpPr>
            <p:nvPr/>
          </p:nvCxnSpPr>
          <p:spPr>
            <a:xfrm>
              <a:off x="5562360" y="3290400"/>
              <a:ext cx="22932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41" idx="5"/>
              <a:endCxn id="251" idx="1"/>
            </p:cNvCxnSpPr>
            <p:nvPr/>
          </p:nvCxnSpPr>
          <p:spPr>
            <a:xfrm>
              <a:off x="5724360" y="3224160"/>
              <a:ext cx="743760" cy="486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4" name=""/>
            <p:cNvCxnSpPr>
              <a:stCxn id="244" idx="3"/>
            </p:cNvCxnSpPr>
            <p:nvPr/>
          </p:nvCxnSpPr>
          <p:spPr>
            <a:xfrm flipH="1">
              <a:off x="2208960" y="4061880"/>
              <a:ext cx="2199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5" name=""/>
            <p:cNvCxnSpPr>
              <a:stCxn id="242" idx="5"/>
            </p:cNvCxnSpPr>
            <p:nvPr/>
          </p:nvCxnSpPr>
          <p:spPr>
            <a:xfrm>
              <a:off x="488592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0" idx="4"/>
            </p:cNvCxnSpPr>
            <p:nvPr/>
          </p:nvCxnSpPr>
          <p:spPr>
            <a:xfrm>
              <a:off x="5790960" y="4128840"/>
              <a:ext cx="1080" cy="291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1" idx="3"/>
            </p:cNvCxnSpPr>
            <p:nvPr/>
          </p:nvCxnSpPr>
          <p:spPr>
            <a:xfrm flipH="1">
              <a:off x="617220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8" name=""/>
            <p:cNvCxnSpPr>
              <a:stCxn id="242" idx="3"/>
            </p:cNvCxnSpPr>
            <p:nvPr/>
          </p:nvCxnSpPr>
          <p:spPr>
            <a:xfrm flipH="1">
              <a:off x="441900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9" name=""/>
            <p:cNvCxnSpPr>
              <a:stCxn id="251" idx="5"/>
            </p:cNvCxnSpPr>
            <p:nvPr/>
          </p:nvCxnSpPr>
          <p:spPr>
            <a:xfrm>
              <a:off x="6791400" y="4061880"/>
              <a:ext cx="21960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43" idx="3"/>
            </p:cNvCxnSpPr>
            <p:nvPr/>
          </p:nvCxnSpPr>
          <p:spPr>
            <a:xfrm flipH="1">
              <a:off x="3123360" y="4061880"/>
              <a:ext cx="29628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43" idx="5"/>
            </p:cNvCxnSpPr>
            <p:nvPr/>
          </p:nvCxnSpPr>
          <p:spPr>
            <a:xfrm>
              <a:off x="374328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2" name=""/>
            <p:cNvCxnSpPr>
              <a:stCxn id="239" idx="4"/>
              <a:endCxn id="242" idx="0"/>
            </p:cNvCxnSpPr>
            <p:nvPr/>
          </p:nvCxnSpPr>
          <p:spPr>
            <a:xfrm>
              <a:off x="4647960" y="3290400"/>
              <a:ext cx="7668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63" name=""/>
          <p:cNvSpPr/>
          <p:nvPr/>
        </p:nvSpPr>
        <p:spPr>
          <a:xfrm>
            <a:off x="822240" y="457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57200" y="4724280"/>
            <a:ext cx="85345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an arc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reases network score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information gain”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not necessarily obvious, but tr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tual 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25516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optimal single-parent tree-shaped network, just find maximum spanning tree us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s the weight for the edge betwe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                [Chow and Liu, 1968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with an arbitrary root nod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al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odes have been added to the tre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 all pairs of nod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already been added to the tree bu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not, find the pair with the larg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the tree with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its par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done in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ime (assuming D has already been reduced to sufficient statis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6324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“evaluation function”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: fixed-length bitstr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: real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ght repres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b shop sche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P t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ized numeric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focus: “Black Box”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omain-dependent heu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48520" y="3586320"/>
            <a:ext cx="1544400" cy="888840"/>
          </a:xfrm>
          <a:prstGeom prst="rect">
            <a:avLst/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48520" y="3324240"/>
            <a:ext cx="2006640" cy="262080"/>
          </a:xfrm>
          <a:prstGeom prst="parallelogram">
            <a:avLst>
              <a:gd name="adj" fmla="val 191415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rot="5392800">
            <a:off x="7471080" y="3637080"/>
            <a:ext cx="1150920" cy="517680"/>
          </a:xfrm>
          <a:prstGeom prst="parallelogram">
            <a:avLst>
              <a:gd name="adj" fmla="val 48592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711840" y="3794040"/>
            <a:ext cx="571680" cy="444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(x)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6711840" y="3375000"/>
            <a:ext cx="1131840" cy="157320"/>
          </a:xfrm>
          <a:prstGeom prst="parallelogram">
            <a:avLst>
              <a:gd name="adj" fmla="val 179863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20000" y="3375000"/>
            <a:ext cx="0" cy="157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762600" y="2590920"/>
            <a:ext cx="1081080" cy="26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=1001001...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7277040" y="2957400"/>
            <a:ext cx="0" cy="3128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277040" y="4578480"/>
            <a:ext cx="0" cy="260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072200" y="4943520"/>
            <a:ext cx="411120" cy="314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37.4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al Dependency Trees for Combinatorial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Baluja &amp; Davies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with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itialized from the uniform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probability distribution represen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string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fter decaying the weight of all datapoints already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a facto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0 and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time: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per it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-based Optimization vs. MIMI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optimization algorithm inspired by Mutual Information Maximization for Input Clustering (MIMIC) [De Bonet, et al.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ed chain-shaped networks rather than tree-shaped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set: best N% of all bitstrings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: dataset has simple, well-defined interpre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: have to remember bitst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: seems to converge too quickly on some larger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2860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3434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35268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4864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5" name=""/>
          <p:cNvCxnSpPr>
            <a:stCxn id="271" idx="6"/>
            <a:endCxn id="273" idx="2"/>
          </p:cNvCxnSpPr>
          <p:nvPr/>
        </p:nvCxnSpPr>
        <p:spPr>
          <a:xfrm>
            <a:off x="2833200" y="4000320"/>
            <a:ext cx="5058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6" name=""/>
          <p:cNvCxnSpPr>
            <a:stCxn id="273" idx="6"/>
            <a:endCxn id="272" idx="2"/>
          </p:cNvCxnSpPr>
          <p:nvPr/>
        </p:nvCxnSpPr>
        <p:spPr>
          <a:xfrm>
            <a:off x="3900600" y="4000320"/>
            <a:ext cx="42912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"/>
          <p:cNvCxnSpPr>
            <a:stCxn id="272" idx="6"/>
            <a:endCxn id="274" idx="2"/>
          </p:cNvCxnSpPr>
          <p:nvPr/>
        </p:nvCxnSpPr>
        <p:spPr>
          <a:xfrm>
            <a:off x="4890960" y="4000320"/>
            <a:ext cx="5814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8" name=""/>
          <p:cNvSpPr/>
          <p:nvPr/>
        </p:nvSpPr>
        <p:spPr>
          <a:xfrm>
            <a:off x="6629400" y="396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467480" y="396252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086600" y="396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1" name=""/>
          <p:cNvCxnSpPr>
            <a:stCxn id="274" idx="6"/>
            <a:endCxn id="278" idx="2"/>
          </p:cNvCxnSpPr>
          <p:nvPr/>
        </p:nvCxnSpPr>
        <p:spPr>
          <a:xfrm>
            <a:off x="6033960" y="4000320"/>
            <a:ext cx="581400" cy="38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IMIC dataset vs. Exp. Decay datas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skanky photocopy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-Coloring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hotocopy or PostScript inclu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eaks problem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tscript/photcop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-Max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et another dummy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eckerboard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mmy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inear Equation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ucky photocopy may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Higher-Order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ximum spanning tree algorithm gives us the optimal Bayesian Network in which each node has at most one pa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bout finding the best network in which each node has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rent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1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P-complete problem! [Chickering, et al., 199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can use search heuristics to look for “good” network structures (e.g., [Heckerman, et al., 1995]), e.g. hillclimb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coring Function for Arbitrary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ther than restrict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irectly, add penalty term to scoring function to limit total network s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priors favoring simpler network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ternatively, lends itself nicely to MDL interpre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ze of penalty controls exploration/exploitation trade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1295280" y="4114800"/>
            <a:ext cx="6307560" cy="917640"/>
            <a:chOff x="1295280" y="4114800"/>
            <a:chExt cx="6307560" cy="917640"/>
          </a:xfrm>
        </p:grpSpPr>
        <mc:AlternateContent>
          <mc:Choice xmlns:a14="http://schemas.microsoft.com/office/drawing/2010/main" Requires="a14">
            <p:sp>
              <p:nvSpPr>
                <p:cNvPr id="299" name=""/>
                <p:cNvSpPr txBox="1"/>
                <p:nvPr/>
              </p:nvSpPr>
              <p:spPr>
                <a:xfrm>
                  <a:off x="1295280" y="4114800"/>
                  <a:ext cx="5029200" cy="91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B</m:t>
                      </m:r>
                      <m:r>
                        <m:t xml:space="preserve">|</m:t>
                      </m:r>
                      <m:r>
                        <m:t xml:space="preserve">D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i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n</m:t>
                          </m:r>
                        </m:sup>
                        <m:e>
                          <m:r>
                            <m:t xml:space="preserve">H</m:t>
                          </m:r>
                          <m:r>
                            <m:t xml:space="preserve">'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Π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  <m:r>
                            <m:t xml:space="preserve">)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300" name=""/>
            <p:cNvSpPr/>
            <p:nvPr/>
          </p:nvSpPr>
          <p:spPr>
            <a:xfrm>
              <a:off x="6483240" y="4266360"/>
              <a:ext cx="1119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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3079800" y="5180760"/>
            <a:ext cx="261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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nalty fa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221560" y="5760360"/>
            <a:ext cx="451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: number of parameter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st Commonly Used Approa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limbing, simulated anne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andidate solutions “neighboring” single current working solution (e.g. differing by one b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make no attempt to model how particular bits affect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mpt to implicitly capture dependency of solution quality on bit values by maintaining a population of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rossover and mutation operators on population members to generate new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ayesian Network-Based Combinatorial Optim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uniform distribution, and Bayesian networ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empty network containing no e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steepest-ascent hillclimbing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find locally optimal network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peat until no changes increase sco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how each possible edge addition, removal or deletion would affect penalized log-likelihood s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change that maximizes increase in sc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and evalu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ay weight of datapoi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cently generated datapoint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 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utting Computational Cos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cache contingency tables for all possible one-arc changes to network 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have to recompute scores associated with at most two nodes after arc added, removed, or rever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vents having to slog through the entire dataset recomputing score changes for every possible arc change when dataset chan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kiss memory goodby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a few network structure changes required after each iteration since dataset hasn’t changed much (one or two structural changes on averag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olution of Network Complex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ceholder for parity-based network complexity grap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tion Cancell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imize magnitudes of cumulative sum of discretized numeric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represented with standard binary encod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609480" y="4191120"/>
          <a:ext cx="7842240" cy="2003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4191120"/>
                    <a:ext cx="7842240" cy="20034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380880" y="3048120"/>
                <a:ext cx="205740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≤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914400" y="3505320"/>
                <a:ext cx="990720" cy="32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3657600" y="2971800"/>
                <a:ext cx="83808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6" name=""/>
              <p:cNvSpPr txBox="1"/>
              <p:nvPr/>
            </p:nvSpPr>
            <p:spPr>
              <a:xfrm>
                <a:off x="2666880" y="3505320"/>
                <a:ext cx="304812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for 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"/>
              <p:cNvSpPr txBox="1"/>
              <p:nvPr/>
            </p:nvSpPr>
            <p:spPr>
              <a:xfrm>
                <a:off x="6324480" y="2895480"/>
                <a:ext cx="205740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000</m:t>
                            </m:r>
                          </m:den>
                        </m:f>
                        <m:r>
                          <m:t xml:space="preserve">+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nary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18" name=""/>
          <p:cNvSpPr/>
          <p:nvPr/>
        </p:nvSpPr>
        <p:spPr>
          <a:xfrm>
            <a:off x="221760" y="6171120"/>
            <a:ext cx="87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erage value over 50 runs of best solution found in 2000 gen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: Empirical Results Summ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636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better than Tree-based optimization algorithm on some to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gnificantly better on “Summation Cancellation”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% reduction in error on System of Linear Equation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ghly the same as Tree-based algorithm on others, e.g. small Knapsack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ly more computation despite efficiency hacks, howev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not much better performanc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much emphasis on exploitation rather than explor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epest-ascent hillclimbing over network structures not good enough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9194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Probabilistic Models for Intelligent Rest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algorithm’s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execution time per generation very expensive for large probl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more so for more complicated Bayesian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possible approach: use probabilistic models to select good starting points for faster optimization algorithms, e.g. hillclimb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ing Optimizers with Mutual Information Trees [Baluja &amp; Davies, 1997b]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data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bitstrings drawn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the distribution represented b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ecute a hillclimbing run starting from single best bitstring of the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lace up to M bitstrings in D with the best bitstrings found during the hillclimbing ru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, cont’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pirical tests performed with stochastic hillclimbing algorithm that allows at most PATIENCE moves to points of equal value before restar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are COMIT vs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itstrings 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est bitstring ou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algorithm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: Example of Behav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mmy slide for graphs showing all evaluations in TSP dom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: Empirical Comparison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g ugly table goes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Explicit Probabilistic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n explicit probabilit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which we generate new candidate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didate solution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make it more likely to generate solutions “similar” to the “good”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different choices for what sort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use and how to update it after candidate solution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uses very simple probability distribution from which new solutions are generated, yet works surprisingly we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orithm using tree-based distributions seems to work even better, though at significantly more computational expen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sophisticated networks: past the point of diminishing marginal returns?  “Future research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makes tree-based algorithm applicable to much larger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ing algorithm based on complex Bayesian Networks more practi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w/simpler search algorithm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ying COMIT to more interesting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KS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ization in real-valued state spaces. What sorts of PDF representations might be usefu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ussia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rnel-based representa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erarchical representa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cknowledgem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ug Baker, Justin Boyan, Lonnie Chrisman, Greg Cooper, Geoff Gordon, Andrew Moore, …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bability Distributions Over Bitstring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take one of the values {0, 1}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length of the bitstr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factorize an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it by bi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general, the above formula is just another way of representing a big lookup table with one entry for each of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ossible bitstring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viously too many parameters to estimate from limited data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esenting Independencies with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ical representation of probability distrib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variable is a vert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variable’s probability distribution is conditioned only on its parents in the directed acyclic graph (“dag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42960" y="449568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386160" y="373392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624040" y="4495680"/>
            <a:ext cx="53208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071960" y="449568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852640" y="5638680"/>
            <a:ext cx="53208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41560" y="3580560"/>
            <a:ext cx="156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an on F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68040" y="4418640"/>
            <a:ext cx="1305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re Ala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32600" y="6095160"/>
            <a:ext cx="126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r B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1" name=""/>
          <p:cNvCxnSpPr>
            <a:stCxn id="114" idx="3"/>
            <a:endCxn id="115" idx="7"/>
          </p:cNvCxnSpPr>
          <p:nvPr/>
        </p:nvCxnSpPr>
        <p:spPr>
          <a:xfrm flipH="1">
            <a:off x="3077640" y="4205160"/>
            <a:ext cx="386640" cy="354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" name=""/>
          <p:cNvCxnSpPr>
            <a:stCxn id="114" idx="5"/>
            <a:endCxn id="116" idx="1"/>
          </p:cNvCxnSpPr>
          <p:nvPr/>
        </p:nvCxnSpPr>
        <p:spPr>
          <a:xfrm>
            <a:off x="3840120" y="4205160"/>
            <a:ext cx="310320" cy="354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15" idx="4"/>
            <a:endCxn id="117" idx="0"/>
          </p:cNvCxnSpPr>
          <p:nvPr/>
        </p:nvCxnSpPr>
        <p:spPr>
          <a:xfrm>
            <a:off x="2890440" y="5045040"/>
            <a:ext cx="229320" cy="5803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" name=""/>
          <p:cNvCxnSpPr>
            <a:stCxn id="113" idx="5"/>
            <a:endCxn id="117" idx="1"/>
          </p:cNvCxnSpPr>
          <p:nvPr/>
        </p:nvCxnSpPr>
        <p:spPr>
          <a:xfrm>
            <a:off x="1096560" y="4967280"/>
            <a:ext cx="1834200" cy="735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116" idx="3"/>
            <a:endCxn id="117" idx="7"/>
          </p:cNvCxnSpPr>
          <p:nvPr/>
        </p:nvCxnSpPr>
        <p:spPr>
          <a:xfrm flipH="1">
            <a:off x="3306240" y="4967280"/>
            <a:ext cx="843840" cy="735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1369800" y="3808800"/>
            <a:ext cx="1605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ce Cr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uck Nearb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87560" y="4951800"/>
            <a:ext cx="132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fi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or Op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555960" y="3654720"/>
            <a:ext cx="2037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9042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” for Bitstring Optimiz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1981080" y="2106360"/>
            <a:ext cx="4800240" cy="1496520"/>
            <a:chOff x="1981080" y="2106360"/>
            <a:chExt cx="4800240" cy="1496520"/>
          </a:xfrm>
        </p:grpSpPr>
        <p:sp>
          <p:nvSpPr>
            <p:cNvPr id="132" name=""/>
            <p:cNvSpPr/>
            <p:nvPr/>
          </p:nvSpPr>
          <p:spPr>
            <a:xfrm>
              <a:off x="198108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8116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98124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381360" y="254088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>
              <a:stCxn id="132" idx="6"/>
              <a:endCxn id="133" idx="2"/>
            </p:cNvCxnSpPr>
            <p:nvPr/>
          </p:nvCxnSpPr>
          <p:spPr>
            <a:xfrm>
              <a:off x="2393640" y="2725920"/>
              <a:ext cx="5752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7" name=""/>
            <p:cNvCxnSpPr>
              <a:stCxn id="133" idx="6"/>
              <a:endCxn id="134" idx="2"/>
            </p:cNvCxnSpPr>
            <p:nvPr/>
          </p:nvCxnSpPr>
          <p:spPr>
            <a:xfrm>
              <a:off x="3393720" y="2725920"/>
              <a:ext cx="5752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8" name=""/>
            <p:cNvCxnSpPr>
              <a:stCxn id="132" idx="5"/>
              <a:endCxn id="134" idx="3"/>
            </p:cNvCxnSpPr>
            <p:nvPr/>
          </p:nvCxnSpPr>
          <p:spPr>
            <a:xfrm flipH="1" rot="16200000">
              <a:off x="3180240" y="2021760"/>
              <a:ext cx="2160" cy="1717200"/>
            </a:xfrm>
            <a:prstGeom prst="curvedConnector5">
              <a:avLst>
                <a:gd name="adj1" fmla="val 17700000"/>
                <a:gd name="adj2" fmla="val 49989"/>
                <a:gd name="adj3" fmla="val 177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9" name=""/>
            <p:cNvCxnSpPr>
              <a:stCxn id="134" idx="6"/>
            </p:cNvCxnSpPr>
            <p:nvPr/>
          </p:nvCxnSpPr>
          <p:spPr>
            <a:xfrm>
              <a:off x="4393800" y="2726280"/>
              <a:ext cx="321120" cy="14400"/>
            </a:xfrm>
            <a:prstGeom prst="curvedConnector5">
              <a:avLst>
                <a:gd name="adj1" fmla="val 48035"/>
                <a:gd name="adj2" fmla="val 48717"/>
                <a:gd name="adj3" fmla="val 48035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0" name=""/>
            <p:cNvCxnSpPr>
              <a:stCxn id="132" idx="3"/>
              <a:endCxn id="135" idx="4"/>
            </p:cNvCxnSpPr>
            <p:nvPr/>
          </p:nvCxnSpPr>
          <p:spPr>
            <a:xfrm flipH="1" rot="16200000">
              <a:off x="4272840" y="644400"/>
              <a:ext cx="72360" cy="4542480"/>
            </a:xfrm>
            <a:prstGeom prst="curvedConnector5">
              <a:avLst>
                <a:gd name="adj1" fmla="val 1004500"/>
                <a:gd name="adj2" fmla="val 49996"/>
                <a:gd name="adj3" fmla="val 10045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1" name=""/>
            <p:cNvCxnSpPr>
              <a:endCxn id="135" idx="2"/>
            </p:cNvCxnSpPr>
            <p:nvPr/>
          </p:nvCxnSpPr>
          <p:spPr>
            <a:xfrm>
              <a:off x="5780880" y="2739600"/>
              <a:ext cx="5878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2" name=""/>
            <p:cNvCxnSpPr>
              <a:stCxn id="133" idx="0"/>
              <a:endCxn id="135" idx="0"/>
            </p:cNvCxnSpPr>
            <p:nvPr/>
          </p:nvCxnSpPr>
          <p:spPr>
            <a:xfrm flipH="1" rot="16200000">
              <a:off x="4874040" y="821160"/>
              <a:ext cx="14400" cy="3400920"/>
            </a:xfrm>
            <a:prstGeom prst="curvedConnector5">
              <a:avLst>
                <a:gd name="adj1" fmla="val -2907692"/>
                <a:gd name="adj2" fmla="val 50000"/>
                <a:gd name="adj3" fmla="val -2907692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3" name=""/>
            <p:cNvCxnSpPr>
              <a:stCxn id="134" idx="5"/>
              <a:endCxn id="135" idx="3"/>
            </p:cNvCxnSpPr>
            <p:nvPr/>
          </p:nvCxnSpPr>
          <p:spPr>
            <a:xfrm flipH="1" rot="16200000">
              <a:off x="5374440" y="1827720"/>
              <a:ext cx="14400" cy="2117520"/>
            </a:xfrm>
            <a:prstGeom prst="curvedConnector5">
              <a:avLst>
                <a:gd name="adj1" fmla="val 1869230"/>
                <a:gd name="adj2" fmla="val 49991"/>
                <a:gd name="adj3" fmla="val 186923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4" name=""/>
            <p:cNvCxnSpPr>
              <a:stCxn id="145" idx="3"/>
              <a:endCxn id="135" idx="1"/>
            </p:cNvCxnSpPr>
            <p:nvPr/>
          </p:nvCxnSpPr>
          <p:spPr>
            <a:xfrm flipH="1" rot="10800000">
              <a:off x="5793120" y="2585520"/>
              <a:ext cx="645840" cy="199800"/>
            </a:xfrm>
            <a:prstGeom prst="curvedConnector5">
              <a:avLst>
                <a:gd name="adj1" fmla="val -5131"/>
                <a:gd name="adj2" fmla="val 57581"/>
                <a:gd name="adj3" fmla="val -5131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5" name=""/>
            <p:cNvSpPr/>
            <p:nvPr/>
          </p:nvSpPr>
          <p:spPr>
            <a:xfrm>
              <a:off x="4714560" y="2553480"/>
              <a:ext cx="1066680" cy="4644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981320" y="2752560"/>
              <a:ext cx="6660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248080" y="2752560"/>
              <a:ext cx="6624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514480" y="2752560"/>
              <a:ext cx="6660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9" name=""/>
            <p:cNvCxnSpPr>
              <a:stCxn id="132" idx="4"/>
              <a:endCxn id="145" idx="2"/>
            </p:cNvCxnSpPr>
            <p:nvPr/>
          </p:nvCxnSpPr>
          <p:spPr>
            <a:xfrm flipH="1" rot="16200000">
              <a:off x="3666960" y="1450440"/>
              <a:ext cx="93240" cy="3067560"/>
            </a:xfrm>
            <a:prstGeom prst="curvedConnector5">
              <a:avLst>
                <a:gd name="adj1" fmla="val 410077"/>
                <a:gd name="adj2" fmla="val 50000"/>
                <a:gd name="adj3" fmla="val 410077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0" name=""/>
            <p:cNvCxnSpPr>
              <a:stCxn id="133" idx="7"/>
              <a:endCxn id="145" idx="0"/>
            </p:cNvCxnSpPr>
            <p:nvPr/>
          </p:nvCxnSpPr>
          <p:spPr>
            <a:xfrm flipH="1" flipV="1" rot="5400000">
              <a:off x="4269600" y="1593360"/>
              <a:ext cx="31680" cy="1926000"/>
            </a:xfrm>
            <a:prstGeom prst="curvedConnector5">
              <a:avLst>
                <a:gd name="adj1" fmla="val 778160"/>
                <a:gd name="adj2" fmla="val 49990"/>
                <a:gd name="adj3" fmla="val 77816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51" name=""/>
          <p:cNvSpPr/>
          <p:nvPr/>
        </p:nvSpPr>
        <p:spPr>
          <a:xfrm>
            <a:off x="457200" y="3886200"/>
            <a:ext cx="8178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lvl="1" marL="401040" indent="-154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uck.  Let’s just assume all the bits are independent inste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01040" indent="-154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or now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2286000" y="5486400"/>
            <a:ext cx="4343040" cy="380880"/>
            <a:chOff x="2286000" y="5486400"/>
            <a:chExt cx="4343040" cy="380880"/>
          </a:xfrm>
        </p:grpSpPr>
        <p:sp>
          <p:nvSpPr>
            <p:cNvPr id="153" name=""/>
            <p:cNvSpPr/>
            <p:nvPr/>
          </p:nvSpPr>
          <p:spPr>
            <a:xfrm>
              <a:off x="228600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19068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09572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267240" y="550764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4879800" y="5486400"/>
              <a:ext cx="964800" cy="380880"/>
              <a:chOff x="4879800" y="5486400"/>
              <a:chExt cx="964800" cy="380880"/>
            </a:xfrm>
          </p:grpSpPr>
          <p:sp>
            <p:nvSpPr>
              <p:cNvPr id="158" name=""/>
              <p:cNvSpPr/>
              <p:nvPr/>
            </p:nvSpPr>
            <p:spPr>
              <a:xfrm>
                <a:off x="4879800" y="5486400"/>
                <a:ext cx="964800" cy="38088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512064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530172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548244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2" name=""/>
          <p:cNvSpPr/>
          <p:nvPr/>
        </p:nvSpPr>
        <p:spPr>
          <a:xfrm>
            <a:off x="2819520" y="6019920"/>
            <a:ext cx="3200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hhh.  Much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752480" y="4876920"/>
            <a:ext cx="5257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pulation-Based Incremental Lear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ion-Based Incremental Learning (PBIL) [Baluja, 1995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s a vector of probabilities: one independent probabilit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for each bi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a populatio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the b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follow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1981080" y="4800600"/>
                <a:ext cx="3657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'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7" name=""/>
          <p:cNvSpPr/>
          <p:nvPr/>
        </p:nvSpPr>
        <p:spPr>
          <a:xfrm>
            <a:off x="5791320" y="470268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3048120" y="5105520"/>
                <a:ext cx="2133360" cy="34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9" name=""/>
          <p:cNvSpPr/>
          <p:nvPr/>
        </p:nvSpPr>
        <p:spPr>
          <a:xfrm>
            <a:off x="5791320" y="506772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514960" y="508860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57200" y="5410080"/>
            <a:ext cx="81788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lvl="2" marL="799920" indent="-159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tionally, also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ilarly with the bitwise complement of the worst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119960" indent="-159840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BIL vs. Discrete Learning Autom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quivalent to a team of Discrete Learning Automata, one automata per bit. [Thathachar &amp; Sastry, 198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ing automata choose actions independently, but receive common reinforcement signal dependent on all their 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 update rule equivalent to linear reward-inaction algorithm [Hilgard &amp; Bower, 1975] with “success” defined as “best in the bunc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ever, Discrete Learning Automata typically used previously in problems with few variables but noisy evaluation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5T00:35:01Z</dcterms:created>
  <dc:creator>Scott Davies</dc:creator>
  <dc:description/>
  <dc:language>en-US</dc:language>
  <cp:lastModifiedBy>scottd</cp:lastModifiedBy>
  <dcterms:modified xsi:type="dcterms:W3CDTF">1997-11-18T18:55:03Z</dcterms:modified>
  <cp:revision>86</cp:revision>
  <dc:subject/>
  <dc:title>No Slide Title</dc:title>
</cp:coreProperties>
</file>