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94055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9408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93228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98080" y="679320"/>
            <a:ext cx="4545000" cy="340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93228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1C2EA4F-A081-4150-A4A8-A52FD2741F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ARCH-FROM described in next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reasons for failu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Grid too coa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State transition model inaccu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Problem unsolv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more intelligent possibilities for what to do if search fail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get into that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x interpolation: relatively quick interpolation method in which every interpolation takes O(d log d) time, and which gives you a continuous though not particularly smooth function over the entire sp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show Hill-car vide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kinds of problems that controllers wind up ha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with a perfect model, inaccurate value functions can cause controllers to get stuck in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limits 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ably better to mention later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, as discussed before, accurate V(x)’s are hard to come by, and inaccurate ones can lead to very suboptimal behavi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Gary’s stuff in conjunction with the limited-action-switching stu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fully s isn’t too hard to pick by domain expe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vate why more than one action switch won’t help much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dynamics in search region are smooth enough, in general only makes sense to switch actions at most (|A|-1) tim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in discounted problems, the largest error in the value func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d by a factor of (gamma)^(d-1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fully, for well-chosen s, the “value function” which the search algorith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licitly uses is pretty close to the full-blown B^(d-1)V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uning: assumed similarity between points within a parti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ution borrowed from robot motion planning, sort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it to show video until right before empirical resul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9F8E20-BD78-440B-BC4C-EA815A6AA1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51EF2C-BEF5-4B93-9182-087CD88558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520824-447D-47C9-B916-44CE37FB7E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3F2657-A786-464A-BB77-8EDDA86A16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DF1A5E-0C07-4440-94AE-B6D3786C04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ADBD5B-DFE7-4732-BB04-57D72FDBAC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981FB7-24BF-43FB-85F1-9A75D48FE0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08E011-FC67-4141-BB9E-080E2652E5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2CD038-09EC-43E9-9779-16DACE8770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0D7A5D-9509-4964-8C24-D6C457291B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D146F0-F020-4487-92C8-D05E4EDC18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B44F41-CD66-40A1-9B41-2D2FE11103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6176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143000"/>
            <a:ext cx="7696080" cy="30492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2514600"/>
            <a:ext cx="7315200" cy="60948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ying Online Search Techniques t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t Davies, Andrew Ng, and Andrew Mo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approximate value func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guide the selection of which points to search from nex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sonably accura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ll cause search to stay along optimal path to goal: dramatic reduction in search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help choose effective points within each partition from which to search, thereby improving solution qu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iformed Global Search same as “Informed” Global Search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DA6E15-6C21-42C3-82E9-175BAABC38E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Algorith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e current state,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e the grid element contain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’s “representative state”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nd ad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o priority queu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priorit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goal state found 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mp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ove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top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no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representative state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ARCH-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, 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goal found, execute trajectory; otherwise signal fail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05782E-B1D1-4695-A91E-5748DFCA44C0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ormed Global Search Algorithm, cont’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ARCH-FR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, 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ing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perform “local search” as described earlier, but prune the search wherever it reaches a different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time another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ached at st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viousl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EARCHED-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do noth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ver previously reached, ad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priorit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’s “representative state” to 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cord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viously reached but previous priority is lower th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 priority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set “representative state”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cord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F374E9-F5D1-479F-B79B-68746E3151EF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crappyVFGlobalSearch.grid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132" name="goodVFGlobalSearch.grid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060560" y="5562720"/>
            <a:ext cx="295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*7 simplex-interpolate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69720" y="5562720"/>
            <a:ext cx="321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3*13 simplex-interpolate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898360" y="5943600"/>
            <a:ext cx="321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ar Search 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781335-D0D0-42DE-93C5-ED7F2BA42655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 as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is essentially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arch using the value fun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a search heuris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ptimist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uristic function normally guarantees optimal path to the goa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effectively uses trivially optimistic heuristic V(s) = 0.  Might we expect better solution quality with uninformed search than with non-optimistic crude approximate value function V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!  A crude approximate non-optimistic value function c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mprove solution qual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helping the algorithm avoid pruning wrong parts of search 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A16783-5DEF-494C-AA2D-FFCB04BD586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 on steep h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e variables: position and velocity (2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forward or backw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: park near t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hillcar" descr=""/>
          <p:cNvPicPr/>
          <p:nvPr/>
        </p:nvPicPr>
        <p:blipFill>
          <a:blip r:embed="rId1"/>
          <a:stretch/>
        </p:blipFill>
        <p:spPr>
          <a:xfrm>
            <a:off x="533520" y="2286000"/>
            <a:ext cx="3886200" cy="324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B91B28-7D95-4288-A6E0-AA434C300FD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742840" y="1905120"/>
            <a:ext cx="624852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-link planar robot acting in vertical plane under gra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actuated joint at elbow; unactuated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ngular positions &amp; their velocities (4-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raise tip at least one link’s height above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ctions: full torque clockwise / counterclockw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tarting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20840" y="3633840"/>
            <a:ext cx="181080" cy="2048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798560" y="4521240"/>
            <a:ext cx="120600" cy="1364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1858680" y="3770280"/>
            <a:ext cx="422280" cy="81936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1015920" y="4111560"/>
            <a:ext cx="843120" cy="47808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41440" y="3701880"/>
            <a:ext cx="0" cy="109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913400" y="417816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1436400" y="4589640"/>
            <a:ext cx="422280" cy="820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303560" y="441972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533520" y="2633760"/>
            <a:ext cx="2133360" cy="331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220400" y="20988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84C87D-32DE-4A8A-B868-7CB8DBAB529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267080" y="1981080"/>
            <a:ext cx="45720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right pole attached to cart by unactuated 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: horizontal position of cart, angle of pole, and associated velocities (4-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s: accelerate left or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al configuration: cart moved, pole balan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with rand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-step cost quadratic in distance from goal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penalty if pole falls 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09480" y="4191120"/>
            <a:ext cx="35816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066680" y="3809880"/>
            <a:ext cx="1143000" cy="228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2400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83348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1600200" y="2666520"/>
            <a:ext cx="762120" cy="12193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523880" y="3809880"/>
            <a:ext cx="152640" cy="1526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1600200" y="25146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678320" y="266688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38080" y="4343400"/>
            <a:ext cx="0" cy="8380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600200" y="4343400"/>
            <a:ext cx="0" cy="3808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38080" y="4495680"/>
            <a:ext cx="762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52280" y="4460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2971800" y="2666520"/>
            <a:ext cx="1143000" cy="1522800"/>
            <a:chOff x="2971800" y="2666520"/>
            <a:chExt cx="1143000" cy="1522800"/>
          </a:xfrm>
        </p:grpSpPr>
        <p:sp>
          <p:nvSpPr>
            <p:cNvPr id="168" name=""/>
            <p:cNvSpPr/>
            <p:nvPr/>
          </p:nvSpPr>
          <p:spPr>
            <a:xfrm>
              <a:off x="2971800" y="3809880"/>
              <a:ext cx="1143000" cy="228600"/>
            </a:xfrm>
            <a:prstGeom prst="rect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2912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73860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3505320" y="266652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429000" y="3809880"/>
              <a:ext cx="152640" cy="15264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2541960" y="434340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al 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AB5840-E1C8-4232-A1CF-779A4EF9BDA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038120" y="1980720"/>
            <a:ext cx="449604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ck sliding on bumpy 2-d su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spatial variables &amp; their velocities (4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NW, NE, SW, or 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 in NW cor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beta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212F4B-F9D1-418E-83C8-0C7436C1E5A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90720" y="4952880"/>
            <a:ext cx="7772400" cy="190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limits imposed on number of action switch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ion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380880" y="1828800"/>
          <a:ext cx="4327560" cy="30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4327560" cy="30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" name=""/>
          <p:cNvGraphicFramePr/>
          <p:nvPr/>
        </p:nvGraphicFramePr>
        <p:xfrm>
          <a:off x="4648320" y="1905120"/>
          <a:ext cx="4038480" cy="29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905120"/>
                    <a:ext cx="40384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"/>
          <p:cNvSpPr/>
          <p:nvPr/>
        </p:nvSpPr>
        <p:spPr>
          <a:xfrm>
            <a:off x="2974320" y="1447920"/>
            <a:ext cx="31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F8851B-489A-4AF9-8CF1-FB4E31FE919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Agony of Continuous State Spa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403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useful value functions for continuous-state optimal control problems can be difficul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inaccuracies/inconsistencies in approximated value functions can cause simple controllers to fail misera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urate value functions can be very expensive to compute even in relatively low-dimensional spaces with perfectly accurate state transition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3CDF51-B76E-4A42-B69E-8723A3461566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676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. number of action switches fixed at 2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228600" y="1828800"/>
          <a:ext cx="441972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28800"/>
                    <a:ext cx="441972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4572000" y="1828800"/>
          <a:ext cx="4191120" cy="283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828800"/>
                    <a:ext cx="419112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"/>
          <p:cNvSpPr/>
          <p:nvPr/>
        </p:nvSpPr>
        <p:spPr>
          <a:xfrm>
            <a:off x="3736440" y="1371600"/>
            <a:ext cx="16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E9059E-9FA9-4998-A87A-7DC92FF9D5D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experiments: Hill-C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6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earch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 between grid elements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685800" y="1676520"/>
          <a:ext cx="7772400" cy="137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7772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891E0A-D03C-48CE-B310-0C48ECF16F3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 results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4191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prunes wrong trajec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search grid to 1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this doesn’t happ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nformed does near-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ed doesn’t: crude value function not optimi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685800" y="4572000"/>
          <a:ext cx="7772400" cy="135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572000"/>
                    <a:ext cx="777240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"/>
          <p:cNvSpPr/>
          <p:nvPr/>
        </p:nvSpPr>
        <p:spPr>
          <a:xfrm>
            <a:off x="5190480" y="2590920"/>
            <a:ext cx="312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iled search trajectory picture g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23AC5D-6A7D-450E-8C0D-96F95600AC8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Results: Four-d dom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371240" y="1676160"/>
            <a:ext cx="7162920" cy="480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value functions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 interpo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local searches between global search elemen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th 20, with at max. 1 action switch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rob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4; no action switch restriction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-Cart-Pole: same as Acrob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10; max. 1 action switch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2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FEE748-D7DE-431E-86C6-6B1AF154B20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440" y="3886200"/>
            <a:ext cx="792468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significantly improves solution quality, but increases CPU time by order of magn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takes even more time; poor solution quality indicates suboptimal trajectory pru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finds much better solutions in relatively little time.  Value function drastically reduces search, and better pruning leads to better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"/>
          <p:cNvSpPr/>
          <p:nvPr/>
        </p:nvSpPr>
        <p:spPr>
          <a:xfrm>
            <a:off x="1889280" y="3048120"/>
            <a:ext cx="574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LS: number of local searches performed to find pa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ween elements of global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D25CC0-0039-4ECA-B7BE-32547A70E95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pole often falls, incurring large penalties; overall poor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improves things a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finds better solutions than in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w grid cells in which pruning is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function not optimistic, so informed search solutions sub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reduces costs by order of magnitude with no increase in required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223FB5-DC3A-44A5-AEB7-5302459CC86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5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almost useless, and incurs massive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decreases solution cost by 50%, but at even greater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decreases solution cost by factor of 4, at no increase in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34B6E2-125E-4321-B9D6-7570B4B141B7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y Example: Hill-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nearest-neighbor function approximator per possible action used to learn 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s sufficiently far away from nearest neighbor optimistically assumed to be absorbing to encourage expl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costs over first few hundred tria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2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1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: 1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894AE3-8381-47A2-8C38-B56537A4B247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 do arise when using learned mode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ccuracies in models may cause global searches to fail.  Not clear then if failure should be blamed on model inaccuracies or on insufficiently fine state space partiti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jectories found will be in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adaptive closed-loop contro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tunately, we will get new data with which to increase the accuracy of our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approximators must be fast and 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1FABFA-5D9A-42E6-8E81-FE4ED019D119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nues for Future Re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ons to nondeterministic syste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r-dimensional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function approximators for model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-resolution search gr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mistic value function gener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8B4246-BDC1-4B82-B8C4-FF2D0A87DFFA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ing Value Functions With Online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 of modeling the value function accurately everywhere, we can perform online searches for good trajectories from the agent’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urrent pos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compensate for value function inaccura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examine two different types of sear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es in which the agent performs a finite-depth look-ahead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” searches in which the agent searches for trajectories all the way to goal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A1D2C0-0CD7-458B-84AB-8F86B277CEAC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ical One-Step “Search”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777240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value fun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over the state space, an agent typically uses a model to predict where each possible one-step trajector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akes it, then chooses the trajectory that maximiz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96" name=""/>
          <p:cNvSpPr/>
          <p:nvPr/>
        </p:nvSpPr>
        <p:spPr>
          <a:xfrm>
            <a:off x="981720" y="5029200"/>
            <a:ext cx="758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tak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) time, 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et of possible ac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1830600" y="3581280"/>
            <a:ext cx="5560200" cy="1459440"/>
            <a:chOff x="1830600" y="3581280"/>
            <a:chExt cx="5560200" cy="1459440"/>
          </a:xfrm>
        </p:grpSpPr>
        <p:grpSp>
          <p:nvGrpSpPr>
            <p:cNvPr id="98" name=""/>
            <p:cNvGrpSpPr/>
            <p:nvPr/>
          </p:nvGrpSpPr>
          <p:grpSpPr>
            <a:xfrm>
              <a:off x="2732760" y="4073400"/>
              <a:ext cx="3651120" cy="967320"/>
              <a:chOff x="2732760" y="4073400"/>
              <a:chExt cx="3651120" cy="967320"/>
            </a:xfrm>
          </p:grpSpPr>
          <p:sp>
            <p:nvSpPr>
              <p:cNvPr id="99" name=""/>
              <p:cNvSpPr/>
              <p:nvPr/>
            </p:nvSpPr>
            <p:spPr>
              <a:xfrm>
                <a:off x="2732760" y="4073400"/>
                <a:ext cx="3059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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is the discount facto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2761920" y="4530600"/>
                <a:ext cx="36219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0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is the state at the end of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1" name=""/>
            <p:cNvSpPr/>
            <p:nvPr/>
          </p:nvSpPr>
          <p:spPr>
            <a:xfrm>
              <a:off x="1830600" y="3581280"/>
              <a:ext cx="5560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her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is the reward accumulated along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981360" y="5562720"/>
            <a:ext cx="722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perfec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this would lead to optimal behavi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585600" y="3048120"/>
            <a:ext cx="1799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775179-555D-4F26-83E4-965F0562B797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marL="275400" indent="-275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obvious possible extension: consider all possibl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selecting the one that maximiz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ational expense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5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5400" indent="-275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make deeper searches more computationally tractable, we can limit agent to considering only trajectories in which the action is switched at mo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i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ational expen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considerably cheaper than ful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step search 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&lt;&lt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495680" y="5191200"/>
                <a:ext cx="152424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dalignl</m:t>
                    </m:r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d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3C11ED-88BD-4AA0-A548-EDB129788F8A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040" y="4571640"/>
            <a:ext cx="3809880" cy="15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222120" indent="-2221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wo-dimensional state space (position + velocit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-2221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 must back up to take “running start” to make 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hillcar" descr=""/>
          <p:cNvPicPr/>
          <p:nvPr/>
        </p:nvPicPr>
        <p:blipFill>
          <a:blip r:embed="rId1"/>
          <a:stretch/>
        </p:blipFill>
        <p:spPr>
          <a:xfrm>
            <a:off x="914400" y="1752480"/>
            <a:ext cx="3276720" cy="2743200"/>
          </a:xfrm>
          <a:prstGeom prst="rect">
            <a:avLst/>
          </a:prstGeom>
          <a:ln w="0">
            <a:noFill/>
          </a:ln>
        </p:spPr>
      </p:pic>
      <p:grpSp>
        <p:nvGrpSpPr>
          <p:cNvPr id="110" name=""/>
          <p:cNvGrpSpPr/>
          <p:nvPr/>
        </p:nvGrpSpPr>
        <p:grpSpPr>
          <a:xfrm>
            <a:off x="4648320" y="1752480"/>
            <a:ext cx="3975120" cy="3660120"/>
            <a:chOff x="4648320" y="1752480"/>
            <a:chExt cx="3975120" cy="3660120"/>
          </a:xfrm>
        </p:grpSpPr>
        <p:pic>
          <p:nvPicPr>
            <p:cNvPr id="111" name="localSearch" descr=""/>
            <p:cNvPicPr/>
            <p:nvPr/>
          </p:nvPicPr>
          <p:blipFill>
            <a:blip r:embed="rId2"/>
            <a:stretch/>
          </p:blipFill>
          <p:spPr>
            <a:xfrm>
              <a:off x="4648320" y="1752480"/>
              <a:ext cx="3429000" cy="320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5868000" y="4952880"/>
              <a:ext cx="118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osi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01000" y="2743200"/>
              <a:ext cx="62244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Velocit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4565160" y="5486400"/>
            <a:ext cx="3647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arch over 20-step trajecto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at most one switch in 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BBB628-7613-4407-9A17-0CAD5C07C131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Local Search On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ea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om current state, consider all possibl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 which the action is changed at mo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i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the first action in the trajectory that maximiz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enote the “parallel backup operator” such tha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2460600" y="3886200"/>
                <a:ext cx="391788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V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lim>
                    </m:limLow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γ</m:t>
                        </m:r>
                        <m:r>
                          <m:t xml:space="preserve">⋅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741960" y="4572000"/>
            <a:ext cx="7659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1), Local Search is formally equivalent to behaving greedi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respect to the new value functio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-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c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ypically arrived at through iterations of a much cruder back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erator, this value function is often much more accurate th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CCF5F2-5665-43DB-98F9-661F707AA4C6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se we have a minimum-cost-to-goal problem in a continuous state space with nonnegative costs.  Why not forget about explicitly calcul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just extend the search from the current position all the way to the goa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lem: combinatorial explo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sible solutio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eak state space into partitions, e.g. a uniform grid.  (Can be represented sparsely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previously discussed local search procedure to find trajectories between parti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une all but least-cost trajectory entering any given part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C631FE-3E14-4F84-9CF3-4ADF3076D01A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ll computationally expen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with fine partitioning of state space, pruning the wrong trajectories can cause search to fail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noVFGlobalSearch.grid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90D2EA-B76A-4311-A768-CDA2E0043BDE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9T05:01:20Z</dcterms:created>
  <dc:creator>Scott Davies</dc:creator>
  <dc:description/>
  <dc:language>en-US</dc:language>
  <cp:lastModifiedBy>Scott Davies</cp:lastModifiedBy>
  <cp:lastPrinted>1997-07-09T05:52:16Z</cp:lastPrinted>
  <dcterms:modified xsi:type="dcterms:W3CDTF">1998-07-15T17:39:04Z</dcterms:modified>
  <cp:revision>41</cp:revision>
  <dc:subject/>
  <dc:title>Applying Online Search Techniques to  Reinforcement Learning</dc:title>
</cp:coreProperties>
</file>