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408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3228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98080" y="679320"/>
            <a:ext cx="4545000" cy="34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4A56DEF-C624-4ADB-8A19-BC7C3AFC78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RCH-FROM described in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reasons for failu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rid too coa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State transition model inaccu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roblem unsolv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more intelligent possibilities for what to do if search fail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get into that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show Hill-car vid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as discussed before, accurate V(x)’s are hard to come by, and inaccurate ones can lead to very suboptimal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Gary’s stuff in conjunction with the limited-action-switching stu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 s isn’t too hard to pick by domain exp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in discounted problems, the largest error in the value func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by a factor of (gamma)^(d-1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, for well-chosen s, the “value function” which the search algorith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icitly uses is pretty close to the full-blown B^(d-1)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uning: assumed similarity between points within a parti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borrowed from robot motion planning, sort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6BF527-061E-4662-A0F3-569300CEE6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9C3F0B-989C-4E68-8F50-C00EF2A46E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23AC20-5CAC-47D0-A096-D5D14B4628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D055A5-51FA-4E82-99D7-AED38820D0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57EE16-7BB1-4E37-B5BD-BB2CC5F401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D8E6F9-91EE-4B12-AEBA-0BDD12762A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3EBC6-7F75-492A-8D40-F8D5A846F4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0543DA-CDA3-47F2-BC79-93B7A1564B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7C7FC7-2FF1-41B5-9CEB-67AA026A0B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B26FBD-5CD8-44DB-915A-D6F7D990D6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B8FD5C-990A-43E7-9A8D-C7F1F55E96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D6D98F-1202-4985-85F0-7521C754D5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514600"/>
            <a:ext cx="7315200" cy="60948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pproximate value fun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guide the selection of which points to search from n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ably accu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ll cause search to stay along optimal path to goal: dramatic reduction in search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help choose effective points within each partition from which to search, thereby improving solution 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formed Global Search same as “Informed” Global Search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300676-ECF0-4A2B-BE5C-3B55881771A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Algorith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current state,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the grid element contain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’s “representative state”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ad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o priority queu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priorit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goal state found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mp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e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op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no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representative stat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goal found, execute trajectory; otherwise signal fail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EC8CDB-3678-4332-B0FD-5FD2570B72A4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ed Global Search Algorithm, cont’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ing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erform “local search” as described earlier, but prune the search wherever it reaches a different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time another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ached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ARCHED-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do noth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ver previously reached, 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priorit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s “representative state” to 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reached but previous priority is lower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 priority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set “representative state”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05E5E8-3AD2-4BA1-814D-35D83DCDFC2D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132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060560" y="5562720"/>
            <a:ext cx="29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*7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69720" y="5562720"/>
            <a:ext cx="321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*13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98360" y="5943600"/>
            <a:ext cx="321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ar Search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1AAA2C-6C36-47E6-BCA2-65C7B799FCFE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 as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is essentially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arch using the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search heuri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timist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uristic function normally guarantees optimal path to the go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effectively uses trivially optimistic heuristic V(s) = 0.  Might we expect better solution quality with uninformed search than with non-optimistic crude approximate value function V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!  A crude approximate non-optimistic value function c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mprove solution qua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helping the algorithm avoid pruning wrong parts of search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DA123A-BCD2-4444-BCB3-5E8A147AD3C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 on steep 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 variables: position and velocity (2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forward or back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: park near t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hillcar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38862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2B4BAA-1ED5-47A1-BC68-03E5CFDB573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B769A2-A21C-4375-A7A9-B35AC6092CA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16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63065F-7403-403F-ABAB-948E71B9CDC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F6AA24-8238-4B92-BF39-A047F888A28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603703-AF1D-4817-AF96-A151F113E6A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03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4B0189-8A48-49C9-BB79-60A592427CF5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FE648C-AFFE-46FB-8EF3-BFA67E9B177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64B1A6-1FD9-4AE6-BC3B-8FD14E3D1B0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CF1D1D-83D5-44A3-B82B-14F8863D310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27F64F-9E08-43AE-8A55-95F5CB1AE17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869446-DF5F-40D5-AE17-7582E6FAD65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026321-8FC9-44F6-88F1-258BDE0DD68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88EB95-7F2C-4694-A5E3-C270BC72C8F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CCE150-A17E-46C5-A8DF-701945A08BC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770690-40DD-4B09-B133-21DBEF4A692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B77A7D-070C-4B57-8C90-6899C4DEB85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C94DF4-AA70-42C8-9862-73A74B611698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One-Step “Search”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over the state space, an agent typically uses a model to predict where each possible one-step trajector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akes it, then chooses the trajectory that maximiz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981720" y="5029200"/>
            <a:ext cx="75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tak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) time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possible a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830600" y="3581280"/>
            <a:ext cx="5560200" cy="1459440"/>
            <a:chOff x="1830600" y="3581280"/>
            <a:chExt cx="5560200" cy="1459440"/>
          </a:xfrm>
        </p:grpSpPr>
        <p:grpSp>
          <p:nvGrpSpPr>
            <p:cNvPr id="98" name=""/>
            <p:cNvGrpSpPr/>
            <p:nvPr/>
          </p:nvGrpSpPr>
          <p:grpSpPr>
            <a:xfrm>
              <a:off x="2732760" y="4073400"/>
              <a:ext cx="3651120" cy="967320"/>
              <a:chOff x="2732760" y="4073400"/>
              <a:chExt cx="3651120" cy="967320"/>
            </a:xfrm>
          </p:grpSpPr>
          <p:sp>
            <p:nvSpPr>
              <p:cNvPr id="99" name=""/>
              <p:cNvSpPr/>
              <p:nvPr/>
            </p:nvSpPr>
            <p:spPr>
              <a:xfrm>
                <a:off x="2732760" y="4073400"/>
                <a:ext cx="305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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s the discount fact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761920" y="4530600"/>
                <a:ext cx="362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is the state at the end of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1830600" y="3581280"/>
              <a:ext cx="5560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er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s the reward accumulated along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981360" y="5562720"/>
            <a:ext cx="72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perfec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his would lead to optimal behavi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85600" y="3048120"/>
            <a:ext cx="179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BF8F45-5036-4E67-9431-9441BDD8FA80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bvious possible extension: consider all possibl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electing the one that maximiz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make deeper searches more computationally tractable, we can limit agent to considering only trajectories in which the action is switched at mo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onsiderably cheaper than ful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search 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495680" y="5191200"/>
                <a:ext cx="15242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dalignl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F151FA-CC5F-42B8-ACE2-EC33AC6DEE79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4571640"/>
            <a:ext cx="380988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-dimensional state space (position + veloc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 must back up to take “running start” to make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hillcar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3276720" cy="2743200"/>
          </a:xfrm>
          <a:prstGeom prst="rect">
            <a:avLst/>
          </a:prstGeom>
          <a:ln w="0">
            <a:noFill/>
          </a:ln>
        </p:spPr>
      </p:pic>
      <p:grpSp>
        <p:nvGrpSpPr>
          <p:cNvPr id="110" name=""/>
          <p:cNvGrpSpPr/>
          <p:nvPr/>
        </p:nvGrpSpPr>
        <p:grpSpPr>
          <a:xfrm>
            <a:off x="4648320" y="1752480"/>
            <a:ext cx="3975120" cy="3660120"/>
            <a:chOff x="4648320" y="1752480"/>
            <a:chExt cx="3975120" cy="3660120"/>
          </a:xfrm>
        </p:grpSpPr>
        <p:pic>
          <p:nvPicPr>
            <p:cNvPr id="111" name="localSearch" descr=""/>
            <p:cNvPicPr/>
            <p:nvPr/>
          </p:nvPicPr>
          <p:blipFill>
            <a:blip r:embed="rId2"/>
            <a:stretch/>
          </p:blipFill>
          <p:spPr>
            <a:xfrm>
              <a:off x="4648320" y="1752480"/>
              <a:ext cx="342900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5868000" y="4952880"/>
              <a:ext cx="118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s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01000" y="2743200"/>
              <a:ext cx="62244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eloc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4565160" y="5486400"/>
            <a:ext cx="364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rch over 20-step traject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at most one switch in 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B41766-C80C-4A76-A09E-AEC8904E8554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Local Search On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ea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current state, consider all possibl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which the action is changed at mo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the first action in the trajectory that maximiz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note the “parallel backup operator” such th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460600" y="3886200"/>
                <a:ext cx="39178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741960" y="4572000"/>
            <a:ext cx="765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), Local Search is formally equivalent to behaving greedi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respect to the new value functi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-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ypically arrived at through iterations of a much cruder back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or, this value function is often much more accurate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EDF7A9-B771-491F-9CE1-43FFB18A48D2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we have a minimum-cost-to-goal problem in a continuous state space with nonnegative costs.  Why not forget about explicitly calcul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just extend the search from the current position all the way to the go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: combinatorial explo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ible solu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eak state space into partitions, e.g. a uniform grid.  (Can be represented sparsely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previously discussed local search procedure to find trajectories between part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une all but least-cost trajectory entering any given part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A15F19-F3C6-474E-8DC1-714DB0EF1938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cause search to fai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050512-95BD-4631-9920-6EA7FD9C1778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 Davies</cp:lastModifiedBy>
  <cp:lastPrinted>1997-07-09T05:52:16Z</cp:lastPrinted>
  <dcterms:modified xsi:type="dcterms:W3CDTF">1998-07-15T17:39:04Z</dcterms:modified>
  <cp:revision>41</cp:revision>
  <dc:subject/>
  <dc:title>Applying Online Search Techniques to  Reinforcement Learning</dc:title>
</cp:coreProperties>
</file>