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96072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74320" y="694800"/>
            <a:ext cx="464364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0" y="881856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960720" y="881856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304749AE-C691-4C74-AF1E-A412B8C80F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vate why more than one action switch won’t help much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dynamics in search region are smooth enough, in general only makes sense to switch actions at most (|A|-1) tim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it to show video until right before empirical resul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x interpolation: relatively quick interpolation method in which every interpolation takes O(d log d) time, and which gives you a continuous though not particularly smooth function over the entire sp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kinds of problems that controllers wind up ha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with a perfect model, inaccurate value functions can cause controllers to get stuck in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limits 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ably better to mention later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B5CB6B-9FE9-4B97-9FE8-34BA27B776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725600-DD05-4B30-8684-FD38923A31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E6165D-3B28-491D-AC74-DAB1424666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8F5E1A-99AE-4761-8663-1A765EC0BD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9F4F7A-4742-4D30-A851-9343234A71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D9770C-D555-42C8-B07A-31CAA0F942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0276D5-B738-4719-93EE-72EB2C90DF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3E0AE9-E5C2-4F92-BFB7-60CD2B2EA1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C5E6D0-DCB2-46C7-993C-E64D86F76C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0C0306-3ABA-4A8B-A1C3-C24316C279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F3C803-E33A-4439-A9C2-45C5E6BEB1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6603FA-DD71-4A72-9284-D203201607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6176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143000"/>
            <a:ext cx="7696080" cy="30492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2895480"/>
            <a:ext cx="7315200" cy="60984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ying Online Search Techniques t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ous-State 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t Davies, Andrew Ng, and Andrew Mo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: 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572000" y="54864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1981080"/>
            <a:ext cx="2438640" cy="25146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276720" y="1981080"/>
            <a:ext cx="2590560" cy="25146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324480" y="1981080"/>
            <a:ext cx="2057400" cy="243864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047600" y="5299200"/>
            <a:ext cx="409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pics: s=0, s=1, s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FC72F5-2F8C-49AA-899D-989F56C6BFE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hunting for a “goal state”, why not just do one big uniform-cost search from the current state all the way to the goa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side: don’t need a value fun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703A34-B9D9-44FC-98A6-1218197AFB7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wnside: too many possible trajectorie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81080" y="1981080"/>
            <a:ext cx="5486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84440" y="2784600"/>
            <a:ext cx="26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ken to its illog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re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C079AD-BAEB-4184-8C46-A429252F25C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lobal Search: Locale-Based Pru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row a technique from Robot Motion Plann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ition state space into a gr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search from least-cost trajectory entering any given partition; prune all oth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3809880"/>
            <a:ext cx="3200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892240" y="4876920"/>
            <a:ext cx="305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of search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1E2CAA-2720-4048-A156-843B92754BD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495320" y="1676160"/>
            <a:ext cx="396252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g advantages over classical discretization-based DP metho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all cells need be visited / represen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ell only visited o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model is accurate, the solution will work: one continuous trajectory; no “aliasing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14400" y="2743200"/>
            <a:ext cx="3200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446120" y="3581280"/>
            <a:ext cx="207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arch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lobal Search: Locale-Based Pru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10C434-FD1B-4589-87A1-956814DB696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ization-based algorith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8153280" cy="510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form continuous-state problem into discrete-state 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t methods of approxim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rrespond to different methods of making this transform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discrete-state problem with favorite dynamic programming method (e.g., modified policy iteration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discrete problem has a solution, DP will converge to i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executing in the actual continuous-state environment, agent maps continuous states to (possibly combinations of) discrete states and uses the discrete states’ value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33520" y="380880"/>
            <a:ext cx="7315200" cy="57150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914400" y="685440"/>
            <a:ext cx="7391520" cy="52578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DDE66A-138D-43A0-A1B6-5A3D7344FCC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 Grid-Based Discretizati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990720" y="4114800"/>
            <a:ext cx="2743200" cy="2514600"/>
            <a:chOff x="990720" y="4114800"/>
            <a:chExt cx="2743200" cy="2514600"/>
          </a:xfrm>
        </p:grpSpPr>
        <p:sp>
          <p:nvSpPr>
            <p:cNvPr id="175" name=""/>
            <p:cNvSpPr/>
            <p:nvPr/>
          </p:nvSpPr>
          <p:spPr>
            <a:xfrm>
              <a:off x="990720" y="4114800"/>
              <a:ext cx="2743200" cy="251460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62320" y="4114800"/>
              <a:ext cx="0" cy="2514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048120" y="4114800"/>
              <a:ext cx="0" cy="25113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676520" y="4114800"/>
              <a:ext cx="0" cy="2514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990720" y="533412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990720" y="472428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990720" y="594360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38240" y="43005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624040" y="429588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14880" y="43052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319560" y="49482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624040" y="49482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938240" y="49482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252440" y="495792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262160" y="43052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928880" y="55627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614680" y="555768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305160" y="55674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309840" y="62103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614680" y="62103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928880" y="62103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243080" y="621972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252440" y="5567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2014560" y="4572000"/>
              <a:ext cx="152280" cy="45720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2019240" y="4876560"/>
              <a:ext cx="457200" cy="152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2133360" y="5029200"/>
              <a:ext cx="533160" cy="15228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 flipV="1">
              <a:off x="2590560" y="4572000"/>
              <a:ext cx="75960" cy="45720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 flipV="1">
              <a:off x="1447560" y="5486040"/>
              <a:ext cx="533160" cy="15228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1981080" y="5486040"/>
              <a:ext cx="533520" cy="152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2695680" y="5186520"/>
              <a:ext cx="0" cy="45720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2514240" y="5638680"/>
              <a:ext cx="152280" cy="53352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5638680" y="4267080"/>
            <a:ext cx="2252520" cy="2076480"/>
            <a:chOff x="5638680" y="4267080"/>
            <a:chExt cx="2252520" cy="2076480"/>
          </a:xfrm>
        </p:grpSpPr>
        <p:sp>
          <p:nvSpPr>
            <p:cNvPr id="207" name=""/>
            <p:cNvSpPr/>
            <p:nvPr/>
          </p:nvSpPr>
          <p:spPr>
            <a:xfrm>
              <a:off x="6357600" y="42717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043400" y="426708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734240" y="42764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738920" y="49194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043400" y="4919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357600" y="4919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671800" y="492912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681520" y="42764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348240" y="55339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046640" y="552888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724520" y="55386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729200" y="61815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046640" y="61815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348240" y="61815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662440" y="619092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638680" y="55339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23" name=""/>
            <p:cNvCxnSpPr>
              <a:stCxn id="212" idx="0"/>
              <a:endCxn id="207" idx="4"/>
            </p:cNvCxnSpPr>
            <p:nvPr/>
          </p:nvCxnSpPr>
          <p:spPr>
            <a:xfrm flipV="1">
              <a:off x="6433560" y="4423680"/>
              <a:ext cx="1080" cy="49608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4" name=""/>
            <p:cNvCxnSpPr>
              <a:stCxn id="211" idx="0"/>
              <a:endCxn id="208" idx="4"/>
            </p:cNvCxnSpPr>
            <p:nvPr/>
          </p:nvCxnSpPr>
          <p:spPr>
            <a:xfrm flipV="1">
              <a:off x="7119360" y="4418640"/>
              <a:ext cx="1080" cy="500760"/>
            </a:xfrm>
            <a:prstGeom prst="curvedConnector2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5" name=""/>
            <p:cNvCxnSpPr>
              <a:stCxn id="215" idx="2"/>
              <a:endCxn id="222" idx="6"/>
            </p:cNvCxnSpPr>
            <p:nvPr/>
          </p:nvCxnSpPr>
          <p:spPr>
            <a:xfrm rot="10800000">
              <a:off x="5790240" y="5609160"/>
              <a:ext cx="558000" cy="108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6" name=""/>
            <p:cNvCxnSpPr>
              <a:stCxn id="215" idx="6"/>
              <a:endCxn id="216" idx="2"/>
            </p:cNvCxnSpPr>
            <p:nvPr/>
          </p:nvCxnSpPr>
          <p:spPr>
            <a:xfrm flipV="1">
              <a:off x="6500160" y="5604480"/>
              <a:ext cx="546480" cy="5400"/>
            </a:xfrm>
            <a:prstGeom prst="curvedConnector5">
              <a:avLst>
                <a:gd name="adj1" fmla="val 49967"/>
                <a:gd name="adj2" fmla="val 50000"/>
                <a:gd name="adj3" fmla="val 49967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7" name=""/>
            <p:cNvCxnSpPr>
              <a:stCxn id="212" idx="7"/>
              <a:endCxn id="211" idx="1"/>
            </p:cNvCxnSpPr>
            <p:nvPr/>
          </p:nvCxnSpPr>
          <p:spPr>
            <a:xfrm flipH="1" rot="16200000">
              <a:off x="6775920" y="4653360"/>
              <a:ext cx="2160" cy="578520"/>
            </a:xfrm>
            <a:prstGeom prst="curvedConnector5">
              <a:avLst>
                <a:gd name="adj1" fmla="val -9500000"/>
                <a:gd name="adj2" fmla="val 50000"/>
                <a:gd name="adj3" fmla="val -9500000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8" name=""/>
            <p:cNvCxnSpPr>
              <a:stCxn id="211" idx="3"/>
              <a:endCxn id="212" idx="5"/>
            </p:cNvCxnSpPr>
            <p:nvPr/>
          </p:nvCxnSpPr>
          <p:spPr>
            <a:xfrm rot="5400000">
              <a:off x="6775200" y="4761360"/>
              <a:ext cx="2160" cy="578520"/>
            </a:xfrm>
            <a:prstGeom prst="curvedConnector5">
              <a:avLst>
                <a:gd name="adj1" fmla="val 7880000"/>
                <a:gd name="adj2" fmla="val 50000"/>
                <a:gd name="adj3" fmla="val 7880000"/>
              </a:avLst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9" name=""/>
            <p:cNvCxnSpPr>
              <a:stCxn id="216" idx="0"/>
              <a:endCxn id="211" idx="4"/>
            </p:cNvCxnSpPr>
            <p:nvPr/>
          </p:nvCxnSpPr>
          <p:spPr>
            <a:xfrm flipV="1" rot="16200000">
              <a:off x="6892200" y="5298120"/>
              <a:ext cx="457920" cy="3960"/>
            </a:xfrm>
            <a:prstGeom prst="curvedConnector5">
              <a:avLst>
                <a:gd name="adj1" fmla="val 49960"/>
                <a:gd name="adj2" fmla="val 50000"/>
                <a:gd name="adj3" fmla="val 49960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30" name=""/>
            <p:cNvCxnSpPr>
              <a:stCxn id="216" idx="4"/>
              <a:endCxn id="219" idx="0"/>
            </p:cNvCxnSpPr>
            <p:nvPr/>
          </p:nvCxnSpPr>
          <p:spPr>
            <a:xfrm flipV="1" rot="10800000">
              <a:off x="7122240" y="5681160"/>
              <a:ext cx="1080" cy="50076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</p:grpSp>
      <p:sp>
        <p:nvSpPr>
          <p:cNvPr id="231" name=""/>
          <p:cNvSpPr/>
          <p:nvPr/>
        </p:nvSpPr>
        <p:spPr>
          <a:xfrm>
            <a:off x="4038480" y="4952880"/>
            <a:ext cx="1219320" cy="914400"/>
          </a:xfrm>
          <a:prstGeom prst="rightArrow">
            <a:avLst>
              <a:gd name="adj1" fmla="val 50000"/>
              <a:gd name="adj2" fmla="val 33337"/>
            </a:avLst>
          </a:prstGeom>
          <a:solidFill>
            <a:srgbClr val="00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46280" y="1641600"/>
            <a:ext cx="6873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eak state space into uniform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ose a “representative state” for each gri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possible action from each rep. state, integrate forward until you reach a different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approxim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a constant over each gri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998589-B016-4CED-849C-20DD286357E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linear Interpo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824040" y="2171880"/>
            <a:ext cx="2300040" cy="2147760"/>
            <a:chOff x="824040" y="2171880"/>
            <a:chExt cx="2300040" cy="2147760"/>
          </a:xfrm>
        </p:grpSpPr>
        <p:sp>
          <p:nvSpPr>
            <p:cNvPr id="235" name=""/>
            <p:cNvSpPr/>
            <p:nvPr/>
          </p:nvSpPr>
          <p:spPr>
            <a:xfrm>
              <a:off x="933480" y="2309760"/>
              <a:ext cx="2043000" cy="184464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955880" y="2309760"/>
              <a:ext cx="0" cy="1844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976480" y="2309760"/>
              <a:ext cx="0" cy="1844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027080" y="3232080"/>
              <a:ext cx="19494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027080" y="4154400"/>
              <a:ext cx="19494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30160" y="2201760"/>
              <a:ext cx="277920" cy="2779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820880" y="217980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41320" y="312120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814400" y="310212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846520" y="2171880"/>
              <a:ext cx="27756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840040" y="309096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24040" y="4038480"/>
              <a:ext cx="277560" cy="2764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814400" y="404352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840040" y="4035600"/>
              <a:ext cx="277920" cy="27756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V="1">
              <a:off x="933480" y="3785760"/>
              <a:ext cx="1393920" cy="368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 flipV="1">
              <a:off x="1955880" y="3231720"/>
              <a:ext cx="371520" cy="55404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V="1">
              <a:off x="2327400" y="3231720"/>
              <a:ext cx="649080" cy="55404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>
              <a:off x="1955880" y="3786120"/>
              <a:ext cx="371520" cy="36828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327400" y="3786120"/>
              <a:ext cx="649080" cy="36828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" name=""/>
          <p:cNvSpPr/>
          <p:nvPr/>
        </p:nvSpPr>
        <p:spPr>
          <a:xfrm>
            <a:off x="3633840" y="2479680"/>
            <a:ext cx="511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at end of trajectory is interpol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a weighted average of the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rounding corner points’ valu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568840" y="435924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559560" y="433692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580000" y="527832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553080" y="52592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585200" y="4329000"/>
            <a:ext cx="27756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578720" y="524844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562720" y="619596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553080" y="62006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578720" y="619272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4" name=""/>
          <p:cNvCxnSpPr>
            <a:stCxn id="261" idx="5"/>
            <a:endCxn id="262" idx="2"/>
          </p:cNvCxnSpPr>
          <p:nvPr/>
        </p:nvCxnSpPr>
        <p:spPr>
          <a:xfrm flipV="1">
            <a:off x="5799240" y="6338520"/>
            <a:ext cx="754560" cy="94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5" name=""/>
          <p:cNvCxnSpPr>
            <a:stCxn id="261" idx="0"/>
            <a:endCxn id="258" idx="3"/>
          </p:cNvCxnSpPr>
          <p:nvPr/>
        </p:nvCxnSpPr>
        <p:spPr>
          <a:xfrm flipV="1">
            <a:off x="5702400" y="5495040"/>
            <a:ext cx="892800" cy="7009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6" name=""/>
          <p:cNvCxnSpPr>
            <a:stCxn id="261" idx="7"/>
            <a:endCxn id="260" idx="3"/>
          </p:cNvCxnSpPr>
          <p:nvPr/>
        </p:nvCxnSpPr>
        <p:spPr>
          <a:xfrm flipV="1">
            <a:off x="5799240" y="5484240"/>
            <a:ext cx="1821600" cy="751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7" name=""/>
          <p:cNvCxnSpPr>
            <a:stCxn id="261" idx="6"/>
            <a:endCxn id="263" idx="0"/>
          </p:cNvCxnSpPr>
          <p:nvPr/>
        </p:nvCxnSpPr>
        <p:spPr>
          <a:xfrm flipV="1">
            <a:off x="5839920" y="6192000"/>
            <a:ext cx="1878840" cy="142200"/>
          </a:xfrm>
          <a:prstGeom prst="curvedConnector5">
            <a:avLst>
              <a:gd name="adj1" fmla="val 37849"/>
              <a:gd name="adj2" fmla="val 109390"/>
              <a:gd name="adj3" fmla="val 37849"/>
            </a:avLst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sp>
        <p:nvSpPr>
          <p:cNvPr id="268" name=""/>
          <p:cNvSpPr/>
          <p:nvPr/>
        </p:nvSpPr>
        <p:spPr>
          <a:xfrm>
            <a:off x="451800" y="4572000"/>
            <a:ext cx="4981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discrete problem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each state/action pair res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ossible successor state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transition probabilities eq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corresponding interpolation weigh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838080" y="228240"/>
            <a:ext cx="7543800" cy="61722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914040" y="380880"/>
            <a:ext cx="7620120" cy="60199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B02EA1-9153-4814-9B0B-32F995B4F64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x-Based Interpo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170000" y="1730520"/>
            <a:ext cx="2043000" cy="1844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192400" y="1730520"/>
            <a:ext cx="0" cy="1844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213000" y="1730520"/>
            <a:ext cx="0" cy="1844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263600" y="2652840"/>
            <a:ext cx="1949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263600" y="3575160"/>
            <a:ext cx="1949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066680" y="1622520"/>
            <a:ext cx="277920" cy="27756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057400" y="16002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077840" y="25416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050920" y="25225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083040" y="159228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076560" y="251136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060560" y="345924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050920" y="34639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076560" y="345600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1150920" y="1706400"/>
            <a:ext cx="2057400" cy="19051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1227240" y="1706400"/>
            <a:ext cx="990360" cy="990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2141640" y="2620800"/>
            <a:ext cx="1066680" cy="990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1150920" y="2925360"/>
            <a:ext cx="1295280" cy="685800"/>
          </a:xfrm>
          <a:prstGeom prst="line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H="1" flipV="1">
            <a:off x="2217240" y="2696760"/>
            <a:ext cx="228600" cy="22860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2446200" y="2696760"/>
            <a:ext cx="685800" cy="22860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2217240" y="2925720"/>
            <a:ext cx="228600" cy="60948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733920" y="1600200"/>
            <a:ext cx="45115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grid cell implicitly decomposed in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! simplexes based on the Kuh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end of trajectory is interpolated as weighted sum of the values at the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1) corner points of enclosing simple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discrete problem in which each state/action pair results in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1) possible successor states, with transition probabilities equal to corresponding interpolation weigh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041480" y="4424400"/>
            <a:ext cx="27756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031840" y="440208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052640" y="534348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025720" y="532440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057480" y="439416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051000" y="53132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035000" y="62611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025720" y="62658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051000" y="625788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3" name=""/>
          <p:cNvCxnSpPr>
            <a:stCxn id="300" idx="5"/>
            <a:endCxn id="301" idx="2"/>
          </p:cNvCxnSpPr>
          <p:nvPr/>
        </p:nvCxnSpPr>
        <p:spPr>
          <a:xfrm flipV="1">
            <a:off x="1271160" y="6403680"/>
            <a:ext cx="754920" cy="94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304" name=""/>
          <p:cNvCxnSpPr>
            <a:stCxn id="300" idx="0"/>
            <a:endCxn id="297" idx="3"/>
          </p:cNvCxnSpPr>
          <p:nvPr/>
        </p:nvCxnSpPr>
        <p:spPr>
          <a:xfrm flipV="1">
            <a:off x="1174680" y="5560200"/>
            <a:ext cx="892800" cy="7009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305" name=""/>
          <p:cNvCxnSpPr>
            <a:stCxn id="300" idx="7"/>
            <a:endCxn id="299" idx="3"/>
          </p:cNvCxnSpPr>
          <p:nvPr/>
        </p:nvCxnSpPr>
        <p:spPr>
          <a:xfrm flipV="1">
            <a:off x="1271520" y="5549400"/>
            <a:ext cx="1821600" cy="75168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sp>
        <p:nvSpPr>
          <p:cNvPr id="306" name=""/>
          <p:cNvSpPr/>
          <p:nvPr/>
        </p:nvSpPr>
        <p:spPr>
          <a:xfrm>
            <a:off x="1905120" y="3809880"/>
            <a:ext cx="53316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0A1685-4AC0-4474-AA5A-BCEAC22BC8E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useful, bu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ll computationally expensive; lots of cells vis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with fine partitioning of state space, pruning the wrong trajectories can lead to suboptimal solutions or complete fail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9" name="noVFGlobalSearch.grid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816120" y="1413000"/>
            <a:ext cx="418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 this pic to include goal stat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14AC6B-E573-4DE1-9B69-2B9671F8015A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6840" y="1828440"/>
            <a:ext cx="47242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can be in one of a finite number of discrete sta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gets to choose a discrete a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each time st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on affects state transition probabilities between current and next time ste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vironment punishes/rewards agent depending on current state and  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maximize long-term rewar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AT_WORK9" descr=""/>
          <p:cNvPicPr/>
          <p:nvPr/>
        </p:nvPicPr>
        <p:blipFill>
          <a:blip r:embed="rId1"/>
          <a:stretch/>
        </p:blipFill>
        <p:spPr>
          <a:xfrm>
            <a:off x="5562720" y="3200400"/>
            <a:ext cx="914400" cy="75708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e 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781680" y="1905120"/>
            <a:ext cx="1067040" cy="99036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543800" y="3200400"/>
            <a:ext cx="1143000" cy="12193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4" name=""/>
          <p:cNvCxnSpPr>
            <a:stCxn id="92" idx="3"/>
            <a:endCxn id="95" idx="7"/>
          </p:cNvCxnSpPr>
          <p:nvPr/>
        </p:nvCxnSpPr>
        <p:spPr>
          <a:xfrm flipH="1">
            <a:off x="6386040" y="2765520"/>
            <a:ext cx="551520" cy="35892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2" idx="5"/>
            <a:endCxn id="93" idx="1"/>
          </p:cNvCxnSpPr>
          <p:nvPr/>
        </p:nvCxnSpPr>
        <p:spPr>
          <a:xfrm>
            <a:off x="7693200" y="2765520"/>
            <a:ext cx="18000" cy="59868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7" name=""/>
          <p:cNvCxnSpPr>
            <a:stCxn id="93" idx="4"/>
            <a:endCxn id="93" idx="7"/>
          </p:cNvCxnSpPr>
          <p:nvPr/>
        </p:nvCxnSpPr>
        <p:spPr>
          <a:xfrm flipH="1" flipV="1" rot="5400000">
            <a:off x="7782480" y="3696120"/>
            <a:ext cx="1070640" cy="405360"/>
          </a:xfrm>
          <a:prstGeom prst="curvedConnector5">
            <a:avLst>
              <a:gd name="adj1" fmla="val -20013"/>
              <a:gd name="adj2" fmla="val 98755"/>
              <a:gd name="adj3" fmla="val -20013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6781680" y="4724280"/>
            <a:ext cx="1067040" cy="9907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" name=""/>
          <p:cNvCxnSpPr>
            <a:stCxn id="95" idx="5"/>
            <a:endCxn id="98" idx="1"/>
          </p:cNvCxnSpPr>
          <p:nvPr/>
        </p:nvCxnSpPr>
        <p:spPr>
          <a:xfrm>
            <a:off x="6386400" y="3962520"/>
            <a:ext cx="551520" cy="89280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8" idx="4"/>
            <a:endCxn id="98" idx="6"/>
          </p:cNvCxnSpPr>
          <p:nvPr/>
        </p:nvCxnSpPr>
        <p:spPr>
          <a:xfrm flipH="1" flipV="1" rot="5400000">
            <a:off x="7332840" y="5200200"/>
            <a:ext cx="510480" cy="548280"/>
          </a:xfrm>
          <a:prstGeom prst="curvedConnector5">
            <a:avLst>
              <a:gd name="adj1" fmla="val -41990"/>
              <a:gd name="adj2" fmla="val 69513"/>
              <a:gd name="adj3" fmla="val -41990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95" idx="6"/>
            <a:endCxn id="93" idx="2"/>
          </p:cNvCxnSpPr>
          <p:nvPr/>
        </p:nvCxnSpPr>
        <p:spPr>
          <a:xfrm>
            <a:off x="6567480" y="3543480"/>
            <a:ext cx="962640" cy="26712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95" idx="2"/>
            <a:endCxn id="95" idx="4"/>
          </p:cNvCxnSpPr>
          <p:nvPr/>
        </p:nvCxnSpPr>
        <p:spPr>
          <a:xfrm flipH="1" flipV="1" rot="10800000">
            <a:off x="5394960" y="3542400"/>
            <a:ext cx="586440" cy="586440"/>
          </a:xfrm>
          <a:prstGeom prst="curvedConnector5">
            <a:avLst>
              <a:gd name="adj1" fmla="val -36547"/>
              <a:gd name="adj2" fmla="val 68243"/>
              <a:gd name="adj3" fmla="val -36547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03" name=""/>
          <p:cNvGrpSpPr/>
          <p:nvPr/>
        </p:nvGrpSpPr>
        <p:grpSpPr>
          <a:xfrm>
            <a:off x="6934320" y="2057400"/>
            <a:ext cx="761400" cy="609120"/>
            <a:chOff x="6934320" y="2057400"/>
            <a:chExt cx="761400" cy="609120"/>
          </a:xfrm>
        </p:grpSpPr>
        <p:grpSp>
          <p:nvGrpSpPr>
            <p:cNvPr id="104" name=""/>
            <p:cNvGrpSpPr/>
            <p:nvPr/>
          </p:nvGrpSpPr>
          <p:grpSpPr>
            <a:xfrm>
              <a:off x="6934320" y="2057400"/>
              <a:ext cx="692640" cy="516960"/>
              <a:chOff x="6934320" y="2057400"/>
              <a:chExt cx="692640" cy="516960"/>
            </a:xfrm>
          </p:grpSpPr>
          <p:sp>
            <p:nvSpPr>
              <p:cNvPr id="105" name=""/>
              <p:cNvSpPr/>
              <p:nvPr/>
            </p:nvSpPr>
            <p:spPr>
              <a:xfrm rot="5376600">
                <a:off x="7108560" y="2193480"/>
                <a:ext cx="343440" cy="4154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9631" y="3168"/>
                      <a:pt x="17661" y="5080"/>
                      <a:pt x="17661" y="10800"/>
                    </a:cubicBezTo>
                    <a:cubicBezTo>
                      <a:pt x="17661" y="16520"/>
                      <a:pt x="19631" y="1843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cap="sq"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4320" y="2057400"/>
                <a:ext cx="692640" cy="343800"/>
              </a:xfrm>
              <a:prstGeom prst="diamond">
                <a:avLst/>
              </a:prstGeom>
              <a:solidFill>
                <a:srgbClr val="0000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7280280" y="2143440"/>
              <a:ext cx="415440" cy="343800"/>
            </a:xfrm>
            <a:custGeom>
              <a:avLst/>
              <a:gdLst/>
              <a:ahLst/>
              <a:rect l="l" t="t" r="r" b="b"/>
              <a:pathLst>
                <a:path w="392" h="336">
                  <a:moveTo>
                    <a:pt x="0" y="48"/>
                  </a:moveTo>
                  <a:cubicBezTo>
                    <a:pt x="140" y="24"/>
                    <a:pt x="280" y="0"/>
                    <a:pt x="336" y="48"/>
                  </a:cubicBezTo>
                  <a:cubicBezTo>
                    <a:pt x="392" y="96"/>
                    <a:pt x="336" y="256"/>
                    <a:pt x="336" y="336"/>
                  </a:cubicBezTo>
                </a:path>
              </a:pathLst>
            </a:custGeom>
            <a:noFill/>
            <a:ln cap="sq" w="19080">
              <a:solidFill>
                <a:srgbClr val="3366ff"/>
              </a:solidFill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7554600" y="2490840"/>
              <a:ext cx="66240" cy="1756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626960" y="2487600"/>
              <a:ext cx="0" cy="17172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626960" y="2487600"/>
              <a:ext cx="68760" cy="17172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7086600" y="518148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010280" y="480060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$$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410080" y="2971800"/>
            <a:ext cx="1143000" cy="1143000"/>
          </a:xfrm>
          <a:prstGeom prst="ellipse">
            <a:avLst/>
          </a:pr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7696080" y="3657600"/>
            <a:ext cx="838080" cy="609480"/>
            <a:chOff x="7696080" y="3657600"/>
            <a:chExt cx="838080" cy="609480"/>
          </a:xfrm>
        </p:grpSpPr>
        <p:grpSp>
          <p:nvGrpSpPr>
            <p:cNvPr id="114" name=""/>
            <p:cNvGrpSpPr/>
            <p:nvPr/>
          </p:nvGrpSpPr>
          <p:grpSpPr>
            <a:xfrm>
              <a:off x="8139240" y="3657600"/>
              <a:ext cx="345240" cy="609480"/>
              <a:chOff x="8139240" y="3657600"/>
              <a:chExt cx="345240" cy="609480"/>
            </a:xfrm>
          </p:grpSpPr>
          <p:sp>
            <p:nvSpPr>
              <p:cNvPr id="115" name=""/>
              <p:cNvSpPr/>
              <p:nvPr/>
            </p:nvSpPr>
            <p:spPr>
              <a:xfrm flipH="1" rot="5400000">
                <a:off x="8033760" y="3762720"/>
                <a:ext cx="457200" cy="246600"/>
              </a:xfrm>
              <a:prstGeom prst="parallelogram">
                <a:avLst>
                  <a:gd name="adj" fmla="val 83688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 rot="5400000">
                <a:off x="8058600" y="3814560"/>
                <a:ext cx="457200" cy="295920"/>
              </a:xfrm>
              <a:prstGeom prst="parallelogram">
                <a:avLst>
                  <a:gd name="adj" fmla="val 47745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5400000">
                <a:off x="8082720" y="3865680"/>
                <a:ext cx="457200" cy="345240"/>
              </a:xfrm>
              <a:prstGeom prst="parallelogram">
                <a:avLst>
                  <a:gd name="adj" fmla="val 20459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" name=""/>
            <p:cNvGrpSpPr/>
            <p:nvPr/>
          </p:nvGrpSpPr>
          <p:grpSpPr>
            <a:xfrm>
              <a:off x="7745400" y="3657600"/>
              <a:ext cx="345240" cy="609480"/>
              <a:chOff x="7745400" y="3657600"/>
              <a:chExt cx="345240" cy="609480"/>
            </a:xfrm>
          </p:grpSpPr>
          <p:sp>
            <p:nvSpPr>
              <p:cNvPr id="119" name=""/>
              <p:cNvSpPr/>
              <p:nvPr/>
            </p:nvSpPr>
            <p:spPr>
              <a:xfrm rot="16200000">
                <a:off x="7738200" y="3762720"/>
                <a:ext cx="457200" cy="246600"/>
              </a:xfrm>
              <a:prstGeom prst="parallelogram">
                <a:avLst>
                  <a:gd name="adj" fmla="val 83688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16200000">
                <a:off x="7714080" y="3814560"/>
                <a:ext cx="457200" cy="295920"/>
              </a:xfrm>
              <a:prstGeom prst="parallelogram">
                <a:avLst>
                  <a:gd name="adj" fmla="val 47745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16200000">
                <a:off x="7689240" y="3865680"/>
                <a:ext cx="457200" cy="345240"/>
              </a:xfrm>
              <a:prstGeom prst="parallelogram">
                <a:avLst>
                  <a:gd name="adj" fmla="val 20459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" name=""/>
            <p:cNvSpPr/>
            <p:nvPr/>
          </p:nvSpPr>
          <p:spPr>
            <a:xfrm rot="16200000">
              <a:off x="7639920" y="3865680"/>
              <a:ext cx="457200" cy="345240"/>
            </a:xfrm>
            <a:prstGeom prst="parallelogram">
              <a:avLst>
                <a:gd name="adj" fmla="val 20459"/>
              </a:avLst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8041320" y="3886200"/>
              <a:ext cx="147600" cy="380880"/>
            </a:xfrm>
            <a:prstGeom prst="rect">
              <a:avLst/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 rot="5400000">
              <a:off x="8132400" y="3865680"/>
              <a:ext cx="457200" cy="345240"/>
            </a:xfrm>
            <a:prstGeom prst="parallelogram">
              <a:avLst>
                <a:gd name="adj" fmla="val 20459"/>
              </a:avLst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7924680" y="327672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036AAA-792F-4351-A39E-078C1D22B8F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8305920" cy="23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st, use fast approximators to automatically learn relatively crud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, us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guide global search with locale-based pruning, much in the style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819520" y="3809880"/>
            <a:ext cx="3352680" cy="28195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74268A-19CD-456C-829F-4C9E6E356E7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5" name="crappyVFGlobalSearch.grid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316" name="goodVFGlobalSearch.grid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/>
          <p:nvPr/>
        </p:nvSpPr>
        <p:spPr>
          <a:xfrm>
            <a:off x="1072800" y="5562720"/>
            <a:ext cx="240408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ry approxim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7*7 simplex interpol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882320" y="5562720"/>
            <a:ext cx="260856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re accu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3*13 simplex interpol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895480" y="59436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973080" y="3317760"/>
            <a:ext cx="203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 this pi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B1FA96-00F7-44FB-92D6-09A2625D8DD7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742840" y="1905120"/>
            <a:ext cx="6248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-link planar robot acting in vertical plane under gra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actuated joint at elbow; unactuated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ngular positions &amp; their velocities (4-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raise tip at least one link’s height above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ctions: full torque clockwise / counterclockw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tarting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220840" y="3633840"/>
            <a:ext cx="181080" cy="2048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98560" y="4521240"/>
            <a:ext cx="120600" cy="1364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H="1">
            <a:off x="1858680" y="3770280"/>
            <a:ext cx="422280" cy="81936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H="1" flipV="1">
            <a:off x="1015920" y="4111560"/>
            <a:ext cx="843120" cy="47808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341440" y="3701880"/>
            <a:ext cx="0" cy="109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913400" y="417816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H="1">
            <a:off x="1436400" y="4589640"/>
            <a:ext cx="422280" cy="820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303560" y="441972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533520" y="2633760"/>
            <a:ext cx="2133360" cy="331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220400" y="20988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69D51A-EEE7-464E-AFB2-1388053D614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267080" y="198108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right pole attached to cart by unactuated 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: horizontal position of cart, angle of pole, and associated velocities (4-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s: accelerate left or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al configuration: cart moved, pole balan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with rand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-step cost quadratic in distance from goal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penalty if pole falls 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09480" y="4191120"/>
            <a:ext cx="35816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066680" y="3809880"/>
            <a:ext cx="1143000" cy="228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22400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83348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1600200" y="2666520"/>
            <a:ext cx="762120" cy="12193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523880" y="3809880"/>
            <a:ext cx="152640" cy="1526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1600200" y="25146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678320" y="266688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838080" y="4343400"/>
            <a:ext cx="0" cy="8380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600200" y="4343400"/>
            <a:ext cx="0" cy="3808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838080" y="4495680"/>
            <a:ext cx="762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052280" y="4460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971800" y="2666520"/>
            <a:ext cx="1143000" cy="1522800"/>
            <a:chOff x="2971800" y="2666520"/>
            <a:chExt cx="1143000" cy="1522800"/>
          </a:xfrm>
        </p:grpSpPr>
        <p:sp>
          <p:nvSpPr>
            <p:cNvPr id="348" name=""/>
            <p:cNvSpPr/>
            <p:nvPr/>
          </p:nvSpPr>
          <p:spPr>
            <a:xfrm>
              <a:off x="2971800" y="3809880"/>
              <a:ext cx="1143000" cy="228600"/>
            </a:xfrm>
            <a:prstGeom prst="rect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12912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73860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V="1">
              <a:off x="3505320" y="266652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429000" y="3809880"/>
              <a:ext cx="152640" cy="15264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3" name=""/>
          <p:cNvSpPr/>
          <p:nvPr/>
        </p:nvSpPr>
        <p:spPr>
          <a:xfrm>
            <a:off x="2541960" y="434340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al 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89DE79-ED8F-4DD3-A407-44B8856CF57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038120" y="1980720"/>
            <a:ext cx="44960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ck sliding on bumpy 2-d su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spatial variables &amp; their velocities (4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NW, NE, SW, or 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 in NW cor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6" name="beta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DD84D3-5005-49ED-A60A-0D5FC52818C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990720" y="49528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limits imposed on number of action switch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ion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380880" y="1828800"/>
          <a:ext cx="4327560" cy="30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4327560" cy="30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4648320" y="1905120"/>
          <a:ext cx="4038480" cy="29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905120"/>
                    <a:ext cx="40384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3" name=""/>
          <p:cNvSpPr/>
          <p:nvPr/>
        </p:nvSpPr>
        <p:spPr>
          <a:xfrm>
            <a:off x="2974320" y="1447920"/>
            <a:ext cx="31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38F02A-2B3A-4C61-91FD-D4417265B57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. number of action switches fixed at 2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228600" y="1828800"/>
          <a:ext cx="441972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28800"/>
                    <a:ext cx="441972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8" name=""/>
          <p:cNvGraphicFramePr/>
          <p:nvPr/>
        </p:nvGraphicFramePr>
        <p:xfrm>
          <a:off x="4572000" y="1828800"/>
          <a:ext cx="4191120" cy="283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828800"/>
                    <a:ext cx="419112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0" name=""/>
          <p:cNvSpPr/>
          <p:nvPr/>
        </p:nvSpPr>
        <p:spPr>
          <a:xfrm>
            <a:off x="3736440" y="1371600"/>
            <a:ext cx="16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184870-B01C-4A79-8943-E9ACA4A6B8E9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experiments: Hill-C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312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6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earch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 between grid elements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3" name=""/>
          <p:cNvGraphicFramePr/>
          <p:nvPr/>
        </p:nvGraphicFramePr>
        <p:xfrm>
          <a:off x="685800" y="1676520"/>
          <a:ext cx="7772400" cy="137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7772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46B7BD-9FC5-4BE7-B224-AFA871DCBCF3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 results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419112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prunes wrong trajec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search grid to 1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this doesn’t happ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nformed does near-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ed doesn’t: crude value function not optimi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7" name=""/>
          <p:cNvGraphicFramePr/>
          <p:nvPr/>
        </p:nvGraphicFramePr>
        <p:xfrm>
          <a:off x="685800" y="4572000"/>
          <a:ext cx="7772400" cy="135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572000"/>
                    <a:ext cx="777240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9" name=""/>
          <p:cNvSpPr/>
          <p:nvPr/>
        </p:nvSpPr>
        <p:spPr>
          <a:xfrm>
            <a:off x="5190480" y="2590920"/>
            <a:ext cx="312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iled search trajectory picture g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A2129B-1751-4BC3-9DB6-94F9C3F29882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Results: Four-d dom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371240" y="1676160"/>
            <a:ext cx="71629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value functions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 interpo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local searches between global search elemen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th 20, with at max. 1 action switch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rob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4; no action switch restriction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-Cart-Pole: same as Acrob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10; max. 1 action switch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2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A7DE53-0254-435A-82B1-FF542A29910D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lving Discrete RL Probl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ll-known methods exist for solving such problems with either known or unknown state transitions and rewar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 iteration, policy iteration, and modified policy iteration can be used with eith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prior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 learned models of the problem dynam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-free methods such as Q-learning and TD-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be used straightforwardly in either c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CA17AB-D01A-44AD-B9F9-EFA5CFA3E6C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3886200"/>
            <a:ext cx="792468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significantly improves solution quality, but increases CPU time by order of magn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takes even more time; poor solution quality indicates suboptimal trajectory pru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finds much better solutions in relatively little time.  Value function drastically reduces search, and better pruning leads to better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4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6" name=""/>
          <p:cNvSpPr/>
          <p:nvPr/>
        </p:nvSpPr>
        <p:spPr>
          <a:xfrm>
            <a:off x="1889280" y="3048120"/>
            <a:ext cx="574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LS: number of local searches performed to find pa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ween elements of global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AE12E8-F46B-4C8C-AD11-6E54F44712F2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pole often falls, incurring large penalties; overall poor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improves things a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finds better solutions than in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w grid cells in which pruning is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function not optimistic, so informed search solutions sub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reduces costs by order of magnitude with no increase in required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9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1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FC27EB-9F46-4139-AEF5-5BA5886A5773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3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5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almost useless, and incurs massive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decreases solution cost by 50%, but at even greater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decreases solution cost by factor of 4, at no increase in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AB3A16-8C5F-40D9-87A7-432FC1F4A4CB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y Example: Hill-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nearest-neighbor function approximator per possible action used to learn 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s sufficiently far away from nearest neighbor optimistically assumed to be absorbing to encourage expl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costs over first few hundred tria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2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1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: 1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F5A3F2-006D-4632-99CB-927C09A8A99F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 do arise when using learned mode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ccuracies in models may cause global searches to fail.  Not clear then if failure should be blamed on model inaccuracies or on insufficiently fine state space partiti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jectories found will be in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adaptive closed-loop contro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tunately, we will get new data with which to increase the accuracy of our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approximators must be fast and 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FE66EB-3AB3-45EB-9E64-E631F2600229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nues for Future Re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ons to nondeterministic syste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r-dimensional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function approximators for model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-resolution search gr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mistic value function gener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178E3E-B38A-4FFA-A291-52DDC517433D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alue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methods learn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alue fun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1311120" y="2286000"/>
                <a:ext cx="6459840" cy="80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V</m:t>
                        </m:r>
                      </m:e>
                      <m:sup/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lim>
                    </m:limLow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γ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X</m:t>
                        </m:r>
                      </m:sub>
                      <m:sup/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</m:nary>
                    <m:sSup>
                      <m:e>
                        <m:r>
                          <m:t xml:space="preserve">V</m:t>
                        </m:r>
                      </m:e>
                      <m:sup/>
                    </m:sSup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1" name=""/>
          <p:cNvSpPr/>
          <p:nvPr/>
        </p:nvSpPr>
        <p:spPr>
          <a:xfrm>
            <a:off x="1369080" y="3048120"/>
            <a:ext cx="702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the discounted total reward the agent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rue if it acts optimally starting at st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1840" y="4038480"/>
            <a:ext cx="788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, equivalently (sort of),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-function, Q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293480" y="4724280"/>
            <a:ext cx="729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,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the discounted total reward the agent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rue if it acts optimally after taking ac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stat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x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1DAD9B-58D5-4579-B628-FC6E1C9EF10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ous-State R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turally, we’d also like to solve RL problems with continuous sta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: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must be approxim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248520" y="2895480"/>
            <a:ext cx="2666880" cy="23623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llcar V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hillcar" descr=""/>
          <p:cNvPicPr/>
          <p:nvPr/>
        </p:nvPicPr>
        <p:blipFill>
          <a:blip r:embed="rId1"/>
          <a:stretch/>
        </p:blipFill>
        <p:spPr>
          <a:xfrm>
            <a:off x="228600" y="2895480"/>
            <a:ext cx="2819520" cy="2427480"/>
          </a:xfrm>
          <a:prstGeom prst="rect">
            <a:avLst/>
          </a:prstGeom>
          <a:ln w="0">
            <a:noFill/>
          </a:ln>
        </p:spPr>
      </p:pic>
      <p:pic>
        <p:nvPicPr>
          <p:cNvPr id="138" name="phase" descr=""/>
          <p:cNvPicPr/>
          <p:nvPr/>
        </p:nvPicPr>
        <p:blipFill>
          <a:blip r:embed="rId2"/>
          <a:stretch/>
        </p:blipFill>
        <p:spPr>
          <a:xfrm>
            <a:off x="3200400" y="2895480"/>
            <a:ext cx="2581200" cy="2438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DF1FB6-0F79-42BA-BF52-6A01DE7AB0D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roximate Value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403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tant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181480" y="3505320"/>
            <a:ext cx="282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x interpo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724280" y="2666880"/>
            <a:ext cx="3657600" cy="24386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6EA84B-3648-45DC-9503-A1E58224082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Agony of Continuous State Spa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useful value functions for continuous-state optimal control problems can be difficul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urate value functions can be very expensive to compute even in relatively low-dimensional spaces with perfectly accurate state transition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inaccuracies/inconsistencies in approximated value functions can cause simple controllers to fail misera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189FC5-C29C-4B2C-9F58-C602AF47F1C2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ing Value Functions With Online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 of modeling the value function accurately everywhere, we can perform online searches for good trajectories from the agent’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urrent pos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compensate for value function inaccura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examine two different types of sear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es in which the agent performs a finite-depth look-ahead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” searches in which the agent searches for trajectories all the way to goal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restrict our attention to discrete-action, discrete-time noiseless environ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FE3011-7612-470A-9B54-89648A60E2B4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ple idea borrowed from classical game-playing AI: limited-depth lookahe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 of all possibl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perform the first action in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at maximiz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ward accumulated ov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state at the end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also constrain search to trajectori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which action is switched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imes.  Considerably cheaper i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&lt;&lt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72DD10-25ED-47B3-8D61-411AA5416B5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9T05:01:20Z</dcterms:created>
  <dc:creator>Scott Davies</dc:creator>
  <dc:description/>
  <dc:language>en-US</dc:language>
  <cp:lastModifiedBy>scottd</cp:lastModifiedBy>
  <cp:lastPrinted>1998-07-19T03:30:17Z</cp:lastPrinted>
  <dcterms:modified xsi:type="dcterms:W3CDTF">1998-07-19T07:28:28Z</dcterms:modified>
  <cp:revision>59</cp:revision>
  <dc:subject/>
  <dc:title>Applying Online Search Techniques to  Reinforcement Learning</dc:title>
</cp:coreProperties>
</file>