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F5944-2C2E-4378-B41F-9972753830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 long enough that we can’t afford exhaustive sear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referred to as “evaluate func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“Maximize” as much as possible -- typically, find as good a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possible within a specified number of evaluations of f or CPU ti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Justin’s STAGE stuff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s between algorithms in this class lie largely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What sorts of models they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How P is updated after solutions are evalu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 how do we represent probability distributions over bitstring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, you can write an alternative factorization for any other ordering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ab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^n-1, actually, since the probabilities have to sum to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9985-7E02-4ED3-B10D-9D2A4FF18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BC7A-BAC9-41B5-A111-4767CB8E6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15F2-EEB0-4FC2-BF24-03B946D43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653C-3C86-4F88-BA2C-42EC4D67F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7FC63-49E3-4D2A-ACCA-3198DB7B2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0D66C-C0F3-46FE-A80F-ECC8C84F3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F5CF6-A453-4C2D-9B5B-B7ADA9B89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A3DB1-EEB7-414E-98C3-E63E2A5F1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70411-AFC2-434E-9A23-3489DE549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E068D-691D-4576-9A07-EAFD89B60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D42CE-B2FB-46C9-AF0A-B093FFEB9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6888-9463-4F4E-813A-7C8DCA971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1200F-F2AD-4279-8ECB-BB3F4F2BA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1701B-D8E4-4780-9957-4F5D6B37F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BE910-58BC-4F17-ADE8-EE3934AB0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EA468-EDA9-4302-9832-9B5E0D389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3C3A6-ACE8-43F4-94C7-6F45467C5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EDC5-0533-48C1-901F-B9F79BF22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48E8-728F-4228-837E-3A10BE067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133D-71AE-40F0-89E1-C9CD1DBED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6DE4-3D33-45C0-AB7A-670FCC093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2863-F6BD-43EF-ADE2-B0349436B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54CB-024B-4ADB-B5AC-D7B941D64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6AA2-D8C1-4EC3-9EEA-A58093744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C5459-4AB8-444A-AD42-B136C7B0E54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36FCD-4735-4495-AC19-A793CD59C78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Genetic Algorith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originated as tool for understanding GA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 to Bit-Based Simulated Crossover (BSC) [Syswerda, 1993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ener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scratch after every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K used to update P, weighted according to probabilities that a GA would have selected them for re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might normal GAs be bett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itly capture inter-bit dependencies with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because model is only implicit, crossover must be randomized.  Also, limited population size often leads to premature convergence based on noise in sa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used in [Baluja &amp; Caruana, 1995] to test how well GAs maintain multiple solutions before converg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input vect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its, and difficulty paramet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Peak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MAX(head(1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ail(0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+Bonu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d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lead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il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trail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nus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100 if (head(1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&g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(tail(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&g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 or             0 otherw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theoretically be easy for GA to handle with single-point cross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nast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rge-Scale PBIL Empirical Compari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bug-ugly photocopied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about automatically learning probability distributions in which at least some dependencies between variables are model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D and a set of allowable Bayesian networks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find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447920" y="5105520"/>
                <a:ext cx="6705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quations.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wuh hah hah hah!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2280" y="4571640"/>
            <a:ext cx="51818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t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value assigned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 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554040" y="1616040"/>
                <a:ext cx="414972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133720" y="2362320"/>
                <a:ext cx="47926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j</m:t>
                                </m:r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|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112760" y="3521160"/>
                <a:ext cx="691992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</m:e>
                    </m:d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6080040" y="4800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76920" y="4648320"/>
            <a:ext cx="42670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set of values assigned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empirical probability distribution exhibi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715000" y="4648320"/>
                <a:ext cx="434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mmm...Entrop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81788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: given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 network struct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optimal probabilities to use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just the probabilitie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.e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312920" y="1828800"/>
                <a:ext cx="631656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061080" y="1446840"/>
            <a:ext cx="27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271520" y="5029200"/>
                <a:ext cx="636912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3061080" y="4647240"/>
            <a:ext cx="26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057480" y="5791320"/>
                <a:ext cx="265284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tropy Calculation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066320" y="1371240"/>
            <a:ext cx="1676880" cy="1752840"/>
            <a:chOff x="1066320" y="1371240"/>
            <a:chExt cx="1676880" cy="1752840"/>
          </a:xfrm>
        </p:grpSpPr>
        <p:sp>
          <p:nvSpPr>
            <p:cNvPr id="203" name=""/>
            <p:cNvSpPr/>
            <p:nvPr/>
          </p:nvSpPr>
          <p:spPr>
            <a:xfrm>
              <a:off x="121932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752480" y="26668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28600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6" name=""/>
            <p:cNvCxnSpPr>
              <a:stCxn id="203" idx="5"/>
              <a:endCxn id="204" idx="1"/>
            </p:cNvCxnSpPr>
            <p:nvPr/>
          </p:nvCxnSpPr>
          <p:spPr>
            <a:xfrm>
              <a:off x="1609200" y="2157120"/>
              <a:ext cx="21060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7" name=""/>
            <p:cNvCxnSpPr>
              <a:stCxn id="205" idx="3"/>
              <a:endCxn id="204" idx="7"/>
            </p:cNvCxnSpPr>
            <p:nvPr/>
          </p:nvCxnSpPr>
          <p:spPr>
            <a:xfrm flipH="1">
              <a:off x="2142720" y="2157120"/>
              <a:ext cx="21024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8" name=""/>
            <p:cNvCxnSpPr>
              <a:endCxn id="203" idx="1"/>
            </p:cNvCxnSpPr>
            <p:nvPr/>
          </p:nvCxnSpPr>
          <p:spPr>
            <a:xfrm>
              <a:off x="1066320" y="1371600"/>
              <a:ext cx="219960" cy="434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9" name=""/>
            <p:cNvCxnSpPr>
              <a:endCxn id="203" idx="7"/>
            </p:cNvCxnSpPr>
            <p:nvPr/>
          </p:nvCxnSpPr>
          <p:spPr>
            <a:xfrm flipH="1">
              <a:off x="1608840" y="1447920"/>
              <a:ext cx="219960" cy="357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0" name=""/>
            <p:cNvCxnSpPr/>
            <p:nvPr/>
          </p:nvCxnSpPr>
          <p:spPr>
            <a:xfrm flipH="1">
              <a:off x="2513880" y="1371240"/>
              <a:ext cx="153000" cy="367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11" name=""/>
          <p:cNvSpPr/>
          <p:nvPr/>
        </p:nvSpPr>
        <p:spPr>
          <a:xfrm>
            <a:off x="390240" y="3097800"/>
            <a:ext cx="3404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contribution to sco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355760" y="609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733920" y="1600200"/>
            <a:ext cx="4572000" cy="3886200"/>
            <a:chOff x="3733920" y="1600200"/>
            <a:chExt cx="4572000" cy="3886200"/>
          </a:xfrm>
        </p:grpSpPr>
        <p:graphicFrame>
          <p:nvGraphicFramePr>
            <p:cNvPr id="214" name=""/>
            <p:cNvGraphicFramePr/>
            <p:nvPr/>
          </p:nvGraphicFramePr>
          <p:xfrm>
            <a:off x="3733920" y="1600200"/>
            <a:ext cx="4572000" cy="38862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33920" y="1600200"/>
                      <a:ext cx="4572000" cy="388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16" name=""/>
            <p:cNvGrpSpPr/>
            <p:nvPr/>
          </p:nvGrpSpPr>
          <p:grpSpPr>
            <a:xfrm>
              <a:off x="4689000" y="2261520"/>
              <a:ext cx="3412080" cy="3086640"/>
              <a:chOff x="4689000" y="2261520"/>
              <a:chExt cx="3412080" cy="3086640"/>
            </a:xfrm>
          </p:grpSpPr>
          <p:sp>
            <p:nvSpPr>
              <p:cNvPr id="217" name=""/>
              <p:cNvSpPr/>
              <p:nvPr/>
            </p:nvSpPr>
            <p:spPr>
              <a:xfrm flipV="1">
                <a:off x="558396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583960" y="2261520"/>
                <a:ext cx="2516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15032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4689000" y="2261520"/>
                <a:ext cx="894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68900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689000" y="5348160"/>
                <a:ext cx="3412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10108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4689000" y="306972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689000" y="380484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689000" y="461340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26640" y="2261520"/>
              <a:ext cx="0" cy="308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6857280" y="5408280"/>
            <a:ext cx="143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27160" y="449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914400" y="4114800"/>
                <a:ext cx="317808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914400" y="4952880"/>
                <a:ext cx="31510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380520" y="5942520"/>
            <a:ext cx="422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74880" y="3505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85800" y="3581280"/>
                <a:ext cx="25779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238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5" name=""/>
            <p:cNvCxnSpPr>
              <a:stCxn id="238" idx="4"/>
              <a:endCxn id="239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6" name=""/>
            <p:cNvCxnSpPr>
              <a:stCxn id="238" idx="3"/>
              <a:endCxn id="240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7" name=""/>
            <p:cNvCxnSpPr>
              <a:stCxn id="238" idx="5"/>
              <a:endCxn id="241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8" name=""/>
            <p:cNvCxnSpPr>
              <a:stCxn id="240" idx="3"/>
              <a:endCxn id="244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9" name=""/>
            <p:cNvCxnSpPr>
              <a:stCxn id="240" idx="5"/>
              <a:endCxn id="243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2" name=""/>
            <p:cNvCxnSpPr>
              <a:stCxn id="241" idx="4"/>
              <a:endCxn id="250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41" idx="5"/>
              <a:endCxn id="251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4" name=""/>
            <p:cNvCxnSpPr>
              <a:stCxn id="244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5" name=""/>
            <p:cNvCxnSpPr>
              <a:stCxn id="242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0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1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8" name=""/>
            <p:cNvCxnSpPr>
              <a:stCxn id="242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9" name=""/>
            <p:cNvCxnSpPr>
              <a:stCxn id="251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43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43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2" name=""/>
            <p:cNvCxnSpPr>
              <a:stCxn id="239" idx="4"/>
              <a:endCxn id="242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63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255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with an arbitrary root no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des have been added to the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all pairs of nod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already been added to the tree bu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not, find the pair with the larg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the tree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its par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D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6324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based Optimization vs. MIM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optimization algorithm inspired by Mutual Information Maximization for Input Clustering (MIMIC) [De Bonet, et al.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ed chain-shaped networks rather than tree-shaped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set: best N% of all bitstrings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: dataset has simple, well-defined interpre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have to remember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seems to converge too quickly on some larger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860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343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86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71" idx="6"/>
            <a:endCxn id="273" idx="2"/>
          </p:cNvCxnSpPr>
          <p:nvPr/>
        </p:nvCxnSpPr>
        <p:spPr>
          <a:xfrm>
            <a:off x="2833200" y="4000320"/>
            <a:ext cx="5058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73" idx="6"/>
            <a:endCxn id="272" idx="2"/>
          </p:cNvCxnSpPr>
          <p:nvPr/>
        </p:nvCxnSpPr>
        <p:spPr>
          <a:xfrm>
            <a:off x="3900600" y="4000320"/>
            <a:ext cx="4291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72" idx="6"/>
            <a:endCxn id="274" idx="2"/>
          </p:cNvCxnSpPr>
          <p:nvPr/>
        </p:nvCxnSpPr>
        <p:spPr>
          <a:xfrm>
            <a:off x="4890960" y="4000320"/>
            <a:ext cx="5814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8" name=""/>
          <p:cNvSpPr/>
          <p:nvPr/>
        </p:nvSpPr>
        <p:spPr>
          <a:xfrm>
            <a:off x="66294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467480" y="3962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0866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74" idx="6"/>
            <a:endCxn id="278" idx="2"/>
          </p:cNvCxnSpPr>
          <p:nvPr/>
        </p:nvCxnSpPr>
        <p:spPr>
          <a:xfrm>
            <a:off x="6033960" y="4000320"/>
            <a:ext cx="581400" cy="38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MIC dataset vs. Exp. Decay datas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skank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otocopy or PostScript i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aks problem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script/photcop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Max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t another 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eckerboard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near Equation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ucky photocopy may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coring Function for Arbitrary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her than restrict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rectly, add penalty term to scoring function to limit total network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priors favoring simpler network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vely, lends itself nicely to MDL interpre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 of penalty controls exploration/exploitation trade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295280" y="4114800"/>
            <a:ext cx="6307560" cy="917640"/>
            <a:chOff x="1295280" y="4114800"/>
            <a:chExt cx="6307560" cy="917640"/>
          </a:xfrm>
        </p:grpSpPr>
        <mc:AlternateContent>
          <mc:Choice xmlns:a14="http://schemas.microsoft.com/office/drawing/2010/main" Requires="a14">
            <p:sp>
              <p:nvSpPr>
                <p:cNvPr id="299" name=""/>
                <p:cNvSpPr txBox="1"/>
                <p:nvPr/>
              </p:nvSpPr>
              <p:spPr>
                <a:xfrm>
                  <a:off x="1295280" y="4114800"/>
                  <a:ext cx="5029200" cy="91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B</m:t>
                      </m:r>
                      <m:r>
                        <m:t xml:space="preserve">|</m:t>
                      </m:r>
                      <m:r>
                        <m:t xml:space="preserve">D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H</m:t>
                          </m:r>
                          <m:r>
                            <m:t xml:space="preserve">'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Π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00" name=""/>
            <p:cNvSpPr/>
            <p:nvPr/>
          </p:nvSpPr>
          <p:spPr>
            <a:xfrm>
              <a:off x="6483240" y="4266360"/>
              <a:ext cx="111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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3079800" y="5180760"/>
            <a:ext cx="261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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nalty fa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21560" y="5760360"/>
            <a:ext cx="451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: number of parameter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tting Computational Co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cache contingency tables for all possible one-arc changes to network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have to recompute scores associated with at most two nodes after arc added, removed, or rever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ents having to slog through the entire dataset recomputing score changes for every possible arc change when dataset chan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kiss memory goodb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 few network structure changes required after each iteration since dataset hasn’t changed much (one or two structural changes on averag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olution of Network Complex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holder for parity-based network complexity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tion Cancel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ize magnitudes of cumulative sum of discretized numeric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presented with standard binary encod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609480" y="4191120"/>
          <a:ext cx="7842240" cy="200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191120"/>
                    <a:ext cx="7842240" cy="2003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380880" y="3048120"/>
                <a:ext cx="2057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914400" y="3505320"/>
                <a:ext cx="990720" cy="32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3657600" y="2971800"/>
                <a:ext cx="8380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2666880" y="3505320"/>
                <a:ext cx="30481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for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6324480" y="2895480"/>
                <a:ext cx="205740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000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8" name=""/>
          <p:cNvSpPr/>
          <p:nvPr/>
        </p:nvSpPr>
        <p:spPr>
          <a:xfrm>
            <a:off x="221760" y="6171120"/>
            <a:ext cx="87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value over 50 runs of best solution found in 2000 gen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: Empirical Results 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ificantly better on “Summation Cancellation”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% reduction in error on System of Linear Equation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e.g. small Knapsack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despite efficiency hacks, howe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performan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gen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&amp; Davies, 1997b]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the distribution represented b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 a hillclimbing run starting from single best bitstring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M bitstrings in D with the best bitstrings found during the hillclimbing ru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, cont’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irical tests performed with stochastic hillclimbing algorithm that allows at most PATIENCE moves to points of equal value before resta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 for graphs showing all evaluations in TSP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mpirical Comparison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ugly table goes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uses very simple probability distribution from which new solutions are generated, yet works surprisingly 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 using tree-based distributions seems to work even better, though at significantly more computational exp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sophisticated networks: past the point of diminishing marginal returns?  “Future research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tree-based algorithm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ization in real-valued state spaces. What sorts of PDF representations might be usefu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ussia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rnel-based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erarchical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knowledg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g Baker, Justin Boyan, Lonnie Chrisman, Greg Cooper, Geoff Gordon, Andrew Moore, …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ty Distributions Over Bitstr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take one of the values {0, 1}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length of the bit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factorize an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it by b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the above formula is just another way of representing a big lookup table with one entry for each of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ssible bitstr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viously too many parameters to estimate from limited data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ing Independencies wit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representation of probability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 is a ver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’s probability distribution is conditioned only on its parents in the directed acyclic graph (“dag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2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86160" y="373392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24040" y="4495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71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52640" y="5638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41560" y="3580560"/>
            <a:ext cx="156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an on F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68040" y="4418640"/>
            <a:ext cx="130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e Al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32600" y="6095160"/>
            <a:ext cx="12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r B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14" idx="3"/>
            <a:endCxn id="115" idx="7"/>
          </p:cNvCxnSpPr>
          <p:nvPr/>
        </p:nvCxnSpPr>
        <p:spPr>
          <a:xfrm flipH="1">
            <a:off x="3077640" y="4205160"/>
            <a:ext cx="38664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14" idx="5"/>
            <a:endCxn id="116" idx="1"/>
          </p:cNvCxnSpPr>
          <p:nvPr/>
        </p:nvCxnSpPr>
        <p:spPr>
          <a:xfrm>
            <a:off x="3840120" y="4205160"/>
            <a:ext cx="31032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15" idx="4"/>
            <a:endCxn id="117" idx="0"/>
          </p:cNvCxnSpPr>
          <p:nvPr/>
        </p:nvCxnSpPr>
        <p:spPr>
          <a:xfrm>
            <a:off x="2890440" y="5045040"/>
            <a:ext cx="229320" cy="580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3" idx="5"/>
            <a:endCxn id="117" idx="1"/>
          </p:cNvCxnSpPr>
          <p:nvPr/>
        </p:nvCxnSpPr>
        <p:spPr>
          <a:xfrm>
            <a:off x="1096560" y="4967280"/>
            <a:ext cx="183420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6" idx="3"/>
            <a:endCxn id="117" idx="7"/>
          </p:cNvCxnSpPr>
          <p:nvPr/>
        </p:nvCxnSpPr>
        <p:spPr>
          <a:xfrm flipH="1">
            <a:off x="3306240" y="4967280"/>
            <a:ext cx="84384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1369800" y="3808800"/>
            <a:ext cx="160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ce C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ck Near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7560" y="4951800"/>
            <a:ext cx="132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i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or 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55960" y="3654720"/>
            <a:ext cx="203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904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” for Bitstring Optimiz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981080" y="2106360"/>
            <a:ext cx="4800240" cy="1496520"/>
            <a:chOff x="1981080" y="2106360"/>
            <a:chExt cx="4800240" cy="1496520"/>
          </a:xfrm>
        </p:grpSpPr>
        <p:sp>
          <p:nvSpPr>
            <p:cNvPr id="132" name=""/>
            <p:cNvSpPr/>
            <p:nvPr/>
          </p:nvSpPr>
          <p:spPr>
            <a:xfrm>
              <a:off x="198108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8116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8124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81360" y="254088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>
              <a:stCxn id="132" idx="6"/>
              <a:endCxn id="133" idx="2"/>
            </p:cNvCxnSpPr>
            <p:nvPr/>
          </p:nvCxnSpPr>
          <p:spPr>
            <a:xfrm>
              <a:off x="239364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33" idx="6"/>
              <a:endCxn id="134" idx="2"/>
            </p:cNvCxnSpPr>
            <p:nvPr/>
          </p:nvCxnSpPr>
          <p:spPr>
            <a:xfrm>
              <a:off x="339372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8" name=""/>
            <p:cNvCxnSpPr>
              <a:stCxn id="132" idx="5"/>
              <a:endCxn id="134" idx="3"/>
            </p:cNvCxnSpPr>
            <p:nvPr/>
          </p:nvCxnSpPr>
          <p:spPr>
            <a:xfrm flipH="1" rot="16200000">
              <a:off x="3180240" y="2021760"/>
              <a:ext cx="2160" cy="1717200"/>
            </a:xfrm>
            <a:prstGeom prst="curvedConnector5">
              <a:avLst>
                <a:gd name="adj1" fmla="val 17700000"/>
                <a:gd name="adj2" fmla="val 49989"/>
                <a:gd name="adj3" fmla="val 177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9" name=""/>
            <p:cNvCxnSpPr>
              <a:stCxn id="134" idx="6"/>
            </p:cNvCxnSpPr>
            <p:nvPr/>
          </p:nvCxnSpPr>
          <p:spPr>
            <a:xfrm>
              <a:off x="4393800" y="2726280"/>
              <a:ext cx="321120" cy="14400"/>
            </a:xfrm>
            <a:prstGeom prst="curvedConnector5">
              <a:avLst>
                <a:gd name="adj1" fmla="val 48035"/>
                <a:gd name="adj2" fmla="val 48717"/>
                <a:gd name="adj3" fmla="val 48035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0" name=""/>
            <p:cNvCxnSpPr>
              <a:stCxn id="132" idx="3"/>
              <a:endCxn id="135" idx="4"/>
            </p:cNvCxnSpPr>
            <p:nvPr/>
          </p:nvCxnSpPr>
          <p:spPr>
            <a:xfrm flipH="1" rot="16200000">
              <a:off x="4272840" y="644400"/>
              <a:ext cx="72360" cy="4542480"/>
            </a:xfrm>
            <a:prstGeom prst="curvedConnector5">
              <a:avLst>
                <a:gd name="adj1" fmla="val 1004500"/>
                <a:gd name="adj2" fmla="val 49996"/>
                <a:gd name="adj3" fmla="val 10045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1" name=""/>
            <p:cNvCxnSpPr>
              <a:endCxn id="135" idx="2"/>
            </p:cNvCxnSpPr>
            <p:nvPr/>
          </p:nvCxnSpPr>
          <p:spPr>
            <a:xfrm>
              <a:off x="5780880" y="2739600"/>
              <a:ext cx="5878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2" name=""/>
            <p:cNvCxnSpPr>
              <a:stCxn id="133" idx="0"/>
              <a:endCxn id="135" idx="0"/>
            </p:cNvCxnSpPr>
            <p:nvPr/>
          </p:nvCxnSpPr>
          <p:spPr>
            <a:xfrm flipH="1" rot="16200000">
              <a:off x="4874040" y="821160"/>
              <a:ext cx="14400" cy="3400920"/>
            </a:xfrm>
            <a:prstGeom prst="curvedConnector5">
              <a:avLst>
                <a:gd name="adj1" fmla="val -2907692"/>
                <a:gd name="adj2" fmla="val 50000"/>
                <a:gd name="adj3" fmla="val -2907692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3" name=""/>
            <p:cNvCxnSpPr>
              <a:stCxn id="134" idx="5"/>
              <a:endCxn id="135" idx="3"/>
            </p:cNvCxnSpPr>
            <p:nvPr/>
          </p:nvCxnSpPr>
          <p:spPr>
            <a:xfrm flipH="1" rot="16200000">
              <a:off x="5374440" y="1827720"/>
              <a:ext cx="14400" cy="2117520"/>
            </a:xfrm>
            <a:prstGeom prst="curvedConnector5">
              <a:avLst>
                <a:gd name="adj1" fmla="val 1869230"/>
                <a:gd name="adj2" fmla="val 49991"/>
                <a:gd name="adj3" fmla="val 186923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4" name=""/>
            <p:cNvCxnSpPr>
              <a:stCxn id="145" idx="3"/>
              <a:endCxn id="135" idx="1"/>
            </p:cNvCxnSpPr>
            <p:nvPr/>
          </p:nvCxnSpPr>
          <p:spPr>
            <a:xfrm flipH="1" rot="10800000">
              <a:off x="5793120" y="2585520"/>
              <a:ext cx="645840" cy="199800"/>
            </a:xfrm>
            <a:prstGeom prst="curvedConnector5">
              <a:avLst>
                <a:gd name="adj1" fmla="val -5131"/>
                <a:gd name="adj2" fmla="val 57581"/>
                <a:gd name="adj3" fmla="val -5131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5" name=""/>
            <p:cNvSpPr/>
            <p:nvPr/>
          </p:nvSpPr>
          <p:spPr>
            <a:xfrm>
              <a:off x="4714560" y="2553480"/>
              <a:ext cx="1066680" cy="4644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8132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48080" y="2752560"/>
              <a:ext cx="6624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51448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9" name=""/>
            <p:cNvCxnSpPr>
              <a:stCxn id="132" idx="4"/>
              <a:endCxn id="145" idx="2"/>
            </p:cNvCxnSpPr>
            <p:nvPr/>
          </p:nvCxnSpPr>
          <p:spPr>
            <a:xfrm flipH="1" rot="16200000">
              <a:off x="3666960" y="1450440"/>
              <a:ext cx="93240" cy="3067560"/>
            </a:xfrm>
            <a:prstGeom prst="curvedConnector5">
              <a:avLst>
                <a:gd name="adj1" fmla="val 410077"/>
                <a:gd name="adj2" fmla="val 50000"/>
                <a:gd name="adj3" fmla="val 410077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0" name=""/>
            <p:cNvCxnSpPr>
              <a:stCxn id="133" idx="7"/>
              <a:endCxn id="145" idx="0"/>
            </p:cNvCxnSpPr>
            <p:nvPr/>
          </p:nvCxnSpPr>
          <p:spPr>
            <a:xfrm flipH="1" flipV="1" rot="5400000">
              <a:off x="4269600" y="1593360"/>
              <a:ext cx="31680" cy="1926000"/>
            </a:xfrm>
            <a:prstGeom prst="curvedConnector5">
              <a:avLst>
                <a:gd name="adj1" fmla="val 778160"/>
                <a:gd name="adj2" fmla="val 49990"/>
                <a:gd name="adj3" fmla="val 77816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51" name=""/>
          <p:cNvSpPr/>
          <p:nvPr/>
        </p:nvSpPr>
        <p:spPr>
          <a:xfrm>
            <a:off x="457200" y="3886200"/>
            <a:ext cx="8178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uck.  Let’s just assume all the bits are independent inst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r now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286000" y="5486400"/>
            <a:ext cx="4343040" cy="380880"/>
            <a:chOff x="2286000" y="5486400"/>
            <a:chExt cx="4343040" cy="380880"/>
          </a:xfrm>
        </p:grpSpPr>
        <p:sp>
          <p:nvSpPr>
            <p:cNvPr id="153" name=""/>
            <p:cNvSpPr/>
            <p:nvPr/>
          </p:nvSpPr>
          <p:spPr>
            <a:xfrm>
              <a:off x="228600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9068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9572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267240" y="550764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4879800" y="5486400"/>
              <a:ext cx="964800" cy="380880"/>
              <a:chOff x="4879800" y="5486400"/>
              <a:chExt cx="964800" cy="380880"/>
            </a:xfrm>
          </p:grpSpPr>
          <p:sp>
            <p:nvSpPr>
              <p:cNvPr id="158" name=""/>
              <p:cNvSpPr/>
              <p:nvPr/>
            </p:nvSpPr>
            <p:spPr>
              <a:xfrm>
                <a:off x="4879800" y="5486400"/>
                <a:ext cx="964800" cy="38088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1206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30172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4824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2" name=""/>
          <p:cNvSpPr/>
          <p:nvPr/>
        </p:nvSpPr>
        <p:spPr>
          <a:xfrm>
            <a:off x="2819520" y="6019920"/>
            <a:ext cx="3200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hhh.  Much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52480" y="4876920"/>
            <a:ext cx="5257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independent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follow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981080" y="48006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5791320" y="47026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048120" y="5105520"/>
                <a:ext cx="213336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5791320" y="50677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14960" y="508860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5410080"/>
            <a:ext cx="8178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lvl="2" marL="799920" indent="-159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onally, als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ilarly with the bitwise complement of the worst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19960" indent="-159840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Discrete Learning Autom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valent to a team of Discrete Learning Automata, one automata per bit. [Thathachar &amp; Sastry, 198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automata choose actions independently, but receive common reinforcement signal dependent on all their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update rule equivalent to linear reward-inaction algorithm [Hilgard &amp; Bower, 1975] with “success” defined as “best in the bunc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Discrete Learning Automata typically used previously in problems with few variables but noisy evaluation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d</cp:lastModifiedBy>
  <dcterms:modified xsi:type="dcterms:W3CDTF">1997-11-18T18:55:03Z</dcterms:modified>
  <cp:revision>86</cp:revision>
  <dc:subject/>
  <dc:title>No Slide Title</dc:title>
</cp:coreProperties>
</file>