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9EBD-3DCB-4DBE-90A7-CD3DA6AC7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robably worthwhile to check the nrdp-executable-guidelines.t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se parameters may have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chart showing the running  time of some of the differ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s.  It should only be used to judge order of magnitud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imes are not very exact.  For the value iteration metho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retization times are inclu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his is plotted on a logarithmic sc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QR wins big on this problem.  It represents the cart at the goal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pendulum slightly perturbed from its resting position.  Th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clean solution.  The graph can be generat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dp cartpole lqrcon x0 1 -0.5 0 0 graph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 pole provide a rather inelegant solution to this problem.  The com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duce this graph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dp cartpole vi statediscmeth simplex statediscres 15 actiondiscmeth 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discres 9 x0 1 -0.5 0 0 graph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QR fails miserably on this nonlinear domain.  It repeats thi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ly, never actually able to get the car to stop at the right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hill.  This graph is generate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dp caronhill lqrcon maxstepsperiteration 500 graph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 Iteration easily controls this nonlinear problem.  The comman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 this graph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dp caronhill  vi statediscmeth simplex statediscres 15 actiondiscmeth 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discres 9 aicon graph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9D33-1FF0-4D5E-9BD2-EBCA4EC9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C786-0E5D-4D92-9378-D175D63C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8E58-502E-435D-8B31-BF0ECDA2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A30-6C15-4BB3-A475-1DD30DC0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0039-6582-4A0D-AF0D-790BFA32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A287-DABA-44B2-8FC1-6FF8A8E2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6EF1-C989-4FC5-B464-CD973617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B566-E43F-420A-9C29-97AF64A8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98F4-24A8-4AF0-9214-9395C496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1D4E-3162-4DF1-A490-B0795F19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D600-1182-46B5-81B5-DF6365D7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088D-38E9-41BC-ABDE-5233D077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F9B8-64D4-4B66-9A0E-D4340EA4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23AC-7880-4B10-9E96-6B92F128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28CD-BB6D-4A38-8977-DFB1E536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3155-2AF9-45FE-BE8D-6429BB75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08FB-23C5-4A6D-B9CC-E3647A4F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28E3-52A9-4617-BD5C-1C273320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D4F-F21F-411D-BAE1-B5A38425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356C-588F-44B3-AA0E-D3999833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91E2-7203-406C-A890-E9F95732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6D1-FADD-4D42-8377-A06DB294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5310-E168-490A-A7BF-952A52D8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1BF-AB6D-4935-90ED-C0A478D6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A35B-F4E1-4829-9324-6447531397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33A8-51B0-4943-94F4-0718D4B8EE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inear Quadratic Controll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tegrating Classical Optimal Control into the NRDP Frame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o Use The LQR Controll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45800" y="1752480"/>
            <a:ext cx="8503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sage: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qrcon LQRNumSamples LQRNumIterations xtarget utarge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QRNumSamples: The number of samples used to lineariz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he state and action spaces. Default: 2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QRNumIterations: The maximum number of backstep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lowed in calculating the control laws. Default: 2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xtarget: The final state target.  The default is a correctly siz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zero matrix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target: The final action target.  The default is a correctly siz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zero matrix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unning Time Analys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1828800"/>
          <a:ext cx="7848720" cy="472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28800"/>
                    <a:ext cx="78487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QR on the Cart Pole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0" name="lqrcp" descr=""/>
          <p:cNvPicPr/>
          <p:nvPr/>
        </p:nvPicPr>
        <p:blipFill>
          <a:blip r:embed="rId2"/>
          <a:srcRect l="3921" t="12121" r="11110" b="21212"/>
          <a:stretch/>
        </p:blipFill>
        <p:spPr>
          <a:xfrm>
            <a:off x="2286000" y="1828800"/>
            <a:ext cx="4952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alue Iteration on the Cart Pole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2" name="vicp" descr=""/>
          <p:cNvPicPr/>
          <p:nvPr/>
        </p:nvPicPr>
        <p:blipFill>
          <a:blip r:embed="rId2"/>
          <a:srcRect l="3921" t="12121" r="9807" b="21212"/>
          <a:stretch/>
        </p:blipFill>
        <p:spPr>
          <a:xfrm>
            <a:off x="2286000" y="182880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QR on the Car On Hill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4" name="lqrhill" descr=""/>
          <p:cNvPicPr/>
          <p:nvPr/>
        </p:nvPicPr>
        <p:blipFill>
          <a:blip r:embed="rId2"/>
          <a:srcRect l="2612" t="12121" r="9807" b="21212"/>
          <a:stretch/>
        </p:blipFill>
        <p:spPr>
          <a:xfrm>
            <a:off x="2057400" y="1828800"/>
            <a:ext cx="5105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alue Iteration on the Car On Hill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6" name="vihill" descr=""/>
          <p:cNvPicPr/>
          <p:nvPr/>
        </p:nvPicPr>
        <p:blipFill>
          <a:blip r:embed="rId2"/>
          <a:srcRect l="2612" t="12121" r="9807" b="21212"/>
          <a:stretch/>
        </p:blipFill>
        <p:spPr>
          <a:xfrm>
            <a:off x="2133720" y="1828800"/>
            <a:ext cx="5105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6T04:44:04Z</dcterms:created>
  <dc:creator>John Warwick</dc:creator>
  <dc:description/>
  <dc:language>en-US</dc:language>
  <cp:lastModifiedBy>David Watson</cp:lastModifiedBy>
  <dcterms:modified xsi:type="dcterms:W3CDTF">1997-05-06T17:04:40Z</dcterms:modified>
  <cp:revision>4</cp:revision>
  <dc:subject/>
  <dc:title>Linear Quadratic Controll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33023</vt:r8>
  </property>
  <property fmtid="{D5CDD505-2E9C-101B-9397-08002B2CF9AE}" pid="10" name="MailAddress">
    <vt:lpwstr>jwarwick@cs.cmu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dows\Desktop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65535</vt:r8>
  </property>
</Properties>
</file>