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549B-F9C2-4008-B71E-9F891603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obably worthwhile to check the nrdp-executable-guidelines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se parameters may have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hart showing the running  time of some of the 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.  It should only be used to judge order of magnitu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imes are not very exact.  For the value iteration metho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tization times are in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his is plotted on a logarithmic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wins big on this problem.  It represents the cart at the goal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pendulum slightly perturbed from its resting position. 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lean solution.  The graph can be gener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lqrcon x0 1 -0.5 0 0 graph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 pole provide a rather inelegant solution to this problem.  The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x0 1 -0.5 0 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fails miserably on this nonlinear domain.  It repeats thi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ly, never actually able to get the car to stop at the righ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ill.  This graph is gener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lqrcon maxstepsperiteration 50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teration easily controls this nonlinear problem.  The comman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aicon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A67-DED8-4AFC-8AC7-6305DFCA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3D4-192F-412E-961E-F66046F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76C-B4DD-47BD-AA4A-3DE8CC52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3A8-E813-4A4C-862A-FA0998F3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A84-1368-4C41-A33F-5C1E2B86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C29-65A5-4E96-910F-FDCF121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78A-E2A0-4165-88EB-745FAF4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C826-82A0-42B7-AD84-1E1D9A6F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5F2-54C2-4AE2-BD22-6E2CF5B3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9AA7-E282-4434-AE10-03B5A17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0E11-8A8E-45A4-8312-884F8B0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4EF-5FAA-430C-8444-2A247BBF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786A-CACF-4AF2-B329-81426D5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A5E9-3053-4B41-AC73-601DB9B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022F-9C3B-454A-9B2C-42D070B9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93C-9B63-489D-87E4-E2528A3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074F-C088-420F-B317-B5D18118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0F1-B40D-4BCD-98EB-A7D8A71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EA9-A9FE-4EB1-BF0A-6249909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996-6538-4CC3-8D0B-3E6AA00D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3DF-E2B0-4DA4-8554-1E7EB2E8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27E-0DA6-4E20-8996-8EEA255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DE4-3773-44B3-8040-E4E5F01C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FD8-5A4F-407D-A945-AA26F4E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BA1-C99F-4EE9-BC49-B966EEAA7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7BC3-B909-4DEF-BB56-4B74F6B13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Quadratic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ing Classical Optimal Control into the NRDP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Use The LQR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45800" y="175248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sage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con LQRNumSamples LQRNumIterations xtarget utarge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Samples: The number of samples used to linear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tate and action space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Iterations: The maximum number of backste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lowed in calculating the control law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target: The final state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target: The final action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unning Time Analys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828800"/>
          <a:ext cx="78487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7848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lqrcp" descr=""/>
          <p:cNvPicPr/>
          <p:nvPr/>
        </p:nvPicPr>
        <p:blipFill>
          <a:blip r:embed="rId2"/>
          <a:srcRect l="3921" t="12121" r="11110" b="21212"/>
          <a:stretch/>
        </p:blipFill>
        <p:spPr>
          <a:xfrm>
            <a:off x="2286000" y="1828800"/>
            <a:ext cx="4952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vicp" descr=""/>
          <p:cNvPicPr/>
          <p:nvPr/>
        </p:nvPicPr>
        <p:blipFill>
          <a:blip r:embed="rId2"/>
          <a:srcRect l="3921" t="12121" r="9807" b="21212"/>
          <a:stretch/>
        </p:blipFill>
        <p:spPr>
          <a:xfrm>
            <a:off x="22860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lqr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057400" y="18288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vi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133720" y="1828800"/>
            <a:ext cx="510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4:44:04Z</dcterms:created>
  <dc:creator>John Warwick</dc:creator>
  <dc:description/>
  <dc:language>en-US</dc:language>
  <cp:lastModifiedBy>David Watson</cp:lastModifiedBy>
  <dcterms:modified xsi:type="dcterms:W3CDTF">1997-05-06T17:04:40Z</dcterms:modified>
  <cp:revision>4</cp:revision>
  <dc:subject/>
  <dc:title>Linear Quadratic Control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33023</vt:r8>
  </property>
  <property fmtid="{D5CDD505-2E9C-101B-9397-08002B2CF9AE}" pid="10" name="MailAddress">
    <vt:lpwstr>jwarwick@cs.cm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65535</vt:r8>
  </property>
</Properties>
</file>