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9230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228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880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22560" y="-360"/>
            <a:ext cx="299880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14200" y="703440"/>
            <a:ext cx="4692600" cy="35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915040"/>
            <a:ext cx="299880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22560" y="8915040"/>
            <a:ext cx="299880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1201D93-1AEC-4E12-BEB1-F9F88FB43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in’s sugg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37A6-D703-4C70-B4E3-19D22881C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D344-9585-4C9D-B93D-3484FA99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9066-7D05-44F4-8B68-A0AAFE7E4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231C-7939-418C-8013-5388E0473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374F-F849-4B94-B3DB-7DAA2DB91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5E7C-B807-4CE4-8A58-8EC5B018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B6B0-A994-4239-B40B-3A967085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1767-F888-4D4F-BAD4-1B2C2C8C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12BC-FCF9-44BF-BF11-8FB38475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F56C-25A1-4B9B-8943-C4F34DB6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FF25-9C29-4888-AD33-848F6694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046A-C350-4E15-BC5F-4AF64000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9410-0AA6-4102-85BD-283FC247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6159-BF25-411B-B45D-778B69AB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4A47-D4AA-4CA2-A5CA-DB0CBA48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4E79-48DF-4BFE-B44B-ADC173C9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E8EB-DEAB-41BD-BEEF-17C1BA833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3C05-C442-48B3-AB04-AAB27A6C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877A-4552-4C7B-8B47-9948C18B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82B8-C4BC-4B4C-9924-D0896DBB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FBAB-2C06-42D0-8FFE-442F91C8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FC0C-837C-406F-B2E0-C0E38989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F834-A325-43D7-83A9-D39635B3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C556-2E78-4CE4-943C-5A400A39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2B12-44C2-4617-A1E0-A9FCD71D6C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94F2-A2BE-406A-8F10-58E4D5D5EC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057400" y="2590920"/>
            <a:ext cx="449568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 GA settings tried; best five shown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over 50 ru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ga.vs.pbil.twin.peaks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43434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table in other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125360" y="3521160"/>
                <a:ext cx="68947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5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8" name=""/>
            <p:cNvCxnSpPr>
              <a:stCxn id="205" idx="5"/>
              <a:endCxn id="206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stCxn id="207" idx="3"/>
              <a:endCxn id="206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>
              <a:endCxn id="205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1" name=""/>
            <p:cNvCxnSpPr>
              <a:endCxn id="205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2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3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6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8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9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40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7" name=""/>
            <p:cNvCxnSpPr>
              <a:stCxn id="240" idx="4"/>
              <a:endCxn id="241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2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0" name=""/>
            <p:cNvCxnSpPr>
              <a:stCxn id="242" idx="3"/>
              <a:endCxn id="246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1" name=""/>
            <p:cNvCxnSpPr>
              <a:stCxn id="242" idx="5"/>
              <a:endCxn id="245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2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4" name=""/>
            <p:cNvCxnSpPr>
              <a:stCxn id="243" idx="4"/>
              <a:endCxn id="252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3" idx="5"/>
              <a:endCxn id="253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46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44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52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3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4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3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45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3" name=""/>
            <p:cNvCxnSpPr>
              <a:stCxn id="245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41" idx="4"/>
              <a:endCxn id="244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5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3" idx="6"/>
            <a:endCxn id="275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75" idx="6"/>
            <a:endCxn id="274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4" idx="6"/>
            <a:endCxn id="276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3" name=""/>
          <p:cNvCxnSpPr>
            <a:stCxn id="276" idx="6"/>
            <a:endCxn id="280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209680" y="2895480"/>
            <a:ext cx="4724640" cy="3733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ing a system of linear equations the hard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 of best solution as a function of generation #, averaged over 10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1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dataset" descr=""/>
          <p:cNvPicPr/>
          <p:nvPr/>
        </p:nvPicPr>
        <p:blipFill>
          <a:blip r:embed="rId1"/>
          <a:stretch/>
        </p:blipFill>
        <p:spPr>
          <a:xfrm>
            <a:off x="2286000" y="2971800"/>
            <a:ext cx="4572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ops.  Forgot this sl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752480" y="2895480"/>
            <a:ext cx="5715000" cy="3962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*16 grid of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bit in middle 14*14 subgrid, add +1 to evaluation for each of four neighbors set to opposite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rectangle.histogram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572080" cy="50292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3122640" y="3199680"/>
            <a:ext cx="291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tic Algorithm (avg: 74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734280" y="403776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BIL (avg: 74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57600" y="487620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in (avg: 76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33560" y="579060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ee (avg: 77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1 bits again; 9 problems, each with results averaged over 25 ru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609480" y="3200400"/>
          <a:ext cx="8153640" cy="269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8153640" cy="26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311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12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209680" y="2438280"/>
            <a:ext cx="4724640" cy="4114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 bits; +1 added to evaluation function for every bit set to the parity of the previou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arity" descr=""/>
          <p:cNvPicPr/>
          <p:nvPr/>
        </p:nvPicPr>
        <p:blipFill>
          <a:blip r:embed="rId1"/>
          <a:stretch/>
        </p:blipFill>
        <p:spPr>
          <a:xfrm>
            <a:off x="2286000" y="2514600"/>
            <a:ext cx="4572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345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P &gt; 95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838080" y="4267080"/>
          <a:ext cx="7467840" cy="224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267080"/>
                    <a:ext cx="7467840" cy="22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ds off :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0:35:10Z</cp:lastPrinted>
  <dcterms:modified xsi:type="dcterms:W3CDTF">1997-11-19T02:13:25Z</dcterms:modified>
  <cp:revision>95</cp:revision>
  <dc:subject/>
  <dc:title>No Slide Title</dc:title>
</cp:coreProperties>
</file>