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2256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2256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8A8CAA-4BCA-4FF1-9B52-5285C0B10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n’s sug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9C5-4EE0-48FE-B045-89B5E67F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D98-BA93-4546-B570-F8F0F11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EF8-D828-49F8-986E-DCA6C33F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E02-D3D3-4D50-9D19-32237A7B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52F7-F0A6-4D9D-B81D-F8BA2B1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411B-281D-4BCB-8699-ABF66C8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1BA0-CC71-4FB1-9401-DEAD13D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F180-AF2E-47F4-A097-1794A5C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035-F33B-49F9-9BFB-C933BB07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39E4-9B08-4590-8234-D79740C2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8379-4764-4747-A8B8-8F0ACF0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671-2315-4BC6-97F9-8CA6CDC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39D7-53B4-486E-B804-6A4C2F3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49CB-079B-40DD-B2A3-5F47108C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528-4B29-4DA8-A4FA-F8D0ACF4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5C9-C0C3-4DFC-A5AD-CC219790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958D-F8D6-41EA-A95A-381A87AE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328-3642-4687-BC0D-4403B0C7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768-5008-48C8-A7A3-2C7F949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52C-629B-4283-B42C-24835E3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DA2-4385-4268-B670-B924786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321-FED5-44C5-8E9F-DAAE3EF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029-BBD8-49A2-B934-EDDC143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B39-1B9A-43A6-91D6-21246F2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29B-1F5B-4D50-B32E-C8A4EF717A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577A-8613-4C01-A249-97B7AB73A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able in other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ps.  Forgot this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0:35:10Z</cp:lastPrinted>
  <dcterms:modified xsi:type="dcterms:W3CDTF">1997-11-19T02:13:25Z</dcterms:modified>
  <cp:revision>95</cp:revision>
  <dc:subject/>
  <dc:title>No Slide Title</dc:title>
</cp:coreProperties>
</file>