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FC0E7F-75B6-43BE-970D-D6D575633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more comments about PB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SC: keep a probability vector like PBIL’s, only after every generation,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culate it from scratch from the datapoints you just generated. 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bitwise average of all K datapoints, where each point’s contribution is weigh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robability that a GA would have selected it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might expect normal GAs using crossover to work better th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IL or BSC, since in some sense they implicity capture ibd’s by mai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of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ten winds up disrupting useful combinations ra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maintaining them or producing new useful comb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pparent “dependencies” may just be an artifac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set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definition goes like th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of the number of 1’s at the beginning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 and the number of 0’s at the en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s a bonus if there are BOTH at least T 1’s at the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 0’s at the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 increases, it becomes harder and harder to get the bonus.  However,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s the GA manages to simultaneously grow some solutions with lot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s at the start and some with lots of 0’s at the end, it can trivially combin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one-point crossover at the end to grab the bon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“peaks” correspond to four local optima, two of which have the bonu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f which don’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1: pop 200, mut 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2: pop 200, 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3: pop 500, 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4: pop 500, 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tis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IL: no mutation, update from top 2 of 200, learning rate 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H1: maintains list of possibilities tried.  If no improvement possibl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solution, gives up and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H2: allows at most 10*bitstring length moves to solutions of equal qual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H3: restart forced 5 times at equally spaced interv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IL 1: learning rate .1, update with best 1 of 100, .02 chance of muta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 .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IL2: also do negative update from worst example, with learning rate .0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GA: 2-point crossover w/rate 100%, mutation .001, popsize 100, elitis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-Scale: same but with uniform crossover (80% rate); subtract worst fit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, for convenience, the log of tha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h isn’t actually all that complicated, but we’re short on tim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so I’ll skip ahead to the end result; if we have time at the end and anyone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ed, I can explain the derivation th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r with me for a bit while this gets a little messy, since it’ll clean up nic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ext slide, and hopefully it’ll all be worth at, at least to those of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ed in automatically learning networks from data for, for examp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variable representing the ith bit in a bit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me that the points are generated iid.  Th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P(datapoint) = P(one bit in the Bayesian network given the value of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in the graph), times P(second bit in network given the value of IT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aph), etc. etc.  So we rewrite this like th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|D| times P’ equals number of times latter term appears in this equation up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the size of the dataset, since it’s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he intuitively obvious thing.  If you want, you can crunch aroun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range multipliers and prov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ast equation is basically the definition of the average conditional entropy of 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its parents.  For any specific setting of a variable’s parents, we can calc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tropy of that node’s conditional distribution.  For example, given tha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’s door is closed, there’s no chance at all that the student will hear the fire alarm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f we also know that there aren’t any ice cream trucks wandering around campu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tropy of Hear Bells is zero.  On the other hand, if there are no ice cream tru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alarm is going off but the door is open, then there’s a small chance that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  will hear the alarm, and so the entropy of Hear Bells is non-zero. 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conditional entropy of a variable is just the average of all those individual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al entropies, weighted by the probabilities that the corresp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ations of the parents’ values will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 over the variables xi of the average conditional entropy of xi given it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network.  Minus that, actually, since entropy is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an example for how to calculate average conditional entr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focus on x20’s contribution to the sc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x17 and x32 are both zero, then x20 is 0 half of the time and 1 half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, so the entropy of x20 is 1 bit.  OK, well, x17 and x32 are both se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en eightieths of the time, so let’s multiply that entropy by 1/8.  Similar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/80 of the time, x17 is set to 0 but x32 is set to 1, and in thos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0 is true 5/20 of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uld note that our algorithm was heavily inspired by a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t MIT by Jeremy DeBonet et al called Mutu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ization for Input Cluster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MIMIC used a greedy heuristic for learning chain-shaped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tree-shaped networks; apparently they were thinking in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rkov chains and weren’t thinking in terms of Bayesian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, rather than using the exponential decay method we just describ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 they used the top n% (say 10%) of all the datapoint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had EVER generated, putting no more weight on more rec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d examp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quite as expensive as you might think, because you can cache comp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gh at the expense of massive memory consumption).  Also, becaus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sets are only changing slightly every iteration and we start th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network structures from a network that was locally optimal last iter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moves are made during each hillclimbing run over network struct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.e. one or two arc changes per it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the bitstring is of length n; let’s call the bits x1 through x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rules of conditional probability, we can rewrite any arbit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 distribution over all the bits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discrete learning automaton is an algorithm for solving a k-arm ban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that is guaranteed to eventually keep yanking on the best arm after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ly long time if you use a sufficiently small learning rate.  Previou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[Thath and Sas] has involved grouping teams of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, one per solution parameter (bit, for example), that choose the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independently but receive a common reinforcement from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IL’s update rule is exactly the same as the linear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commonly used to train learning automata in situations whe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from the environment is binary.  So, PBIL is basically 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of the batch” as a definition of “success” and using the lin rew. In. r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Thath&amp;Sastry paper’s experimental results consisted larg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rying to optimally set two crudely discretized parameters of a classifier (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isy training examples were presented one by one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that it converged to the right value like 7 out of 10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506-848B-4378-913C-A0C09D3E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226-77DF-49C6-BA0F-10B2AB2B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3618-E118-42AE-8747-3EC0F7EC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2417-7C41-4992-B0A0-32B917B7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12E3-AF94-4CEF-A6FD-23660AE7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61A1-0AD9-4AEA-8797-B15718EE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5716-B254-4578-8857-BDAE5F92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64F6-5E42-4DD4-9BC5-02C4B228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EA61-867E-44E2-BE6E-955F6D50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0F9B-FF8A-4FAA-A4CC-4B8E454D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5F79-2F10-48E1-9BC1-8E069A41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CE6-09D3-421A-9EB7-0D7C7EC0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4C33-E5AC-4005-9E1A-AC6FAF30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F96B-C72C-4A86-9CDA-36C97276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90DD-7E97-4D1A-B377-1250107D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741F-D2E5-4CFB-9C60-CD745B38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5A0F-AB82-4884-A3DC-C7FC3329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B86-2729-49BE-A0F8-6507EF5A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5314-73EE-4DBC-BFFC-FC327989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EC0-D61E-4D9A-9E96-3EF81316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18E0-0102-4863-BF88-3177487D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65E-96F8-4EAE-8924-F336281E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5B6-D87C-41ED-87B2-A9FF94BE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D5F-085C-4625-82F0-2CF649EA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78DC-F246-4957-9949-C14C250505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360E-5299-474A-9DE4-DA23595F9F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ne partially at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 with one-point crossover can combine two solutions to get Bonus relatively easi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057400" y="2590920"/>
            <a:ext cx="449568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 GA settings tried; best five shown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over 50 runs. 100 bits, varying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ga.vs.pbil.twin.peaks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3434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ry, this slide is a placeholder for a big table on another non-PowerPoint sli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st of results: 27 domains; comparis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versions of 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versions of multiple-restart 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best on 22, hillclimbing on 3, GA 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kelihood Scoring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125360" y="3521160"/>
                <a:ext cx="68947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lihood Scoring Function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5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205" idx="5"/>
              <a:endCxn id="206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stCxn id="207" idx="3"/>
              <a:endCxn id="206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endCxn id="205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endCxn id="205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3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6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8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9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326520" y="594252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40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7" name=""/>
            <p:cNvCxnSpPr>
              <a:stCxn id="240" idx="4"/>
              <a:endCxn id="241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2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2" idx="3"/>
              <a:endCxn id="246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1" name=""/>
            <p:cNvCxnSpPr>
              <a:stCxn id="242" idx="5"/>
              <a:endCxn id="245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2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4" name=""/>
            <p:cNvCxnSpPr>
              <a:stCxn id="243" idx="4"/>
              <a:endCxn id="252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3" idx="5"/>
              <a:endCxn id="253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46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4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52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3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4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3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45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3" name=""/>
            <p:cNvCxnSpPr>
              <a:stCxn id="245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41" idx="4"/>
              <a:endCxn id="244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5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3" idx="6"/>
            <a:endCxn id="275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5" idx="6"/>
            <a:endCxn id="274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4" idx="6"/>
            <a:endCxn id="276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76" idx="6"/>
            <a:endCxn id="280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09680" y="2895480"/>
            <a:ext cx="4724640" cy="3733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a system of linear equations the hard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of best solution as a function of generation #, averaged over 10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1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dataset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572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ion of time Bonus rewarded in 100 r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2133720"/>
            <a:ext cx="5791320" cy="449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four.ga.idraw" descr=""/>
          <p:cNvPicPr/>
          <p:nvPr/>
        </p:nvPicPr>
        <p:blipFill>
          <a:blip r:embed="rId1"/>
          <a:stretch/>
        </p:blipFill>
        <p:spPr>
          <a:xfrm>
            <a:off x="1901880" y="2206800"/>
            <a:ext cx="2786040" cy="2138040"/>
          </a:xfrm>
          <a:prstGeom prst="rect">
            <a:avLst/>
          </a:prstGeom>
          <a:ln w="0">
            <a:noFill/>
          </a:ln>
        </p:spPr>
      </p:pic>
      <p:pic>
        <p:nvPicPr>
          <p:cNvPr id="296" name="four.cmp.idraw" descr=""/>
          <p:cNvPicPr/>
          <p:nvPr/>
        </p:nvPicPr>
        <p:blipFill>
          <a:blip r:embed="rId2"/>
          <a:stretch/>
        </p:blipFill>
        <p:spPr>
          <a:xfrm>
            <a:off x="4761000" y="2206800"/>
            <a:ext cx="2786040" cy="2160360"/>
          </a:xfrm>
          <a:prstGeom prst="rect">
            <a:avLst/>
          </a:prstGeom>
          <a:ln w="0">
            <a:noFill/>
          </a:ln>
        </p:spPr>
      </p:pic>
      <p:pic>
        <p:nvPicPr>
          <p:cNvPr id="297" name="six.cmp.idraw" descr=""/>
          <p:cNvPicPr/>
          <p:nvPr/>
        </p:nvPicPr>
        <p:blipFill>
          <a:blip r:embed="rId3"/>
          <a:stretch/>
        </p:blipFill>
        <p:spPr>
          <a:xfrm>
            <a:off x="1901880" y="4417920"/>
            <a:ext cx="2786040" cy="2175120"/>
          </a:xfrm>
          <a:prstGeom prst="rect">
            <a:avLst/>
          </a:prstGeom>
          <a:ln w="0">
            <a:noFill/>
          </a:ln>
        </p:spPr>
      </p:pic>
      <p:pic>
        <p:nvPicPr>
          <p:cNvPr id="298" name="holte.cmp.idraw" descr=""/>
          <p:cNvPicPr/>
          <p:nvPr/>
        </p:nvPicPr>
        <p:blipFill>
          <a:blip r:embed="rId4"/>
          <a:stretch/>
        </p:blipFill>
        <p:spPr>
          <a:xfrm>
            <a:off x="4761000" y="4417920"/>
            <a:ext cx="278604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752480" y="2895480"/>
            <a:ext cx="5715000" cy="396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*16 grid of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bit in middle 14*14 subgrid, add +1 to evaluation for each of four neighbors set to opposit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rectangle.histogram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572080" cy="50292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122640" y="319968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tic Algorithm (avg: 74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4280" y="40377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BIL (avg: 74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7600" y="487620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in (avg: 7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560" y="579060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e (avg: 77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1 bits again; 9 problems, each with results averaged over 25 r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09480" y="3200400"/>
          <a:ext cx="8153640" cy="269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815364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17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209680" y="2438280"/>
            <a:ext cx="472464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bits; +1 added to evaluation function for every bit set to the parity of the previo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arity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4572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I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350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P &gt; 9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838080" y="4267080"/>
          <a:ext cx="7467840" cy="224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267080"/>
                    <a:ext cx="7467840" cy="22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s off :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system Pittsburgh Research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…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lvl="2" marL="720000" indent="-1440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, and/or “mutate”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random twea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8000" indent="-14400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cp:lastPrinted>1997-11-19T08:05:56Z</cp:lastPrinted>
  <dcterms:modified xsi:type="dcterms:W3CDTF">1997-11-23T04:43:19Z</dcterms:modified>
  <cp:revision>108</cp:revision>
  <dc:subject/>
  <dc:title>No Slide Title</dc:title>
</cp:coreProperties>
</file>