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88CE3B-40F3-4A2E-9883-25C5470F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comments about PB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: keep a probability vector like PBIL’s, only after every generation,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culate it from scratch from the datapoints you just generated. 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itwise average of all K datapoints, where each point’s contribution is weigh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robability that a GA would have selected it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might expect normal GAs using crossover to work better th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or BSC, since in some sense they implicity capture ibd’s by mai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of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ten winds up disrupting useful combinations ra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maintaining them or producing new useful comb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pparent “dependencies” may just be an artifac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s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definition goe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of the number of 1’s at the beginn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and the number of 0’s at the 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a bonus if there are BOTH at least T 1’s at the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 0’s at the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 increases, it becomes harder and harder to get the bonus.  However,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s the GA manages to simultaneously grow some solutions with lot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s at the start and some with lots of 0’s at the end, it can trivially combin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one-point crossover at the end to grab the bo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“peaks” correspond to four local optima, two of which have the bonu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f which don’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1: pop 200, mut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2: pop 2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3: pop 500,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4: pop 5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: no mutation, update from top 2 of 200, learning rate 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1: maintains list of possibilities tried.  If no improvement possib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olution, gives up and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2: allows at most 10*bitstring length moves to solutions of equal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3: restart forced 5 times at equally spaced inter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1: learning rate .1, update with best 1 of 100, .02 chance of mu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 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2: also do negative update from worst example, with learning rate .0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A: 2-point crossover w/rate 100%, mutation .001, popsize 100, 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-Scale: same but with uniform crossover (80% rate); subtract worst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for convenience, the log of tha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h isn’t actually all that complicated, but we’re short on tim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so I’ll skip ahead to the end result; if we have time at the end and anyone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, I can explain the derivation t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 with me for a bit while this gets a little messy, since it’ll clean up nic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ext slide, and hopefully it’ll all be worth at, at least to those of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automatically learning networks from data for, for examp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variable representing the ith bit in a bit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the points are generated iid.  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P(datapoint) = P(one bit in the Bayesian network given the value of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in the graph), times P(second bit in network given the value of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aph), etc. etc.  So we rewrite thi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D| times P’ equals number of times latter term appears in this equation up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the size of the dataset, since it’s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intuitively obvious thing.  If you want, you can crunch arou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range multipliers and prov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ast equation is basically the definition of the average conditional entropy of 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its parents.  For any specific setting of a variable’s parents, we can 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that node’s conditional distribution.  For example, given tha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’s door is closed, there’s no chance at all that the student will hear the fire alarm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f we also know that there aren’t any ice cream trucks wandering around campu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Hear Bells is zero.  On the other hand, if there are no ice cream tru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alarm is going off but the door is open, then there’s a small chance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  will hear the alarm, and so the entropy of Hear Bells is non-zero. 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onditional entropy of a variable is just the average of all those individual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al entropies, weighted by the probabilities that the corresp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 of the parents’ values will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ver the variables xi of the average conditional entropy of xi given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twork.  Minus that, actually, since entropy is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an example for how to calculate average conditional entr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focus on x20’s contribution to the sc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x17 and x32 are both zero, then x20 is 0 half of the time and 1 half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, so the entropy of x20 is 1 bit.  OK, well, x17 and x32 are both se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en eightieths of the time, so let’s multiply that entropy by 1/8.  Similar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/80 of the time, x17 is set to 0 but x32 is set to 1, and in tho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0 is true 5/20 of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note that our algorithm was heavily inspired by a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t MIT by Jeremy DeBonet et al called Mutu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ization for Input Cluster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MIMIC used a greedy heuristic for learning chain-shaped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tree-shaped networks; apparently they were thinking in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rkov chains and weren’t thinking in terms of Bayesian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, rather than using the exponential decay method we just describ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 they used the top n% (say 10%) of all the datapoint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had EVER generated, putting no more weight on more rec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d examp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quite as expensive as you might think, because you can cache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gh at the expense of massive memory consumption).  Also, becaus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sets are only changing slightly every iteration and we start th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network structures from a network that was locally optimal last iter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moves are made during each hillclimbing run over network struct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e. one or two arc changes per it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the bitstring is of length n; let’s call the bits x1 through x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rules of conditional probability, we can rewrite any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distribution over all the bits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discrete learning automaton is an algorithm for solving a k-arm ban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that is guaranteed to eventually keep yanking on the best arm af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ly long time if you use a sufficiently small learning rate.  Previou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[Thath and Sas] has involved grouping teams of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, one per solution parameter (bit, for example), that choose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independently but receive a common reinforcement from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’s update rule is exactly the same as the linear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commonly used to train learning automata in situations whe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from the environment is binary.  So, PBIL is basically 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of the batch” as a definition of “success” and using the lin rew. In.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Thath&amp;Sastry paper’s experimental results consisted larg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rying to optimally set two crudely discretized parameters of a classifier (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y training examples were presented one by one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that it converged to the right value like 7 out of 10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186-E636-4C26-8C76-813BAFCE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5C9-3076-4D9B-9B7E-354FD6D1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937-6450-4E88-B0ED-6F2FD2E7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5EF-9EB1-4850-961C-7E9596ED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FF3-58B9-4C09-A236-2394B4E9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86A1-6A3A-4024-9B35-CE7F5D9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98BD-F342-4AB8-954B-74FFDC6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4CE0-DCC7-4678-9D03-91F1093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DFE0-1BD8-4F13-AF55-C1C973C2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5BC0-C763-4DBB-A39C-9713668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7A0-C409-4B12-B493-1B9175E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A58-5E25-4680-978A-0AD78F7B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EF8A-3D1C-40F7-9706-ADA48BFC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1341-89F0-4E27-8298-556B92C1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E9D9-03A2-4BF3-BB09-3B2D0571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E71E-398B-482E-ACE2-01DD1320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AE29-6211-4D2C-8125-63176436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8AF-61EF-41A5-B368-B063F5A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357-0DBD-4431-A36A-8CEC3BA0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96E-6AF7-400C-8706-D2950966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F5B-849C-459A-A266-C7A46FA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113-F6BD-4617-AFF3-59113DAC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CF1-9415-46E7-A962-EE565558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04A-C15A-49A7-B542-20F28737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B9E-9F28-468B-8B0C-30251F38FE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CF0-F615-458B-A699-51F0B9FB23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e partially at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 with one-point crossover can combine two solutions to get Bonus relatively eas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. 100 bits, varying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, this slide is a placeholder for a big table on another non-PowerPoint sl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st of results: 27 domains; comparis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versions of multiple-restart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best on 22, hillclimbing on 3, GA 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kelihood Scoring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ihood Scoring Function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26520" y="59425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ion of time Bonus rewarded in 10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133720"/>
            <a:ext cx="5791320" cy="44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four.ga.idraw" descr=""/>
          <p:cNvPicPr/>
          <p:nvPr/>
        </p:nvPicPr>
        <p:blipFill>
          <a:blip r:embed="rId1"/>
          <a:stretch/>
        </p:blipFill>
        <p:spPr>
          <a:xfrm>
            <a:off x="1901880" y="2206800"/>
            <a:ext cx="2786040" cy="2138040"/>
          </a:xfrm>
          <a:prstGeom prst="rect">
            <a:avLst/>
          </a:prstGeom>
          <a:ln w="0">
            <a:noFill/>
          </a:ln>
        </p:spPr>
      </p:pic>
      <p:pic>
        <p:nvPicPr>
          <p:cNvPr id="296" name="four.cmp.idraw" descr=""/>
          <p:cNvPicPr/>
          <p:nvPr/>
        </p:nvPicPr>
        <p:blipFill>
          <a:blip r:embed="rId2"/>
          <a:stretch/>
        </p:blipFill>
        <p:spPr>
          <a:xfrm>
            <a:off x="4761000" y="2206800"/>
            <a:ext cx="2786040" cy="2160360"/>
          </a:xfrm>
          <a:prstGeom prst="rect">
            <a:avLst/>
          </a:prstGeom>
          <a:ln w="0">
            <a:noFill/>
          </a:ln>
        </p:spPr>
      </p:pic>
      <p:pic>
        <p:nvPicPr>
          <p:cNvPr id="297" name="six.cmp.idraw" descr=""/>
          <p:cNvPicPr/>
          <p:nvPr/>
        </p:nvPicPr>
        <p:blipFill>
          <a:blip r:embed="rId3"/>
          <a:stretch/>
        </p:blipFill>
        <p:spPr>
          <a:xfrm>
            <a:off x="1901880" y="4417920"/>
            <a:ext cx="2786040" cy="2175120"/>
          </a:xfrm>
          <a:prstGeom prst="rect">
            <a:avLst/>
          </a:prstGeom>
          <a:ln w="0">
            <a:noFill/>
          </a:ln>
        </p:spPr>
      </p:pic>
      <p:pic>
        <p:nvPicPr>
          <p:cNvPr id="298" name="holte.cmp.idraw" descr=""/>
          <p:cNvPicPr/>
          <p:nvPr/>
        </p:nvPicPr>
        <p:blipFill>
          <a:blip r:embed="rId4"/>
          <a:stretch/>
        </p:blipFill>
        <p:spPr>
          <a:xfrm>
            <a:off x="4761000" y="4417920"/>
            <a:ext cx="27860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50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system Pittsburgh Research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…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2" marL="720000" indent="-1440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, and/or “mutate”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random twea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8000" indent="-14400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cp:lastPrinted>1997-11-19T08:05:56Z</cp:lastPrinted>
  <dcterms:modified xsi:type="dcterms:W3CDTF">1997-11-23T04:43:19Z</dcterms:modified>
  <cp:revision>108</cp:revision>
  <dc:subject/>
  <dc:title>No Slide Title</dc:title>
</cp:coreProperties>
</file>