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84F-DAEF-475D-8D83-23D257F3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robably worthwhile to check the nrdp-executable-guidelines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se parameters may have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hart showing the running  time of some of the diffe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s.  It should only be used to judge order of magnitu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imes are not very exact.  For the value iteration metho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tization times are inclu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his is plotted on a logarithmic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QR wins big on this problem.  It represents the cart at the goal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pendulum slightly perturbed from its resting position.  Th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lean solution.  The graph can be gener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tpole lqrcon x0 1 -0.5 0 0 graph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 pole provide a rather inelegant solution to this problem.  The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this grap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tpole vi statediscmeth simplex statediscres 15 actiondiscmeth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discres 9 x0 1 -0.5 0 0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QR fails miserably on this nonlinear domain.  It repeats thi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ly, never actually able to get the car to stop at the righ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ill.  This graph is generate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onhill lqrcon maxstepsperiteration 500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teration easily controls this nonlinear problem.  The comman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this graph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dp caronhill  vi statediscmeth simplex statediscres 15 actiondiscmeth 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discres 9 aicon graph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B00-F806-4B7F-A428-9C5E41B3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5C0-48D4-40DD-9D4C-698B1EEE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EC8-1B2C-4624-96FB-9ADF2F47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00A-E713-41BA-8A3F-8A254774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E58B-C823-40E8-8FC1-3CFC19C5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E8CB-D9C9-438C-A278-4B5176AB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5C6C-6611-4969-8D5C-D367F771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5250-9F97-4965-8C43-AC8E67E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AC08-8CBA-49D3-AE22-B3AAE8E0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050-2727-484E-B0B2-689CB7AB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0B1B-FD9E-4467-8F9B-9A1691B5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3F9-CC41-47D4-A56A-91892EA1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092D-7819-4B30-9074-FEF18467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4B15-23C9-46D1-877E-EDDA3F20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F6C8-B83B-4B08-A602-EC84DF1E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560D-7CA5-46F1-972F-2069BC3E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FC77-1DBD-4589-92E2-2ECEF482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C5F-9A6F-4F1D-AD55-771DCDCD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A3D-0151-4BF9-A1E6-5FBD59B8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E0D-C382-4C54-A8B4-1C6543D1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FD6-6244-4823-B2BB-FD61A082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51D-CC7E-4965-9835-6F2FB1D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7A0-8B87-44E1-8FE5-80C1EA9B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67E-8BBF-418A-9699-F6F70C61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9FFF-878C-417B-A8C2-D5491D945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8D52-D111-48A0-AE2E-FB5DCF5E5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near Quadratic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grating Classical Optimal Control into the NRDP Frame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Use The LQR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45800" y="175248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sage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con LQRNumSamples LQRNumIterations xtarget utarge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NumSamples: The number of samples used to lineariz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tate and action spaces. Default: 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QRNumIterations: The maximum number of backste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lowed in calculating the control laws. Default: 2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xtarget: The final state target.  The default is a correctly s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zero matr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target: The final action target.  The default is a correctly siz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zero matr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unning Time Analys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828800"/>
          <a:ext cx="78487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28800"/>
                    <a:ext cx="78487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QR on the Cart Pole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lqrcp" descr=""/>
          <p:cNvPicPr/>
          <p:nvPr/>
        </p:nvPicPr>
        <p:blipFill>
          <a:blip r:embed="rId2"/>
          <a:srcRect l="3921" t="12121" r="11110" b="21212"/>
          <a:stretch/>
        </p:blipFill>
        <p:spPr>
          <a:xfrm>
            <a:off x="2286000" y="1828800"/>
            <a:ext cx="4952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alue Iteration on the Cart Pole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vicp" descr=""/>
          <p:cNvPicPr/>
          <p:nvPr/>
        </p:nvPicPr>
        <p:blipFill>
          <a:blip r:embed="rId2"/>
          <a:srcRect l="3921" t="12121" r="9807" b="21212"/>
          <a:stretch/>
        </p:blipFill>
        <p:spPr>
          <a:xfrm>
            <a:off x="228600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QR on the Car On Hill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lqrhill" descr=""/>
          <p:cNvPicPr/>
          <p:nvPr/>
        </p:nvPicPr>
        <p:blipFill>
          <a:blip r:embed="rId2"/>
          <a:srcRect l="2612" t="12121" r="9807" b="21212"/>
          <a:stretch/>
        </p:blipFill>
        <p:spPr>
          <a:xfrm>
            <a:off x="2057400" y="182880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alue Iteration on the Car On Hill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6" name="vihill" descr=""/>
          <p:cNvPicPr/>
          <p:nvPr/>
        </p:nvPicPr>
        <p:blipFill>
          <a:blip r:embed="rId2"/>
          <a:srcRect l="2612" t="12121" r="9807" b="21212"/>
          <a:stretch/>
        </p:blipFill>
        <p:spPr>
          <a:xfrm>
            <a:off x="2133720" y="1828800"/>
            <a:ext cx="5105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04:44:04Z</dcterms:created>
  <dc:creator>John Warwick</dc:creator>
  <dc:description/>
  <dc:language>en-US</dc:language>
  <cp:lastModifiedBy>David Watson</cp:lastModifiedBy>
  <dcterms:modified xsi:type="dcterms:W3CDTF">1997-05-06T17:04:40Z</dcterms:modified>
  <cp:revision>4</cp:revision>
  <dc:subject/>
  <dc:title>Linear Quadratic Controll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33023</vt:r8>
  </property>
  <property fmtid="{D5CDD505-2E9C-101B-9397-08002B2CF9AE}" pid="10" name="MailAddress">
    <vt:lpwstr>jwarwick@cs.cmu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65535</vt:r8>
  </property>
</Properties>
</file>