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582A-CEC8-4253-8BCB-D349671B0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probably worthwhile to check the nrdp-executable-guidelines.t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se parameters may have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chart showing the running  time of some of the differ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s.  It should only be used to judge order of magnitud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 times are not very exact.  For the value iteration method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cretization times are includ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 This is plotted on a logarithmic sc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QR wins big on this problem.  It represents the cart at the goal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he pendulum slightly perturbed from its resting position.  This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ry clean solution.  The graph can be generat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rdp cartpole lqrcon x0 1 -0.5 0 0 graphst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 pole provide a rather inelegant solution to this problem.  The comm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oduce this graph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rdp cartpole vi statediscmeth simplex statediscres 15 actiondiscmeth 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discres 9 x0 1 -0.5 0 0 graph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QR fails miserably on this nonlinear domain.  It repeats this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lessly, never actually able to get the car to stop at the right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hill.  This graph is generated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rdp caronhill lqrcon maxstepsperiteration 500 graph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ue Iteration easily controls this nonlinear problem.  The comman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 this graph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rdp caronhill  vi statediscmeth simplex statediscres 15 actiondiscmeth 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discres 9 aicon graph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8955-35F0-47F6-8D07-C40A96848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6479-E4D4-4520-9AAD-5E671160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3A90-AB7A-4653-9B25-D1C7C3AE6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65DD-CEA2-4F57-B02E-8268C6FBA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61EF-5782-4F4B-9F3E-488001691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18A8-3BA1-4D77-B2B0-F99491E6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8E7D-EF9B-4A9A-A12B-72A00BBB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195B-52B8-4F72-B53A-618B44D5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14BF-E92B-4541-91E3-DD0CE5B4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4E16-7D4E-41C7-9A38-B8CC98176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C927-30FA-4310-8FE3-3C28B4A1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AEC9-D9A5-45E1-BB9E-201E0010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64EA-1BEE-4D46-8C82-D50F1185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1DFF-5914-47E2-AB3C-028B75FF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8605-63A9-4C48-A2BB-16567793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80E5-439A-4B1D-848B-B9E057669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4822-4324-4E7B-9864-0DCB13943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C3BE-8563-4D2D-9582-B2630082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65C5-27F8-4DF3-8061-60A57CDB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E3E1-1514-4EE7-A879-854B2067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BC98-5C19-4147-973F-40A9C166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9E9C-5677-4F63-82D2-B4B7FBA4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F2BF-2555-4EC6-8B20-AE011FB7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4C72-CBAA-4319-9D0F-82D9CC02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792B-CFEC-49F9-A08F-0FA9219A6C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55A2-DE97-4730-9D07-342C94AD6F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inear Quadratic Controll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ntegrating Classical Optimal Control into the NRDP Frame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To Use The LQR Controll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45800" y="1752480"/>
            <a:ext cx="8503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Usage: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qrcon LQRNumSamples LQRNumIterations xtarget utarge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QRNumSamples: The number of samples used to lineariz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he state and action spaces. Default: 2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QRNumIterations: The maximum number of backstep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llowed in calculating the control laws. Default: 2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xtarget: The final state target.  The default is a correctly size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zero matrix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utarget: The final action target.  The default is a correctly size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zero matrix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unning Time Analys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57200" y="1828800"/>
          <a:ext cx="7848720" cy="4724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28800"/>
                    <a:ext cx="78487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QR on the Cart Pole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0" name="lqrcp" descr=""/>
          <p:cNvPicPr/>
          <p:nvPr/>
        </p:nvPicPr>
        <p:blipFill>
          <a:blip r:embed="rId2"/>
          <a:srcRect l="3921" t="12121" r="11110" b="21212"/>
          <a:stretch/>
        </p:blipFill>
        <p:spPr>
          <a:xfrm>
            <a:off x="2286000" y="1828800"/>
            <a:ext cx="4952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Value Iteration on the Cart Pole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2" name="vicp" descr=""/>
          <p:cNvPicPr/>
          <p:nvPr/>
        </p:nvPicPr>
        <p:blipFill>
          <a:blip r:embed="rId2"/>
          <a:srcRect l="3921" t="12121" r="9807" b="21212"/>
          <a:stretch/>
        </p:blipFill>
        <p:spPr>
          <a:xfrm>
            <a:off x="2286000" y="182880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QR on the Car On Hill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4" name="lqrhill" descr=""/>
          <p:cNvPicPr/>
          <p:nvPr/>
        </p:nvPicPr>
        <p:blipFill>
          <a:blip r:embed="rId2"/>
          <a:srcRect l="2612" t="12121" r="9807" b="21212"/>
          <a:stretch/>
        </p:blipFill>
        <p:spPr>
          <a:xfrm>
            <a:off x="2057400" y="1828800"/>
            <a:ext cx="51055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Value Iteration on the Car On Hill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6" name="vihill" descr=""/>
          <p:cNvPicPr/>
          <p:nvPr/>
        </p:nvPicPr>
        <p:blipFill>
          <a:blip r:embed="rId2"/>
          <a:srcRect l="2612" t="12121" r="9807" b="21212"/>
          <a:stretch/>
        </p:blipFill>
        <p:spPr>
          <a:xfrm>
            <a:off x="2133720" y="1828800"/>
            <a:ext cx="51051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6T04:44:04Z</dcterms:created>
  <dc:creator>John Warwick</dc:creator>
  <dc:description/>
  <dc:language>en-US</dc:language>
  <cp:lastModifiedBy>David Watson</cp:lastModifiedBy>
  <dcterms:modified xsi:type="dcterms:W3CDTF">1997-05-06T17:04:40Z</dcterms:modified>
  <cp:revision>4</cp:revision>
  <dc:subject/>
  <dc:title>Linear Quadratic Controll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33023</vt:r8>
  </property>
  <property fmtid="{D5CDD505-2E9C-101B-9397-08002B2CF9AE}" pid="10" name="MailAddress">
    <vt:lpwstr>jwarwick@cs.cmu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dows\Desktop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65535</vt:r8>
  </property>
</Properties>
</file>