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2256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1504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22560" y="891504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2CF983-F588-463C-9B41-B15A8311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in’s sug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637-333A-4F48-9892-DE028AE3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F7D-893F-4521-8DB9-35C568C0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5EB-1A44-48FB-9F50-041C7E2A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B77-860E-484A-AB88-6DBD97BB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4229-11B2-4B5A-B593-FDDC8693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E1B7-AA19-4402-8FFE-CE639E43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B015-C13C-4DF1-BFAB-8FD326DE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1D9C-713E-48C6-B252-53F1483C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5FB2-68BC-4BF4-B9C5-634FAC16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67FF-43DF-4E52-89AB-1502ECAA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3489-4520-49E5-BF33-BD78C061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DE6-1AC6-43D7-A4BB-A5CA19F9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1EF-6013-430E-BDE0-227D9DB6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3ECD-1BE7-45F5-A36F-066E7B00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0B73-5007-4B47-9E71-9469653D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D0E6-E6E1-443E-B107-74402661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973F-C950-412C-9CD0-DBA36EEC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1FA-AA20-48EB-9008-3C744805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278-6F66-4E7D-8646-B3713A1C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BAB-5E88-486E-B1A6-7D7272DC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95C-002A-4162-989F-E55AB01C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6AD-B67E-47AE-BF37-85AA0942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572-E703-4A17-A5A0-47F4701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FF7-525F-4ED4-A2A5-40B2DF64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A53C-1946-4309-B851-8B7DB2E07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065A-C53D-4FEC-9F21-0EEBCF366C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57400" y="2590920"/>
            <a:ext cx="449568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GA settings tried; best five show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50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a.vs.pbil.twin.peaks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343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able in other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25360" y="3521160"/>
                <a:ext cx="6894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5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5" idx="5"/>
              <a:endCxn id="206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07" idx="3"/>
              <a:endCxn id="206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endCxn id="205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endCxn id="205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6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40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0" idx="4"/>
              <a:endCxn id="241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2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2" idx="3"/>
              <a:endCxn id="246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42" idx="5"/>
              <a:endCxn id="245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43" idx="4"/>
              <a:endCxn id="252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3" idx="5"/>
              <a:endCxn id="253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46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4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52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3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3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45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5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1" idx="4"/>
              <a:endCxn id="244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3" idx="6"/>
            <a:endCxn id="275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6"/>
            <a:endCxn id="274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4" idx="6"/>
            <a:endCxn id="276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6" idx="6"/>
            <a:endCxn id="280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09680" y="2895480"/>
            <a:ext cx="4724640" cy="373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system of linear equations the har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of best solution as a function of generation #, averaged over 10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dataset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ops.  Forgot this sl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752480" y="2895480"/>
            <a:ext cx="571500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*16 grid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it in middle 14*14 subgrid, add +1 to evaluation for each of four neighbors set to opposi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rectangle.histogram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72080" cy="5029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122640" y="3199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orithm (avg: 7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4280" y="40377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IL (avg: 7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876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n (avg: 7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560" y="57906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 (avg: 7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1 bits again; 9 problems, each with results averaged over 25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09480" y="3200400"/>
          <a:ext cx="8153640" cy="26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815364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09680" y="2438280"/>
            <a:ext cx="472464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bits; +1 added to evaluation function for every bit set to the parity of the pre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arity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345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P &gt; 9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4267080"/>
          <a:ext cx="7467840" cy="22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267080"/>
                    <a:ext cx="74678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 off :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0:35:10Z</cp:lastPrinted>
  <dcterms:modified xsi:type="dcterms:W3CDTF">1997-11-19T02:13:25Z</dcterms:modified>
  <cp:revision>95</cp:revision>
  <dc:subject/>
  <dc:title>No Slide Title</dc:title>
</cp:coreProperties>
</file>