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5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</p:sldIdLst>
  <p:sldSz cx="9144000" cy="6858000"/>
  <p:notesSz cx="6923088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9228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98800" cy="469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922560" y="-360"/>
            <a:ext cx="2998800" cy="469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14200" y="703440"/>
            <a:ext cx="4692600" cy="3519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22320" y="4457880"/>
            <a:ext cx="5076720" cy="4224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0" y="8915040"/>
            <a:ext cx="2998800" cy="469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922560" y="8915040"/>
            <a:ext cx="2998800" cy="469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21F05CEF-9E43-44EF-9036-44094473BB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1456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922320" y="4457880"/>
            <a:ext cx="5076720" cy="4224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is, find the single probability model with the greatest posterior likelih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tically, of course, we might want to average over all ALL of the Pi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ighted by their posterior likelihoods, but that’s impossible in practice si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t of possible models is way, way too bi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1456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922320" y="4457880"/>
            <a:ext cx="5076720" cy="4224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tstring long enough that we can’t afford exhaustive searc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(x) referred to as “evaluate function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“Maximize” as much as possible -- typically, find as good a s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possible within a specified number of evaluations of f or CPU tim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1456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922320" y="4457880"/>
            <a:ext cx="5076720" cy="4224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generate bitstrings?  Depth-first traversal of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actually have to remember old bitstrings: just keep around O(n^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fficient stat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1456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922320" y="4457880"/>
            <a:ext cx="5076720" cy="4224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ustin’s sugges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1456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922320" y="4457880"/>
            <a:ext cx="5076720" cy="4224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C/SA: candidate solution generation typically stocha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versions of simulated annealing model how sensitive the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is to particular parameter settings and then adjust the candi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and acceptance criteria accordingly,  although this is typ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done in domains where you’re maximizing over a real-valued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her than a set of bitst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1456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922320" y="4457880"/>
            <a:ext cx="5076720" cy="4224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Justin’s STAGE stuff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1456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922320" y="4457880"/>
            <a:ext cx="5076720" cy="4224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lternative approach we’ll be exploring in this tal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ces between algorithms in this class lie largely i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What sorts of models they 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How P is updated after solutions are evalu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1456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922320" y="4457880"/>
            <a:ext cx="5076720" cy="4224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: how do we represent probability distributions over bitstring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ly, you can write an alternative factorization for any other ordering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variab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^n-1, actually, since the probabilities have to sum to 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85DEA-BE0A-43C7-970F-72FD930A0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97E33-0B2D-431E-AB47-85EDB10E1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A8AF8-6D04-4512-9F14-39D4E8254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83C1B-AA99-406E-820A-0D3545A26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EB835-C463-4710-8243-A57BE11B5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9FA9E-DD78-45CF-A0A6-5FD8F7D8E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E6CB0-C5C1-4F8C-9961-E8860BD08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F78EE-55A9-43F0-BAD6-6722D3901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8E8A5-C638-4764-BB0F-509BA4796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A5494-0A6A-4771-817A-946D099B7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FFE61-F0C3-4CDB-B58D-781F1E6AD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068C5-8923-4EE5-B171-CDE654DA9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BDFDA-B281-4AE0-A458-0CF145A08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5A80C-FD05-4C46-A733-0EE69D108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83BEF-13B0-47AC-B0C2-E23F3FA93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114B9-27CD-41A8-B7F9-E53F1A1B7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D45C5-187E-42BD-82FF-80BB66D12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96EB8-87F4-4815-83B9-DCAE1B5F1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FDF6B-41D2-43ED-B337-91B4EDEFE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4AA86-C531-4163-84E6-338235EFF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15FDF-3613-444D-987B-0FB62C026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44C47-36AE-4E17-9641-26E9C4D1D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CB212-0B81-4278-8131-D51CFCED5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FC067-825E-4AFB-8366-315EA99C9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C2A19-6017-42F8-8619-50982733B13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1066680"/>
            <a:ext cx="8458200" cy="22860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b4e1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8BF78-F041-4223-9E3D-D9E20809D4D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1981080"/>
            <a:ext cx="8458200" cy="30492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b4e1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babilistic Modeling for 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133720" y="3048120"/>
            <a:ext cx="64008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tt Dav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ool of Computer Sc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int work with 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BIL vs. Genetic Algorith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originated as tool for understanding GA behavi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ilar to Bit-Based Simulated Crossover (BSC) [Syswerda, 1993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enerat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scratch after every gen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K used to update P, weighted according to probabilities that a GA would have selected them for rep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might normal GAs be bette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licitly capture inter-bit dependencies with pop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because model is only implicit, crossover must be randomized.  Also, limited population size often leads to premature convergence based on noise in samp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 Peaks Proble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used in [Baluja &amp; Caruana, 1995] to test how well GAs maintain multiple solutions before converg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input vect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its, and difficulty paramet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Peaks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=MAX(head(1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tail(0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)+Bonus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ad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# of contiguous leading bit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t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il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# of contiguous trailing bit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t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nus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100 if (head(1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&gt;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AND (tail(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&gt;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, or             0 otherwi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2057400" y="2590920"/>
            <a:ext cx="4495680" cy="38862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 Peaks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80 GA settings tried; best five shown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erage over 50 ru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" name="ga.vs.pbil.twin.peaks" descr=""/>
          <p:cNvPicPr/>
          <p:nvPr/>
        </p:nvPicPr>
        <p:blipFill>
          <a:blip r:embed="rId1"/>
          <a:stretch/>
        </p:blipFill>
        <p:spPr>
          <a:xfrm>
            <a:off x="2133720" y="2666880"/>
            <a:ext cx="4343400" cy="37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arge-Scale PBIL Empirical Comparis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e table in other sl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Inter-Bit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1532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about automatically learning probability distributions in which at least some dependencies between variables are model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statement: given a dataset D and a set of allowable Bayesian networks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find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the maximum posterior probabil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1447920" y="5105520"/>
                <a:ext cx="670536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7" name=""/>
          <p:cNvSpPr/>
          <p:nvPr/>
        </p:nvSpPr>
        <p:spPr>
          <a:xfrm>
            <a:off x="457200" y="5257800"/>
            <a:ext cx="81788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quations.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wuh hah hah hah!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52280" y="4571640"/>
            <a:ext cx="51818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th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po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value assigned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 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se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pare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554040" y="1616040"/>
                <a:ext cx="4149720" cy="76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D</m:t>
                        </m:r>
                      </m:sub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|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" name=""/>
              <p:cNvSpPr txBox="1"/>
              <p:nvPr/>
            </p:nvSpPr>
            <p:spPr>
              <a:xfrm>
                <a:off x="2133720" y="2362320"/>
                <a:ext cx="4792680" cy="95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D</m:t>
                        </m:r>
                      </m:sub>
                      <m:sup/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Sup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j</m:t>
                                </m:r>
                              </m:sup>
                            </m:sSubSup>
                          </m:e>
                        </m:nary>
                      </m:e>
                    </m:nary>
                    <m:r>
                      <m:t xml:space="preserve">|</m:t>
                    </m:r>
                    <m:sSub>
                      <m:e>
                        <m:r>
                          <m:t xml:space="preserve">Π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d</m:t>
                        </m:r>
                      </m:e>
                      <m:sub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  <m:sup>
                        <m:r>
                          <m:t xml:space="preserve">j</m:t>
                        </m:r>
                      </m:sup>
                    </m:sSubSup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" name=""/>
              <p:cNvSpPr txBox="1"/>
              <p:nvPr/>
            </p:nvSpPr>
            <p:spPr>
              <a:xfrm>
                <a:off x="1125360" y="3521160"/>
                <a:ext cx="6894720" cy="112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D</m:t>
                        </m:r>
                      </m:e>
                    </m:d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3" name=""/>
          <p:cNvSpPr/>
          <p:nvPr/>
        </p:nvSpPr>
        <p:spPr>
          <a:xfrm>
            <a:off x="6080040" y="4800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876920" y="4648320"/>
            <a:ext cx="426708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lvl="1" marL="683280" indent="-262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set of values assigned to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empirical probability distribution exhibi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5" name=""/>
              <p:cNvSpPr txBox="1"/>
              <p:nvPr/>
            </p:nvSpPr>
            <p:spPr>
              <a:xfrm>
                <a:off x="5715000" y="4648320"/>
                <a:ext cx="4348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d</m:t>
                        </m:r>
                      </m:e>
                      <m:sub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  <m:sup>
                        <m:r>
                          <m:t xml:space="preserve">j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mmm...Entrop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3124080"/>
            <a:ext cx="81788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ct: given tha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as a network structu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he optimal probabilities to use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just the probabilitie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i.e.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’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S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1312920" y="1828800"/>
                <a:ext cx="631656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9" name=""/>
          <p:cNvSpPr/>
          <p:nvPr/>
        </p:nvSpPr>
        <p:spPr>
          <a:xfrm>
            <a:off x="3061080" y="1446840"/>
            <a:ext cx="27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c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Maximiz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1271520" y="5029200"/>
                <a:ext cx="636912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01" name=""/>
          <p:cNvSpPr/>
          <p:nvPr/>
        </p:nvSpPr>
        <p:spPr>
          <a:xfrm>
            <a:off x="3061080" y="4647240"/>
            <a:ext cx="26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c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Maximiz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2" name=""/>
              <p:cNvSpPr txBox="1"/>
              <p:nvPr/>
            </p:nvSpPr>
            <p:spPr>
              <a:xfrm>
                <a:off x="3057480" y="5791320"/>
                <a:ext cx="2652840" cy="91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H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ntropy Calculation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1066320" y="1371240"/>
            <a:ext cx="1676880" cy="1752840"/>
            <a:chOff x="1066320" y="1371240"/>
            <a:chExt cx="1676880" cy="1752840"/>
          </a:xfrm>
        </p:grpSpPr>
        <p:sp>
          <p:nvSpPr>
            <p:cNvPr id="205" name=""/>
            <p:cNvSpPr/>
            <p:nvPr/>
          </p:nvSpPr>
          <p:spPr>
            <a:xfrm>
              <a:off x="1219320" y="17524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752480" y="26668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286000" y="17524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08" name=""/>
            <p:cNvCxnSpPr>
              <a:stCxn id="205" idx="5"/>
              <a:endCxn id="206" idx="1"/>
            </p:cNvCxnSpPr>
            <p:nvPr/>
          </p:nvCxnSpPr>
          <p:spPr>
            <a:xfrm>
              <a:off x="1609200" y="2157120"/>
              <a:ext cx="210600" cy="56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9" name=""/>
            <p:cNvCxnSpPr>
              <a:stCxn id="207" idx="3"/>
              <a:endCxn id="206" idx="7"/>
            </p:cNvCxnSpPr>
            <p:nvPr/>
          </p:nvCxnSpPr>
          <p:spPr>
            <a:xfrm flipH="1">
              <a:off x="2142720" y="2157120"/>
              <a:ext cx="210240" cy="56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10" name=""/>
            <p:cNvCxnSpPr>
              <a:endCxn id="205" idx="1"/>
            </p:cNvCxnSpPr>
            <p:nvPr/>
          </p:nvCxnSpPr>
          <p:spPr>
            <a:xfrm>
              <a:off x="1066320" y="1371600"/>
              <a:ext cx="219960" cy="434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11" name=""/>
            <p:cNvCxnSpPr>
              <a:endCxn id="205" idx="7"/>
            </p:cNvCxnSpPr>
            <p:nvPr/>
          </p:nvCxnSpPr>
          <p:spPr>
            <a:xfrm flipH="1">
              <a:off x="1608840" y="1447920"/>
              <a:ext cx="219960" cy="357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12" name=""/>
            <p:cNvCxnSpPr/>
            <p:nvPr/>
          </p:nvCxnSpPr>
          <p:spPr>
            <a:xfrm flipH="1">
              <a:off x="2513880" y="1371240"/>
              <a:ext cx="153000" cy="3675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13" name=""/>
          <p:cNvSpPr/>
          <p:nvPr/>
        </p:nvSpPr>
        <p:spPr>
          <a:xfrm>
            <a:off x="390240" y="3097800"/>
            <a:ext cx="3404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contribution to sco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355760" y="6095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3733920" y="1600200"/>
            <a:ext cx="4572000" cy="3886200"/>
            <a:chOff x="3733920" y="1600200"/>
            <a:chExt cx="4572000" cy="3886200"/>
          </a:xfrm>
        </p:grpSpPr>
        <p:graphicFrame>
          <p:nvGraphicFramePr>
            <p:cNvPr id="216" name=""/>
            <p:cNvGraphicFramePr/>
            <p:nvPr/>
          </p:nvGraphicFramePr>
          <p:xfrm>
            <a:off x="3733920" y="1600200"/>
            <a:ext cx="4572000" cy="388620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21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733920" y="1600200"/>
                      <a:ext cx="4572000" cy="3886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218" name=""/>
            <p:cNvGrpSpPr/>
            <p:nvPr/>
          </p:nvGrpSpPr>
          <p:grpSpPr>
            <a:xfrm>
              <a:off x="4689000" y="2261520"/>
              <a:ext cx="3412080" cy="3086640"/>
              <a:chOff x="4689000" y="2261520"/>
              <a:chExt cx="3412080" cy="3086640"/>
            </a:xfrm>
          </p:grpSpPr>
          <p:sp>
            <p:nvSpPr>
              <p:cNvPr id="219" name=""/>
              <p:cNvSpPr/>
              <p:nvPr/>
            </p:nvSpPr>
            <p:spPr>
              <a:xfrm flipV="1">
                <a:off x="558396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5583960" y="2261520"/>
                <a:ext cx="2516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715032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>
                <a:off x="4689000" y="2261520"/>
                <a:ext cx="894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468900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4689000" y="5348160"/>
                <a:ext cx="3412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810108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6" name=""/>
            <p:cNvSpPr/>
            <p:nvPr/>
          </p:nvSpPr>
          <p:spPr>
            <a:xfrm>
              <a:off x="4689000" y="306972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689000" y="380484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689000" y="461340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326640" y="2261520"/>
              <a:ext cx="0" cy="3086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6857280" y="5408280"/>
            <a:ext cx="1436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27160" y="4495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914400" y="4114800"/>
                <a:ext cx="3178080" cy="77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914400" y="4952880"/>
                <a:ext cx="315108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234" name=""/>
          <p:cNvSpPr/>
          <p:nvPr/>
        </p:nvSpPr>
        <p:spPr>
          <a:xfrm>
            <a:off x="380520" y="5942520"/>
            <a:ext cx="422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o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o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974880" y="3505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685800" y="3581280"/>
                <a:ext cx="257796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H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sub>
                    </m:sSub>
                    <m:r>
                      <m:t xml:space="preserve">|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let’s allow each bit to be conditioned on at most one other b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9" name=""/>
          <p:cNvGrpSpPr/>
          <p:nvPr/>
        </p:nvGrpSpPr>
        <p:grpSpPr>
          <a:xfrm>
            <a:off x="2208960" y="2057400"/>
            <a:ext cx="4801680" cy="2362320"/>
            <a:chOff x="2208960" y="2057400"/>
            <a:chExt cx="4801680" cy="2362320"/>
          </a:xfrm>
        </p:grpSpPr>
        <p:sp>
          <p:nvSpPr>
            <p:cNvPr id="240" name=""/>
            <p:cNvSpPr/>
            <p:nvPr/>
          </p:nvSpPr>
          <p:spPr>
            <a:xfrm>
              <a:off x="4191120" y="20574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4197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3048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334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495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352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3623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47" name=""/>
            <p:cNvCxnSpPr>
              <a:stCxn id="240" idx="4"/>
              <a:endCxn id="241" idx="0"/>
            </p:cNvCxnSpPr>
            <p:nvPr/>
          </p:nvCxnSpPr>
          <p:spPr>
            <a:xfrm>
              <a:off x="4419360" y="2528640"/>
              <a:ext cx="229320" cy="276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8" name=""/>
            <p:cNvCxnSpPr>
              <a:stCxn id="240" idx="3"/>
              <a:endCxn id="242" idx="7"/>
            </p:cNvCxnSpPr>
            <p:nvPr/>
          </p:nvCxnSpPr>
          <p:spPr>
            <a:xfrm flipH="1">
              <a:off x="343800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9" name=""/>
            <p:cNvCxnSpPr>
              <a:stCxn id="240" idx="5"/>
              <a:endCxn id="243" idx="1"/>
            </p:cNvCxnSpPr>
            <p:nvPr/>
          </p:nvCxnSpPr>
          <p:spPr>
            <a:xfrm>
              <a:off x="458136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0" name=""/>
            <p:cNvCxnSpPr>
              <a:stCxn id="242" idx="3"/>
              <a:endCxn id="246" idx="0"/>
            </p:cNvCxnSpPr>
            <p:nvPr/>
          </p:nvCxnSpPr>
          <p:spPr>
            <a:xfrm flipH="1">
              <a:off x="2590560" y="3224160"/>
              <a:ext cx="52416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1" name=""/>
            <p:cNvCxnSpPr>
              <a:stCxn id="242" idx="5"/>
              <a:endCxn id="245" idx="0"/>
            </p:cNvCxnSpPr>
            <p:nvPr/>
          </p:nvCxnSpPr>
          <p:spPr>
            <a:xfrm>
              <a:off x="3438000" y="3224160"/>
              <a:ext cx="14364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52" name=""/>
            <p:cNvSpPr/>
            <p:nvPr/>
          </p:nvSpPr>
          <p:spPr>
            <a:xfrm>
              <a:off x="55627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640080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54" name=""/>
            <p:cNvCxnSpPr>
              <a:stCxn id="243" idx="4"/>
              <a:endCxn id="252" idx="0"/>
            </p:cNvCxnSpPr>
            <p:nvPr/>
          </p:nvCxnSpPr>
          <p:spPr>
            <a:xfrm>
              <a:off x="5562360" y="3290400"/>
              <a:ext cx="22932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5" name=""/>
            <p:cNvCxnSpPr>
              <a:stCxn id="243" idx="5"/>
              <a:endCxn id="253" idx="1"/>
            </p:cNvCxnSpPr>
            <p:nvPr/>
          </p:nvCxnSpPr>
          <p:spPr>
            <a:xfrm>
              <a:off x="5724360" y="3224160"/>
              <a:ext cx="743760" cy="4867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46" idx="3"/>
            </p:cNvCxnSpPr>
            <p:nvPr/>
          </p:nvCxnSpPr>
          <p:spPr>
            <a:xfrm flipH="1">
              <a:off x="2208960" y="4061880"/>
              <a:ext cx="2199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44" idx="5"/>
            </p:cNvCxnSpPr>
            <p:nvPr/>
          </p:nvCxnSpPr>
          <p:spPr>
            <a:xfrm>
              <a:off x="488592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8" name=""/>
            <p:cNvCxnSpPr>
              <a:stCxn id="252" idx="4"/>
            </p:cNvCxnSpPr>
            <p:nvPr/>
          </p:nvCxnSpPr>
          <p:spPr>
            <a:xfrm>
              <a:off x="5790960" y="4128840"/>
              <a:ext cx="1080" cy="291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9" name=""/>
            <p:cNvCxnSpPr>
              <a:stCxn id="253" idx="3"/>
            </p:cNvCxnSpPr>
            <p:nvPr/>
          </p:nvCxnSpPr>
          <p:spPr>
            <a:xfrm flipH="1">
              <a:off x="617220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44" idx="3"/>
            </p:cNvCxnSpPr>
            <p:nvPr/>
          </p:nvCxnSpPr>
          <p:spPr>
            <a:xfrm flipH="1">
              <a:off x="441900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3" idx="5"/>
            </p:cNvCxnSpPr>
            <p:nvPr/>
          </p:nvCxnSpPr>
          <p:spPr>
            <a:xfrm>
              <a:off x="6791400" y="4061880"/>
              <a:ext cx="21960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2" name=""/>
            <p:cNvCxnSpPr>
              <a:stCxn id="245" idx="3"/>
            </p:cNvCxnSpPr>
            <p:nvPr/>
          </p:nvCxnSpPr>
          <p:spPr>
            <a:xfrm flipH="1">
              <a:off x="3123360" y="4061880"/>
              <a:ext cx="29628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3" name=""/>
            <p:cNvCxnSpPr>
              <a:stCxn id="245" idx="5"/>
            </p:cNvCxnSpPr>
            <p:nvPr/>
          </p:nvCxnSpPr>
          <p:spPr>
            <a:xfrm>
              <a:off x="374328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41" idx="4"/>
              <a:endCxn id="244" idx="0"/>
            </p:cNvCxnSpPr>
            <p:nvPr/>
          </p:nvCxnSpPr>
          <p:spPr>
            <a:xfrm>
              <a:off x="4647960" y="3290400"/>
              <a:ext cx="7668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65" name=""/>
          <p:cNvSpPr/>
          <p:nvPr/>
        </p:nvSpPr>
        <p:spPr>
          <a:xfrm>
            <a:off x="822240" y="457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57200" y="4724280"/>
            <a:ext cx="85345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ng an arc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creases network score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information gain”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not necessarily obvious, but tru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utual inform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25516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find optimal single-parent tree-shaped network, just find maximum spanning tree us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as the weight for the edge betwe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                [Chow and Liu, 1968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with an arbitrary root nod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al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nodes have been added to the tre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 all pairs of nod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as already been added to the tree bu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as not, find the pair with the larg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the tree with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s its par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done in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ime (assuming D has already been reduced to sufficient statistic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6324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“evaluation function”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: fixed-length bitstr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: real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ight repres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b shop sche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P t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retized numeric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r focus: “Black Box”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domain-dependent heur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248520" y="3586320"/>
            <a:ext cx="1544400" cy="888840"/>
          </a:xfrm>
          <a:prstGeom prst="rect">
            <a:avLst/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248520" y="3324240"/>
            <a:ext cx="2006640" cy="262080"/>
          </a:xfrm>
          <a:prstGeom prst="parallelogram">
            <a:avLst>
              <a:gd name="adj" fmla="val 191415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 rot="5392800">
            <a:off x="7471080" y="3637080"/>
            <a:ext cx="1150920" cy="517680"/>
          </a:xfrm>
          <a:prstGeom prst="parallelogram">
            <a:avLst>
              <a:gd name="adj" fmla="val 48592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711840" y="3794040"/>
            <a:ext cx="571680" cy="444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(x)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6711840" y="3375000"/>
            <a:ext cx="1131840" cy="157320"/>
          </a:xfrm>
          <a:prstGeom prst="parallelogram">
            <a:avLst>
              <a:gd name="adj" fmla="val 179863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20000" y="3375000"/>
            <a:ext cx="0" cy="1573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762600" y="2590920"/>
            <a:ext cx="1081080" cy="261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x=1001001...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2" name=""/>
          <p:cNvSpPr/>
          <p:nvPr/>
        </p:nvSpPr>
        <p:spPr>
          <a:xfrm>
            <a:off x="7277040" y="2957400"/>
            <a:ext cx="0" cy="3128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277040" y="4578480"/>
            <a:ext cx="0" cy="2602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7072200" y="4943520"/>
            <a:ext cx="411120" cy="314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37.4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al Dependency Trees for Combinatorial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Baluja &amp; Davies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 with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itialized from the uniform 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probability distribution represen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tstring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fter decaying the weight of all datapoints already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a factor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0 and 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ning time: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per it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ee-based Optimization vs. MIMI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optimization algorithm inspired by Mutual Information Maximization for Input Clustering (MIMIC) [De Bonet, et al.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ed chain-shaped networks rather than tree-shaped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set: best N% of all bitstrings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: dataset has simple, well-defined interpre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: have to remember bitstr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: seems to converge too quickly on some larger probl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2860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3434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35268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54864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73" idx="6"/>
            <a:endCxn id="275" idx="2"/>
          </p:cNvCxnSpPr>
          <p:nvPr/>
        </p:nvCxnSpPr>
        <p:spPr>
          <a:xfrm>
            <a:off x="2833200" y="4000320"/>
            <a:ext cx="50580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8" name=""/>
          <p:cNvCxnSpPr>
            <a:stCxn id="275" idx="6"/>
            <a:endCxn id="274" idx="2"/>
          </p:cNvCxnSpPr>
          <p:nvPr/>
        </p:nvCxnSpPr>
        <p:spPr>
          <a:xfrm>
            <a:off x="3900600" y="4000320"/>
            <a:ext cx="42912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9" name=""/>
          <p:cNvCxnSpPr>
            <a:stCxn id="274" idx="6"/>
            <a:endCxn id="276" idx="2"/>
          </p:cNvCxnSpPr>
          <p:nvPr/>
        </p:nvCxnSpPr>
        <p:spPr>
          <a:xfrm>
            <a:off x="4890960" y="4000320"/>
            <a:ext cx="58140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0" name=""/>
          <p:cNvSpPr/>
          <p:nvPr/>
        </p:nvSpPr>
        <p:spPr>
          <a:xfrm>
            <a:off x="6629400" y="39625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7467480" y="396252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7086600" y="39625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3" name=""/>
          <p:cNvCxnSpPr>
            <a:stCxn id="276" idx="6"/>
            <a:endCxn id="280" idx="2"/>
          </p:cNvCxnSpPr>
          <p:nvPr/>
        </p:nvCxnSpPr>
        <p:spPr>
          <a:xfrm>
            <a:off x="6033960" y="4000320"/>
            <a:ext cx="581400" cy="385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2209680" y="2895480"/>
            <a:ext cx="4724640" cy="37339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IMIC dataset vs. Exp. Decay datase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lving a system of linear equations the hard 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rror of best solution as a function of generation #, averaged over 10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1 b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7" name="dataset" descr=""/>
          <p:cNvPicPr/>
          <p:nvPr/>
        </p:nvPicPr>
        <p:blipFill>
          <a:blip r:embed="rId1"/>
          <a:stretch/>
        </p:blipFill>
        <p:spPr>
          <a:xfrm>
            <a:off x="2286000" y="2971800"/>
            <a:ext cx="457200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1523880" y="2743200"/>
            <a:ext cx="6553440" cy="38862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raph-Coloring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isy Graph-Coloring 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edge connected to vertices of different colors, add +1 to evaluation function with probability 0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1" name="pogp" descr=""/>
          <p:cNvPicPr/>
          <p:nvPr/>
        </p:nvPicPr>
        <p:blipFill>
          <a:blip r:embed="rId1"/>
          <a:stretch/>
        </p:blipFill>
        <p:spPr>
          <a:xfrm>
            <a:off x="1600200" y="2819520"/>
            <a:ext cx="6400800" cy="37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eaks problem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ops.  Forgot this slid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1752480" y="2895480"/>
            <a:ext cx="5715000" cy="39625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heckerboard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6*16 grid of b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each bit in middle 14*14 subgrid, add +1 to evaluation for each of four neighbors set to opposite val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7" name="rectangle.histogram" descr=""/>
          <p:cNvPicPr/>
          <p:nvPr/>
        </p:nvPicPr>
        <p:blipFill>
          <a:blip r:embed="rId1"/>
          <a:stretch/>
        </p:blipFill>
        <p:spPr>
          <a:xfrm>
            <a:off x="1828800" y="1676520"/>
            <a:ext cx="5572080" cy="502920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/>
          <p:nvPr/>
        </p:nvSpPr>
        <p:spPr>
          <a:xfrm>
            <a:off x="3122640" y="3199680"/>
            <a:ext cx="291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enetic Algorithm (avg: 74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734280" y="4037760"/>
            <a:ext cx="168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BIL (avg: 74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657600" y="4876200"/>
            <a:ext cx="173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hain (avg: 76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733560" y="5790600"/>
            <a:ext cx="160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ee (avg: 776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inear Equation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81 bits again; 9 problems, each with results averaged over 25 ru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nimize err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4" name=""/>
          <p:cNvGraphicFramePr/>
          <p:nvPr/>
        </p:nvGraphicFramePr>
        <p:xfrm>
          <a:off x="609480" y="3200400"/>
          <a:ext cx="8153640" cy="2697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3200400"/>
                    <a:ext cx="8153640" cy="269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Higher-Order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aximum spanning tree algorithm gives us the optimal Bayesian Network in which each node has at most one par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bout finding the best network in which each node has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arents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1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P-complete problem! [Chickering, et al., 199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can use search heuristics to look for “good” network structures (e.g., [Heckerman, et al., 1995]), e.g. hillclimb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coring Function for Arbitrary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ther than restrict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irectly, add penalty term to scoring function to limit total network si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priors favoring simpler network 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ternatively, lends itself nicely to MDL interpre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ze of penalty controls exploration/exploitation tradeo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1295280" y="4114800"/>
            <a:ext cx="6307560" cy="917640"/>
            <a:chOff x="1295280" y="4114800"/>
            <a:chExt cx="6307560" cy="917640"/>
          </a:xfrm>
        </p:grpSpPr>
        <mc:AlternateContent>
          <mc:Choice xmlns:a14="http://schemas.microsoft.com/office/drawing/2010/main" Requires="a14">
            <p:sp>
              <p:nvSpPr>
                <p:cNvPr id="311" name=""/>
                <p:cNvSpPr txBox="1"/>
                <p:nvPr/>
              </p:nvSpPr>
              <p:spPr>
                <a:xfrm>
                  <a:off x="1295280" y="4114800"/>
                  <a:ext cx="5029200" cy="91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P</m:t>
                      </m:r>
                      <m:r>
                        <m:t xml:space="preserve">(</m:t>
                      </m:r>
                      <m:r>
                        <m:t xml:space="preserve">B</m:t>
                      </m:r>
                      <m:r>
                        <m:t xml:space="preserve">|</m:t>
                      </m:r>
                      <m:r>
                        <m:t xml:space="preserve">D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nary>
                        <m:naryPr>
                          <m:chr m:val="∑"/>
                        </m:naryPr>
                        <m:sub>
                          <m:r>
                            <m:t xml:space="preserve">i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n</m:t>
                          </m:r>
                        </m:sup>
                        <m:e>
                          <m:r>
                            <m:t xml:space="preserve">H</m:t>
                          </m:r>
                          <m:r>
                            <m:t xml:space="preserve">'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Π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B</m:t>
                          </m:r>
                          <m:r>
                            <m:t xml:space="preserve">)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p:sp>
          <p:nvSpPr>
            <p:cNvPr id="312" name=""/>
            <p:cNvSpPr/>
            <p:nvPr/>
          </p:nvSpPr>
          <p:spPr>
            <a:xfrm>
              <a:off x="6483240" y="4266360"/>
              <a:ext cx="1119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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3" name=""/>
          <p:cNvSpPr/>
          <p:nvPr/>
        </p:nvSpPr>
        <p:spPr>
          <a:xfrm>
            <a:off x="3079800" y="5180760"/>
            <a:ext cx="261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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nalty fa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221560" y="5760360"/>
            <a:ext cx="451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: number of parameter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ayesian Network-Based Combinatorial Optimiz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uniform distribution, and Bayesian networ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empty network containing no ed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steepest-ascent hillclimbing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find locally optimal network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peat until no changes increase scor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how each possible edge addition, removal or deletion would affect penalized log-likelihood sc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change that maximizes increase in sco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and evalu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ay weight of datapoi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cently generated datapoint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 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st Commonly Used Approach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limbing, simulated annea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andidate solutions “neighboring” single current working solution (e.g. differing by one b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ically make no attempt to model how particular bits affect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empt to implicitly capture dependency of solution quality on bit values by maintaining a population of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crossover and mutation operators on population members to generate new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utting Computational Cos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cache contingency tables for all possible one-arc changes to network stru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ly have to recompute scores associated with at most two nodes after arc added, removed, or rever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vents having to slog through the entire dataset recomputing score changes for every possible arc change when dataset chang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kiss memory goodby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a few network structure changes required after each iteration since dataset hasn’t changed much (one or two structural changes on averag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/>
          <p:nvPr/>
        </p:nvSpPr>
        <p:spPr>
          <a:xfrm>
            <a:off x="2209680" y="2438280"/>
            <a:ext cx="4724640" cy="41148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volution of Network Complex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00 bits; +1 added to evaluation function for every bit set to the parity of the previou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2" name="parity" descr=""/>
          <p:cNvPicPr/>
          <p:nvPr/>
        </p:nvPicPr>
        <p:blipFill>
          <a:blip r:embed="rId1"/>
          <a:stretch/>
        </p:blipFill>
        <p:spPr>
          <a:xfrm>
            <a:off x="2286000" y="2514600"/>
            <a:ext cx="457200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mmation Cancell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nimize magnitudes of cumulative sum of discretized numeric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represented with standard binary encod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5" name=""/>
          <p:cNvGraphicFramePr/>
          <p:nvPr/>
        </p:nvGraphicFramePr>
        <p:xfrm>
          <a:off x="609480" y="4191120"/>
          <a:ext cx="7842240" cy="2003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4191120"/>
                    <a:ext cx="7842240" cy="20034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27" name=""/>
              <p:cNvSpPr txBox="1"/>
              <p:nvPr/>
            </p:nvSpPr>
            <p:spPr>
              <a:xfrm>
                <a:off x="380880" y="3048120"/>
                <a:ext cx="205740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≤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≤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8" name=""/>
              <p:cNvSpPr txBox="1"/>
              <p:nvPr/>
            </p:nvSpPr>
            <p:spPr>
              <a:xfrm>
                <a:off x="914400" y="3505320"/>
                <a:ext cx="990720" cy="32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9" name=""/>
              <p:cNvSpPr txBox="1"/>
              <p:nvPr/>
            </p:nvSpPr>
            <p:spPr>
              <a:xfrm>
                <a:off x="3657600" y="2971800"/>
                <a:ext cx="83808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0" name=""/>
              <p:cNvSpPr txBox="1"/>
              <p:nvPr/>
            </p:nvSpPr>
            <p:spPr>
              <a:xfrm>
                <a:off x="2666880" y="3505320"/>
                <a:ext cx="3048120" cy="45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for 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1" name=""/>
              <p:cNvSpPr txBox="1"/>
              <p:nvPr/>
            </p:nvSpPr>
            <p:spPr>
              <a:xfrm>
                <a:off x="6324480" y="2895480"/>
                <a:ext cx="2057400" cy="115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</m:num>
                      <m:den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000</m:t>
                            </m:r>
                          </m:den>
                        </m:f>
                        <m:r>
                          <m:t xml:space="preserve">+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d>
                                  <m:dPr>
                                    <m:begChr m:val="|"/>
                                    <m:endChr m:val="|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nary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32" name=""/>
          <p:cNvSpPr/>
          <p:nvPr/>
        </p:nvSpPr>
        <p:spPr>
          <a:xfrm>
            <a:off x="221760" y="6171120"/>
            <a:ext cx="87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erage value over 50 runs of best solution found in 2000 gen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: Empirical Results Summ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636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better than Tree-based optimization algorithm on some toy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gnificantly better on “Summation Cancellation” 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% reduction in error on System of Linear Equation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ughly the same as Tree-based algorithm on others, e.g. small Knapsack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ificantly more computation despite efficiency hacks, howev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not much better performanc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o much emphasis on exploitation rather than explor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epest-ascent hillclimbing over network structures not good enough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9194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Probabilistic Models for Intelligent Resta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algorithm’s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execution time per generation very expensive for large problem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 more so for more complicated Bayesian net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possible approach: use probabilistic models to select good starting points for faster optimization algorithms, e.g. hillclimb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bining Optimizers with Mutual Information Trees [Baluja &amp; Davies, 1997b]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data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bitstrings drawn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the distribution represented b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ecute a hillclimbing run starting from single best bitstring of the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lace up to M bitstrings in D with the best bitstrings found during the hillclimbing ru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, cont’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pirical tests performed with stochastic hillclimbing algorithm that allows at most PATIENCE moves to points of equal value before restar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are COMIT vs.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itstrings 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est bitstring ou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algorithm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/>
          <p:nvPr/>
        </p:nvSpPr>
        <p:spPr>
          <a:xfrm>
            <a:off x="533520" y="1981080"/>
            <a:ext cx="8076960" cy="43434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: Example of Behavi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SP domain: 100 cities, 700 b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4" name="HCperf.lite" descr=""/>
          <p:cNvPicPr/>
          <p:nvPr/>
        </p:nvPicPr>
        <p:blipFill>
          <a:blip r:embed="rId1"/>
          <a:stretch/>
        </p:blipFill>
        <p:spPr>
          <a:xfrm>
            <a:off x="1676520" y="2133720"/>
            <a:ext cx="6643440" cy="1676160"/>
          </a:xfrm>
          <a:prstGeom prst="rect">
            <a:avLst/>
          </a:prstGeom>
          <a:ln w="0">
            <a:noFill/>
          </a:ln>
        </p:spPr>
      </p:pic>
      <p:pic>
        <p:nvPicPr>
          <p:cNvPr id="345" name="Tperf.lite" descr=""/>
          <p:cNvPicPr/>
          <p:nvPr/>
        </p:nvPicPr>
        <p:blipFill>
          <a:blip r:embed="rId2"/>
          <a:stretch/>
        </p:blipFill>
        <p:spPr>
          <a:xfrm>
            <a:off x="1676520" y="3962520"/>
            <a:ext cx="6656400" cy="1676160"/>
          </a:xfrm>
          <a:prstGeom prst="rect">
            <a:avLst/>
          </a:prstGeom>
          <a:ln w="0">
            <a:noFill/>
          </a:ln>
        </p:spPr>
      </p:pic>
      <p:sp>
        <p:nvSpPr>
          <p:cNvPr id="346" name=""/>
          <p:cNvSpPr/>
          <p:nvPr/>
        </p:nvSpPr>
        <p:spPr>
          <a:xfrm>
            <a:off x="3503880" y="5790240"/>
            <a:ext cx="277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ion Number *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15840" y="2594880"/>
            <a:ext cx="546120" cy="23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ur Length *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: Empirical Comparison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number is average over at least 25 ru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lighted: better than each non-COMIT hillclimber with P &gt; 95%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HCxxx: pick best of xxx randomly generated starting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ITxxx: pick best of xxx starting points generated by t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0" name=""/>
          <p:cNvGraphicFramePr/>
          <p:nvPr/>
        </p:nvGraphicFramePr>
        <p:xfrm>
          <a:off x="838080" y="4267080"/>
          <a:ext cx="7467840" cy="2246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4267080"/>
                    <a:ext cx="7467840" cy="224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uses very simple probability distribution from which new solutions are generated, yet works surprisingly we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orithm using tree-based distributions seems to work even better, though at significantly more computational expen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sophisticated networks: past the point of diminishing marginal returns?  “Future research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makes tree-based algorithm applicable to much larger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ing Explicit Probabilistic Mode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788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tain an explicit probabilit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which we generate new candidate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ndidate solution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make it more likely to generate solutions “similar” to the “good”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al different choices for what sort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use and how to update it after candidate solution eval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ing algorithm based on complex Bayesian Networks more pract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bine w/simpler search algorithms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M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ying COMIT to more interesting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LKS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COMIT to combine results of multiple search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mization in real-valued state spaces. What sorts of PDF representations might be usefu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ussia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rnel-based representatio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erarchical representatio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nds off :-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cknowledgem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ug Baker, Justin Boyan, Lonnie Chrisman, Greg Cooper, Geoff Gordon, Andrew Moore, …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bability Distributions Over Bitstring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take one of the values {0, 1}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length of the bitstr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factorize an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it by bi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general, the above formula is just another way of representing a big lookup table with one entry for each of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ossible bitstring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viously too many parameters to estimate from limited data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resenting Independencies with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phical representation of probability distrib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variable is a vert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variable’s probability distribution is conditioned only on its parents in the directed acyclic graph (“dag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42960" y="449568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386160" y="373392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624040" y="4495680"/>
            <a:ext cx="53208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071960" y="449568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852640" y="5638680"/>
            <a:ext cx="53208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41560" y="3580560"/>
            <a:ext cx="156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an on Fi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568040" y="4418640"/>
            <a:ext cx="1305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re Ala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v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32600" y="6095160"/>
            <a:ext cx="126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ar B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1" name=""/>
          <p:cNvCxnSpPr>
            <a:stCxn id="114" idx="3"/>
            <a:endCxn id="115" idx="7"/>
          </p:cNvCxnSpPr>
          <p:nvPr/>
        </p:nvCxnSpPr>
        <p:spPr>
          <a:xfrm flipH="1">
            <a:off x="3077640" y="4205160"/>
            <a:ext cx="386640" cy="3549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2" name=""/>
          <p:cNvCxnSpPr>
            <a:stCxn id="114" idx="5"/>
            <a:endCxn id="116" idx="1"/>
          </p:cNvCxnSpPr>
          <p:nvPr/>
        </p:nvCxnSpPr>
        <p:spPr>
          <a:xfrm>
            <a:off x="3840120" y="4205160"/>
            <a:ext cx="310320" cy="3549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15" idx="4"/>
            <a:endCxn id="117" idx="0"/>
          </p:cNvCxnSpPr>
          <p:nvPr/>
        </p:nvCxnSpPr>
        <p:spPr>
          <a:xfrm>
            <a:off x="2890440" y="5045040"/>
            <a:ext cx="229320" cy="5803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4" name=""/>
          <p:cNvCxnSpPr>
            <a:stCxn id="113" idx="5"/>
            <a:endCxn id="117" idx="1"/>
          </p:cNvCxnSpPr>
          <p:nvPr/>
        </p:nvCxnSpPr>
        <p:spPr>
          <a:xfrm>
            <a:off x="1096560" y="4967280"/>
            <a:ext cx="1834200" cy="735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116" idx="3"/>
            <a:endCxn id="117" idx="7"/>
          </p:cNvCxnSpPr>
          <p:nvPr/>
        </p:nvCxnSpPr>
        <p:spPr>
          <a:xfrm flipH="1">
            <a:off x="3306240" y="4967280"/>
            <a:ext cx="843840" cy="735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" name=""/>
          <p:cNvSpPr/>
          <p:nvPr/>
        </p:nvSpPr>
        <p:spPr>
          <a:xfrm>
            <a:off x="1369800" y="3808800"/>
            <a:ext cx="1605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ce Cr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uck Nearb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87560" y="4951800"/>
            <a:ext cx="132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fic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or Op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555960" y="3654720"/>
            <a:ext cx="2037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9042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” for Bitstring Optimiz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1981080" y="2106360"/>
            <a:ext cx="4800240" cy="1496520"/>
            <a:chOff x="1981080" y="2106360"/>
            <a:chExt cx="4800240" cy="1496520"/>
          </a:xfrm>
        </p:grpSpPr>
        <p:sp>
          <p:nvSpPr>
            <p:cNvPr id="132" name=""/>
            <p:cNvSpPr/>
            <p:nvPr/>
          </p:nvSpPr>
          <p:spPr>
            <a:xfrm>
              <a:off x="198108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98116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98124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381360" y="254088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6" name=""/>
            <p:cNvCxnSpPr>
              <a:stCxn id="132" idx="6"/>
              <a:endCxn id="133" idx="2"/>
            </p:cNvCxnSpPr>
            <p:nvPr/>
          </p:nvCxnSpPr>
          <p:spPr>
            <a:xfrm>
              <a:off x="2393640" y="2725920"/>
              <a:ext cx="5752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7" name=""/>
            <p:cNvCxnSpPr>
              <a:stCxn id="133" idx="6"/>
              <a:endCxn id="134" idx="2"/>
            </p:cNvCxnSpPr>
            <p:nvPr/>
          </p:nvCxnSpPr>
          <p:spPr>
            <a:xfrm>
              <a:off x="3393720" y="2725920"/>
              <a:ext cx="5752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8" name=""/>
            <p:cNvCxnSpPr>
              <a:stCxn id="132" idx="5"/>
              <a:endCxn id="134" idx="3"/>
            </p:cNvCxnSpPr>
            <p:nvPr/>
          </p:nvCxnSpPr>
          <p:spPr>
            <a:xfrm flipH="1" rot="16200000">
              <a:off x="3180240" y="2021760"/>
              <a:ext cx="2160" cy="1717200"/>
            </a:xfrm>
            <a:prstGeom prst="curvedConnector5">
              <a:avLst>
                <a:gd name="adj1" fmla="val 17700000"/>
                <a:gd name="adj2" fmla="val 49989"/>
                <a:gd name="adj3" fmla="val 177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9" name=""/>
            <p:cNvCxnSpPr>
              <a:stCxn id="134" idx="6"/>
            </p:cNvCxnSpPr>
            <p:nvPr/>
          </p:nvCxnSpPr>
          <p:spPr>
            <a:xfrm>
              <a:off x="4393800" y="2726280"/>
              <a:ext cx="321120" cy="14400"/>
            </a:xfrm>
            <a:prstGeom prst="curvedConnector5">
              <a:avLst>
                <a:gd name="adj1" fmla="val 48035"/>
                <a:gd name="adj2" fmla="val 48717"/>
                <a:gd name="adj3" fmla="val 48035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0" name=""/>
            <p:cNvCxnSpPr>
              <a:stCxn id="132" idx="3"/>
              <a:endCxn id="135" idx="4"/>
            </p:cNvCxnSpPr>
            <p:nvPr/>
          </p:nvCxnSpPr>
          <p:spPr>
            <a:xfrm flipH="1" rot="16200000">
              <a:off x="4272840" y="644400"/>
              <a:ext cx="72360" cy="4542480"/>
            </a:xfrm>
            <a:prstGeom prst="curvedConnector5">
              <a:avLst>
                <a:gd name="adj1" fmla="val 1004500"/>
                <a:gd name="adj2" fmla="val 49996"/>
                <a:gd name="adj3" fmla="val 10045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1" name=""/>
            <p:cNvCxnSpPr>
              <a:endCxn id="135" idx="2"/>
            </p:cNvCxnSpPr>
            <p:nvPr/>
          </p:nvCxnSpPr>
          <p:spPr>
            <a:xfrm>
              <a:off x="5780880" y="2739600"/>
              <a:ext cx="5878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2" name=""/>
            <p:cNvCxnSpPr>
              <a:stCxn id="133" idx="0"/>
              <a:endCxn id="135" idx="0"/>
            </p:cNvCxnSpPr>
            <p:nvPr/>
          </p:nvCxnSpPr>
          <p:spPr>
            <a:xfrm flipH="1" rot="16200000">
              <a:off x="4874040" y="821160"/>
              <a:ext cx="14400" cy="3400920"/>
            </a:xfrm>
            <a:prstGeom prst="curvedConnector5">
              <a:avLst>
                <a:gd name="adj1" fmla="val -2907692"/>
                <a:gd name="adj2" fmla="val 50000"/>
                <a:gd name="adj3" fmla="val -2907692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3" name=""/>
            <p:cNvCxnSpPr>
              <a:stCxn id="134" idx="5"/>
              <a:endCxn id="135" idx="3"/>
            </p:cNvCxnSpPr>
            <p:nvPr/>
          </p:nvCxnSpPr>
          <p:spPr>
            <a:xfrm flipH="1" rot="16200000">
              <a:off x="5374440" y="1827720"/>
              <a:ext cx="14400" cy="2117520"/>
            </a:xfrm>
            <a:prstGeom prst="curvedConnector5">
              <a:avLst>
                <a:gd name="adj1" fmla="val 1869230"/>
                <a:gd name="adj2" fmla="val 49991"/>
                <a:gd name="adj3" fmla="val 186923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4" name=""/>
            <p:cNvCxnSpPr>
              <a:stCxn id="145" idx="3"/>
              <a:endCxn id="135" idx="1"/>
            </p:cNvCxnSpPr>
            <p:nvPr/>
          </p:nvCxnSpPr>
          <p:spPr>
            <a:xfrm flipH="1" rot="10800000">
              <a:off x="5793120" y="2585520"/>
              <a:ext cx="645840" cy="199800"/>
            </a:xfrm>
            <a:prstGeom prst="curvedConnector5">
              <a:avLst>
                <a:gd name="adj1" fmla="val -5131"/>
                <a:gd name="adj2" fmla="val 57581"/>
                <a:gd name="adj3" fmla="val -5131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5" name=""/>
            <p:cNvSpPr/>
            <p:nvPr/>
          </p:nvSpPr>
          <p:spPr>
            <a:xfrm>
              <a:off x="4714560" y="2553480"/>
              <a:ext cx="1066680" cy="4644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981320" y="2752560"/>
              <a:ext cx="6660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248080" y="2752560"/>
              <a:ext cx="6624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514480" y="2752560"/>
              <a:ext cx="6660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9" name=""/>
            <p:cNvCxnSpPr>
              <a:stCxn id="132" idx="4"/>
              <a:endCxn id="145" idx="2"/>
            </p:cNvCxnSpPr>
            <p:nvPr/>
          </p:nvCxnSpPr>
          <p:spPr>
            <a:xfrm flipH="1" rot="16200000">
              <a:off x="3666960" y="1450440"/>
              <a:ext cx="93240" cy="3067560"/>
            </a:xfrm>
            <a:prstGeom prst="curvedConnector5">
              <a:avLst>
                <a:gd name="adj1" fmla="val 410077"/>
                <a:gd name="adj2" fmla="val 50000"/>
                <a:gd name="adj3" fmla="val 410077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0" name=""/>
            <p:cNvCxnSpPr>
              <a:stCxn id="133" idx="7"/>
              <a:endCxn id="145" idx="0"/>
            </p:cNvCxnSpPr>
            <p:nvPr/>
          </p:nvCxnSpPr>
          <p:spPr>
            <a:xfrm flipH="1" flipV="1" rot="5400000">
              <a:off x="4269600" y="1593360"/>
              <a:ext cx="31680" cy="1926000"/>
            </a:xfrm>
            <a:prstGeom prst="curvedConnector5">
              <a:avLst>
                <a:gd name="adj1" fmla="val 778160"/>
                <a:gd name="adj2" fmla="val 49990"/>
                <a:gd name="adj3" fmla="val 77816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51" name=""/>
          <p:cNvSpPr/>
          <p:nvPr/>
        </p:nvSpPr>
        <p:spPr>
          <a:xfrm>
            <a:off x="457200" y="3886200"/>
            <a:ext cx="8178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lvl="1" marL="401040" indent="-154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uck.  Let’s just assume all the bits are independent inste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01040" indent="-154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or now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2286000" y="5486400"/>
            <a:ext cx="4343040" cy="380880"/>
            <a:chOff x="2286000" y="5486400"/>
            <a:chExt cx="4343040" cy="380880"/>
          </a:xfrm>
        </p:grpSpPr>
        <p:sp>
          <p:nvSpPr>
            <p:cNvPr id="153" name=""/>
            <p:cNvSpPr/>
            <p:nvPr/>
          </p:nvSpPr>
          <p:spPr>
            <a:xfrm>
              <a:off x="228600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19068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09572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267240" y="550764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7" name=""/>
            <p:cNvGrpSpPr/>
            <p:nvPr/>
          </p:nvGrpSpPr>
          <p:grpSpPr>
            <a:xfrm>
              <a:off x="4879800" y="5486400"/>
              <a:ext cx="964800" cy="380880"/>
              <a:chOff x="4879800" y="5486400"/>
              <a:chExt cx="964800" cy="380880"/>
            </a:xfrm>
          </p:grpSpPr>
          <p:sp>
            <p:nvSpPr>
              <p:cNvPr id="158" name=""/>
              <p:cNvSpPr/>
              <p:nvPr/>
            </p:nvSpPr>
            <p:spPr>
              <a:xfrm>
                <a:off x="4879800" y="5486400"/>
                <a:ext cx="964800" cy="38088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512064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530172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548244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2" name=""/>
          <p:cNvSpPr/>
          <p:nvPr/>
        </p:nvSpPr>
        <p:spPr>
          <a:xfrm>
            <a:off x="2819520" y="6019920"/>
            <a:ext cx="3200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hhh.  Much be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752480" y="4876920"/>
            <a:ext cx="5257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pulation-Based Incremental Lear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pulation-Based Incremental Learning (PBIL) [Baluja, 1995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tains a vector of probabilities: one independent probabilit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for each bi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a population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the b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s follow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1981080" y="4800600"/>
                <a:ext cx="3657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'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7" name=""/>
          <p:cNvSpPr/>
          <p:nvPr/>
        </p:nvSpPr>
        <p:spPr>
          <a:xfrm>
            <a:off x="5791320" y="470268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3048120" y="5105520"/>
                <a:ext cx="2133360" cy="34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9" name=""/>
          <p:cNvSpPr/>
          <p:nvPr/>
        </p:nvSpPr>
        <p:spPr>
          <a:xfrm>
            <a:off x="5791320" y="506772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514960" y="508860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57200" y="5410080"/>
            <a:ext cx="81788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 lvl="2" marL="799920" indent="-159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tionally, also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ilarly with the bitwise complement of the worst of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119960" indent="-159840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BIL vs. Discrete Learning Autom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quivalent to a team of Discrete Learning Automata, one automata per bit. [Thathachar &amp; Sastry, 198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ing automata choose actions independently, but receive common reinforcement signal dependent on all their 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 update rule equivalent to linear reward-inaction algorithm [Hilgard &amp; Bower, 1975] with “success” defined as “best in the bunc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ever, Discrete Learning Automata typically used previously in problems with few variables but noisy evaluation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15T00:35:01Z</dcterms:created>
  <dc:creator>Scott Davies</dc:creator>
  <dc:description/>
  <dc:language>en-US</dc:language>
  <cp:lastModifiedBy>Scott Davies</cp:lastModifiedBy>
  <cp:lastPrinted>1997-11-19T00:35:10Z</cp:lastPrinted>
  <dcterms:modified xsi:type="dcterms:W3CDTF">1997-11-19T02:13:25Z</dcterms:modified>
  <cp:revision>95</cp:revision>
  <dc:subject/>
  <dc:title>No Slide Title</dc:title>
</cp:coreProperties>
</file>