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FA0DA93-B837-46EB-8A40-13291D60C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more comments about PB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SC: keep a probability vector like PBIL’s, only after every generation,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alculate it from scratch from the datapoints you just generated. 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bitwise average of all K datapoints, where each point’s contribution is weigh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probability that a GA would have selected it for re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you might expect normal GAs using crossover to work better th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IL or BSC, since in some sense they implicity capture ibd’s by maint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of 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often winds up disrupting useful combinations ra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maintaining them or producing new useful comb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pparent “dependencies” may just be an artifact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ed set of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 definition goes like th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of the number of 1’s at the beginning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 and the number of 0’s at the en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s a bonus if there are BOTH at least T 1’s at the 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 0’s at the 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 increases, it becomes harder and harder to get the bonus.  However,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s the GA manages to simultaneously grow some solutions with lot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s at the start and some with lots of 0’s at the end, it can trivially combine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one-point crossover at the end to grab the bon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“peaks” correspond to four local optima, two of which have the bonus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f which don’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1: pop 200, mut .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2: pop 200, 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3: pop 500, .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4: pop 500, 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tist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IL: no mutation, update from top 2 of 200, learning rate 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SH1: maintains list of possibilities tried.  If no improvement possible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solution, gives up and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SH2: allows at most 10*bitstring length moves to solutions of equal qual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SH3: restart forced 5 times at equally spaced interv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IL 1: learning rate .1, update with best 1 of 100, .02 chance of muta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tude .0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IL2: also do negative update from worst example, with learning rate .0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GA: 2-point crossover w/rate 100%, mutation .001, popsize 100, elitist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-Scale: same but with uniform crossover (80% rate); subtract worst fit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, for convenience, the log of that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th isn’t actually all that complicated, but we’re short on tim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so I’ll skip ahead to the end result; if we have time at the end and anyone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ested, I can explain the derivation th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r with me for a bit while this gets a little messy, since it’ll clean up nic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next slide, and hopefully it’ll all be worth at, at least to those of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ested in automatically learning networks from data for, for exampl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variable representing the ith bit in a bit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ume that the points are generated iid.  The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P(datapoint) = P(one bit in the Bayesian network given the value of 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in the graph), times P(second bit in network given the value of ITS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graph), etc. etc.  So we rewrite this like th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|D| times P’ equals number of times latter term appears in this equation up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p the size of the dataset, since it’s const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the intuitively obvious thing.  If you want, you can crunch around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grange multipliers and prove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ast equation is basically the definition of the average conditional entropy of 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its parents.  For any specific setting of a variable’s parents, we can calc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tropy of that node’s conditional distribution.  For example, given tha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’s door is closed, there’s no chance at all that the student will hear the fire alarm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f we also know that there aren’t any ice cream trucks wandering around campu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tropy of Hear Bells is zero.  On the other hand, if there are no ice cream tru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alarm is going off but the door is open, then there’s a small chance that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  will hear the alarm, and so the entropy of Hear Bells is non-zero. 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conditional entropy of a variable is just the average of all those individual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al entropies, weighted by the probabilities that the corresp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ations of the parents’ values will occ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 over the variables xi of the average conditional entropy of xi given its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network.  Minus that, actually, since entropy is b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an example for how to calculate average conditional entrop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focus on x20’s contribution to the sco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x17 and x32 are both zero, then x20 is 0 half of the time and 1 half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, so the entropy of x20 is 1 bit.  OK, well, x17 and x32 are both se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ten eightieths of the time, so let’s multiply that entropy by 1/8.  Similarl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20/80 of the time, x17 is set to 0 but x32 is set to 1, and in those c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0 is true 5/20 of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hould note that our algorithm was heavily inspired by an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at MIT by Jeremy DeBonet et al called Mutual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ization for Input Clustering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MIMIC used a greedy heuristic for learning chain-shaped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tree-shaped networks; apparently they were thinking in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Markov chains and weren’t thinking in terms of Bayesian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, rather than using the exponential decay method we just describe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 they used the top n% (say 10%) of all the datapoint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had EVER generated, putting no more weight on more rec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d exampl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quite as expensive as you might think, because you can cache comp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ough at the expense of massive memory consumption).  Also, becaus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sets are only changing slightly every iteration and we start th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 network structures from a network that was locally optimal last itera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 few moves are made during each hillclimbing run over network structur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.e. one or two arc changes per it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the bitstring is of length n; let’s call the bits x1 through x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the rules of conditional probability, we can rewrite any arbit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int distribution over all the bits as follow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imple discrete learning automaton is an algorithm for solving a k-arm band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 that is guaranteed to eventually keep yanking on the best arm after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ly long time if you use a sufficiently small learning rate.  Previous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[Thath and Sas] has involved grouping teams of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, one per solution parameter (bit, for example), that choose the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s independently but receive a common reinforcement from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IL’s update rule is exactly the same as the linear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commonly used to train learning automata in situations wher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nforcement from the environment is binary.  So, PBIL is basically u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t of the batch” as a definition of “success” and using the lin rew. In. r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the Thath&amp;Sastry paper’s experimental results consisted larg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rying to optimally set two crudely discretized parameters of a classifier (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isy training examples were presented one by one)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ing that it converged to the right value like 7 out of 10 ti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C178-D32A-45B8-8654-41B5788B3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5F21-A627-4EE4-808B-CF8B3F97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82AE-B5D9-4CBF-9287-CEEF71061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BF9F-E657-4BE7-A13E-017E4C947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AC5B-0FE7-4E66-BB5F-42C916556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DBB5-E497-4117-8D0E-26AD5B7C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06AC-85AE-4A62-B086-64267167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7FBE-7E9A-40D9-A2DC-F1375E16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B366-3DA5-471E-A660-05599EE5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D948-69AE-4B2A-A99E-689A844B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D5E3-785D-4D25-A0CA-EF8A335F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67DE-C9E1-4E8F-B77F-62990DBC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0781-6EA6-4941-BF80-65A5E856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281C-FB8C-42CA-9DF1-C5B9A620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C6F4-DC69-4873-8BBD-04A56916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D1FF-19C1-4E5D-A191-39CAC9903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9330-3F05-4ABF-8CA8-0485907CE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C3EE-81C0-4861-A591-E695B7A8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484F-EF04-4F11-81D6-B0395D46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CCA3-F9CC-4386-80B9-A0BE0D62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2553-8F78-452F-AA21-8E47A0D4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C913-C5FD-4B48-896A-B02E6A38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B614-5591-421C-942C-06FB7A17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4014-3AE7-4203-B7CC-A0B3F20B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1BAE-DC40-4BAE-9A99-D3AD78C985F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1847-FAE6-4668-BFAA-0BF39288E3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one partially at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 with one-point crossover can combine two solutions to get Bonus relatively easil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057400" y="2590920"/>
            <a:ext cx="449568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 GA settings tried; best five shown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over 50 runs. 100 bits, varying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ga.vs.pbil.twin.peaks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43434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ry, this slide is a placeholder for a big table on another non-PowerPoint sli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st of results: 27 domains; comparison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versions of 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versions of multiple-restart 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best on 22, hillclimbing on 3, GA o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kelihood Scoring Fu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125360" y="3521160"/>
                <a:ext cx="68947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lihood Scoring Function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5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8" name=""/>
            <p:cNvCxnSpPr>
              <a:stCxn id="205" idx="5"/>
              <a:endCxn id="206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stCxn id="207" idx="3"/>
              <a:endCxn id="206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>
              <a:endCxn id="205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1" name=""/>
            <p:cNvCxnSpPr>
              <a:endCxn id="205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2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3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6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8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9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326520" y="5942520"/>
            <a:ext cx="43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40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7" name=""/>
            <p:cNvCxnSpPr>
              <a:stCxn id="240" idx="4"/>
              <a:endCxn id="241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2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0" name=""/>
            <p:cNvCxnSpPr>
              <a:stCxn id="242" idx="3"/>
              <a:endCxn id="246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1" name=""/>
            <p:cNvCxnSpPr>
              <a:stCxn id="242" idx="5"/>
              <a:endCxn id="245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2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4" name=""/>
            <p:cNvCxnSpPr>
              <a:stCxn id="243" idx="4"/>
              <a:endCxn id="252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3" idx="5"/>
              <a:endCxn id="253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46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44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52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3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4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3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45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3" name=""/>
            <p:cNvCxnSpPr>
              <a:stCxn id="245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41" idx="4"/>
              <a:endCxn id="244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5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3" idx="6"/>
            <a:endCxn id="275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75" idx="6"/>
            <a:endCxn id="274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4" idx="6"/>
            <a:endCxn id="276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0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3" name=""/>
          <p:cNvCxnSpPr>
            <a:stCxn id="276" idx="6"/>
            <a:endCxn id="280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209680" y="2895480"/>
            <a:ext cx="4724640" cy="3733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ing a system of linear equations the hard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 of best solution as a function of generation #, averaged over 10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1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dataset" descr=""/>
          <p:cNvPicPr/>
          <p:nvPr/>
        </p:nvPicPr>
        <p:blipFill>
          <a:blip r:embed="rId1"/>
          <a:stretch/>
        </p:blipFill>
        <p:spPr>
          <a:xfrm>
            <a:off x="2286000" y="2971800"/>
            <a:ext cx="4572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ction of time Bonus rewarded in 100 ru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828800" y="2133720"/>
            <a:ext cx="5791320" cy="4495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four.ga.idraw" descr=""/>
          <p:cNvPicPr/>
          <p:nvPr/>
        </p:nvPicPr>
        <p:blipFill>
          <a:blip r:embed="rId1"/>
          <a:stretch/>
        </p:blipFill>
        <p:spPr>
          <a:xfrm>
            <a:off x="1901880" y="2206800"/>
            <a:ext cx="2786040" cy="2138040"/>
          </a:xfrm>
          <a:prstGeom prst="rect">
            <a:avLst/>
          </a:prstGeom>
          <a:ln w="0">
            <a:noFill/>
          </a:ln>
        </p:spPr>
      </p:pic>
      <p:pic>
        <p:nvPicPr>
          <p:cNvPr id="296" name="four.cmp.idraw" descr=""/>
          <p:cNvPicPr/>
          <p:nvPr/>
        </p:nvPicPr>
        <p:blipFill>
          <a:blip r:embed="rId2"/>
          <a:stretch/>
        </p:blipFill>
        <p:spPr>
          <a:xfrm>
            <a:off x="4761000" y="2206800"/>
            <a:ext cx="2786040" cy="2160360"/>
          </a:xfrm>
          <a:prstGeom prst="rect">
            <a:avLst/>
          </a:prstGeom>
          <a:ln w="0">
            <a:noFill/>
          </a:ln>
        </p:spPr>
      </p:pic>
      <p:pic>
        <p:nvPicPr>
          <p:cNvPr id="297" name="six.cmp.idraw" descr=""/>
          <p:cNvPicPr/>
          <p:nvPr/>
        </p:nvPicPr>
        <p:blipFill>
          <a:blip r:embed="rId3"/>
          <a:stretch/>
        </p:blipFill>
        <p:spPr>
          <a:xfrm>
            <a:off x="1901880" y="4417920"/>
            <a:ext cx="2786040" cy="2175120"/>
          </a:xfrm>
          <a:prstGeom prst="rect">
            <a:avLst/>
          </a:prstGeom>
          <a:ln w="0">
            <a:noFill/>
          </a:ln>
        </p:spPr>
      </p:pic>
      <p:pic>
        <p:nvPicPr>
          <p:cNvPr id="298" name="holte.cmp.idraw" descr=""/>
          <p:cNvPicPr/>
          <p:nvPr/>
        </p:nvPicPr>
        <p:blipFill>
          <a:blip r:embed="rId4"/>
          <a:stretch/>
        </p:blipFill>
        <p:spPr>
          <a:xfrm>
            <a:off x="4761000" y="4417920"/>
            <a:ext cx="278604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752480" y="2895480"/>
            <a:ext cx="5715000" cy="3962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*16 grid of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bit in middle 14*14 subgrid, add +1 to evaluation for each of four neighbors set to opposite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rectangle.histogram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572080" cy="50292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3122640" y="3199680"/>
            <a:ext cx="291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tic Algorithm (avg: 74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734280" y="403776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BIL (avg: 74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657600" y="487620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in (avg: 76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560" y="579060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ee (avg: 77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1 bits again; 9 problems, each with results averaged over 25 ru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609480" y="3200400"/>
          <a:ext cx="8153640" cy="269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8153640" cy="26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316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17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2209680" y="2438280"/>
            <a:ext cx="4724640" cy="4114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 bits; +1 added to evaluation function for every bit set to the parity of the previou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arity" descr=""/>
          <p:cNvPicPr/>
          <p:nvPr/>
        </p:nvPicPr>
        <p:blipFill>
          <a:blip r:embed="rId1"/>
          <a:stretch/>
        </p:blipFill>
        <p:spPr>
          <a:xfrm>
            <a:off x="2286000" y="2514600"/>
            <a:ext cx="4572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I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350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P &gt; 95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838080" y="4267080"/>
          <a:ext cx="7467840" cy="224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267080"/>
                    <a:ext cx="7467840" cy="22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ds off :-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stsystem Pittsburgh Research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…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lvl="2" marL="720000" indent="-1440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, and/or “mutate”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random twea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8000" indent="-14400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cp:lastPrinted>1997-11-19T08:05:56Z</cp:lastPrinted>
  <dcterms:modified xsi:type="dcterms:W3CDTF">1997-11-23T04:43:19Z</dcterms:modified>
  <cp:revision>108</cp:revision>
  <dc:subject/>
  <dc:title>No Slide Title</dc:title>
</cp:coreProperties>
</file>