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52C602-4D90-47D2-89CC-7A3C548DE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DEB73-8646-4909-9D92-F9234E678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1F33EA-577B-416D-80D5-C99B7DF60B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0E9FBC-8964-4983-ACAE-A4E3C4012F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D93BA-E5A3-4F98-8C31-4B9975F834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48291E-13EF-4DD7-A7EF-3D1E516EA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9C8FCA-0B2B-4477-868F-FB57F3D3E1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A2D2A-DB13-443F-BF88-3DD135B0F7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C7578-F126-4D46-964E-7CA902DA4E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49E2E3-4DA9-4535-891F-2759541AD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C4A635-7070-4F01-BFE0-C7FE013754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5B8C1F-059B-4B75-9C49-FF4D14E3A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021AA8E7-DECD-4B56-A1A8-143296BAE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Searching: Deterministic single-agent</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56627BA7-E885-4007-9A45-48FD4A24D3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3" name="" descr=""/>
          <p:cNvPicPr/>
          <p:nvPr/>
        </p:nvPicPr>
        <p:blipFill>
          <a:blip r:embed="rId1"/>
          <a:stretch/>
        </p:blipFill>
        <p:spPr>
          <a:xfrm>
            <a:off x="4876920" y="4191120"/>
            <a:ext cx="2590560" cy="2060280"/>
          </a:xfrm>
          <a:prstGeom prst="rect">
            <a:avLst/>
          </a:prstGeom>
          <a:ln w="0">
            <a:noFill/>
          </a:ln>
        </p:spPr>
      </p:pic>
      <p:pic>
        <p:nvPicPr>
          <p:cNvPr id="174" name="" descr=""/>
          <p:cNvPicPr/>
          <p:nvPr/>
        </p:nvPicPr>
        <p:blipFill>
          <a:blip r:embed="rId2"/>
          <a:stretch/>
        </p:blipFill>
        <p:spPr>
          <a:xfrm>
            <a:off x="6477120" y="1143000"/>
            <a:ext cx="2423880" cy="2335320"/>
          </a:xfrm>
          <a:prstGeom prst="rect">
            <a:avLst/>
          </a:prstGeom>
          <a:ln w="0">
            <a:noFill/>
          </a:ln>
        </p:spPr>
      </p:pic>
      <p:pic>
        <p:nvPicPr>
          <p:cNvPr id="175" name="" descr=""/>
          <p:cNvPicPr/>
          <p:nvPr/>
        </p:nvPicPr>
        <p:blipFill>
          <a:blip r:embed="rId3"/>
          <a:stretch/>
        </p:blipFill>
        <p:spPr>
          <a:xfrm>
            <a:off x="533520" y="1219320"/>
            <a:ext cx="2666880" cy="2004840"/>
          </a:xfrm>
          <a:prstGeom prst="rect">
            <a:avLst/>
          </a:prstGeom>
          <a:ln w="0">
            <a:noFill/>
          </a:ln>
        </p:spPr>
      </p:pic>
      <p:pic>
        <p:nvPicPr>
          <p:cNvPr id="176" name="" descr=""/>
          <p:cNvPicPr/>
          <p:nvPr/>
        </p:nvPicPr>
        <p:blipFill>
          <a:blip r:embed="rId4"/>
          <a:stretch/>
        </p:blipFill>
        <p:spPr>
          <a:xfrm>
            <a:off x="1066680" y="4191120"/>
            <a:ext cx="2819520" cy="1909800"/>
          </a:xfrm>
          <a:prstGeom prst="rect">
            <a:avLst/>
          </a:prstGeom>
          <a:ln w="0">
            <a:noFill/>
          </a:ln>
        </p:spPr>
      </p:pic>
      <p:pic>
        <p:nvPicPr>
          <p:cNvPr id="177" name="" descr=""/>
          <p:cNvPicPr/>
          <p:nvPr/>
        </p:nvPicPr>
        <p:blipFill>
          <a:blip r:embed="rId5"/>
          <a:stretch/>
        </p:blipFill>
        <p:spPr>
          <a:xfrm>
            <a:off x="3657600" y="1447920"/>
            <a:ext cx="2362320" cy="1911240"/>
          </a:xfrm>
          <a:prstGeom prst="rect">
            <a:avLst/>
          </a:prstGeom>
          <a:ln w="0">
            <a:noFill/>
          </a:ln>
        </p:spPr>
      </p:pic>
      <p:sp>
        <p:nvSpPr>
          <p:cNvPr id="3" name="PlaceHolder 2"/>
          <p:cNvSpPr>
            <a:spLocks noGrp="1"/>
          </p:cNvSpPr>
          <p:nvPr>
            <p:ph type="sldNum" idx="2"/>
          </p:nvPr>
        </p:nvSpPr>
        <p:spPr/>
        <p:txBody>
          <a:bodyPr/>
          <a:p>
            <a:fld id="{45852DB9-2F71-4A96-A15D-E45C8CC78E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9" name="" descr=""/>
          <p:cNvPicPr/>
          <p:nvPr/>
        </p:nvPicPr>
        <p:blipFill>
          <a:blip r:embed="rId1"/>
          <a:stretch/>
        </p:blipFill>
        <p:spPr>
          <a:xfrm>
            <a:off x="4876920" y="4191120"/>
            <a:ext cx="2590560" cy="2060280"/>
          </a:xfrm>
          <a:prstGeom prst="rect">
            <a:avLst/>
          </a:prstGeom>
          <a:ln w="0">
            <a:noFill/>
          </a:ln>
        </p:spPr>
      </p:pic>
      <p:pic>
        <p:nvPicPr>
          <p:cNvPr id="180" name="" descr=""/>
          <p:cNvPicPr/>
          <p:nvPr/>
        </p:nvPicPr>
        <p:blipFill>
          <a:blip r:embed="rId2"/>
          <a:stretch/>
        </p:blipFill>
        <p:spPr>
          <a:xfrm>
            <a:off x="6477120" y="1143000"/>
            <a:ext cx="2423880" cy="2335320"/>
          </a:xfrm>
          <a:prstGeom prst="rect">
            <a:avLst/>
          </a:prstGeom>
          <a:ln w="0">
            <a:noFill/>
          </a:ln>
        </p:spPr>
      </p:pic>
      <p:pic>
        <p:nvPicPr>
          <p:cNvPr id="181" name="" descr=""/>
          <p:cNvPicPr/>
          <p:nvPr/>
        </p:nvPicPr>
        <p:blipFill>
          <a:blip r:embed="rId3"/>
          <a:stretch/>
        </p:blipFill>
        <p:spPr>
          <a:xfrm>
            <a:off x="533520" y="1219320"/>
            <a:ext cx="2666880" cy="2004840"/>
          </a:xfrm>
          <a:prstGeom prst="rect">
            <a:avLst/>
          </a:prstGeom>
          <a:ln w="0">
            <a:noFill/>
          </a:ln>
        </p:spPr>
      </p:pic>
      <p:pic>
        <p:nvPicPr>
          <p:cNvPr id="182" name="" descr=""/>
          <p:cNvPicPr/>
          <p:nvPr/>
        </p:nvPicPr>
        <p:blipFill>
          <a:blip r:embed="rId4"/>
          <a:stretch/>
        </p:blipFill>
        <p:spPr>
          <a:xfrm>
            <a:off x="1066680" y="4191120"/>
            <a:ext cx="2819520" cy="1909800"/>
          </a:xfrm>
          <a:prstGeom prst="rect">
            <a:avLst/>
          </a:prstGeom>
          <a:ln w="0">
            <a:noFill/>
          </a:ln>
        </p:spPr>
      </p:pic>
      <p:pic>
        <p:nvPicPr>
          <p:cNvPr id="183" name="" descr=""/>
          <p:cNvPicPr/>
          <p:nvPr/>
        </p:nvPicPr>
        <p:blipFill>
          <a:blip r:embed="rId5"/>
          <a:stretch/>
        </p:blipFill>
        <p:spPr>
          <a:xfrm>
            <a:off x="3657600" y="1447920"/>
            <a:ext cx="2362320" cy="1911240"/>
          </a:xfrm>
          <a:prstGeom prst="rect">
            <a:avLst/>
          </a:prstGeom>
          <a:ln w="0">
            <a:noFill/>
          </a:ln>
        </p:spPr>
      </p:pic>
      <p:sp>
        <p:nvSpPr>
          <p:cNvPr id="184" name=""/>
          <p:cNvSpPr/>
          <p:nvPr/>
        </p:nvSpPr>
        <p:spPr>
          <a:xfrm>
            <a:off x="228600" y="914400"/>
            <a:ext cx="2057400" cy="1219320"/>
          </a:xfrm>
          <a:prstGeom prst="wedgeRectCallout">
            <a:avLst>
              <a:gd name="adj1" fmla="val 19597"/>
              <a:gd name="adj2" fmla="val 8502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against adversary</a:t>
            </a:r>
            <a:endParaRPr b="0" lang="en-US" sz="2400" spc="-1" strike="noStrike">
              <a:solidFill>
                <a:srgbClr val="000000"/>
              </a:solidFill>
              <a:latin typeface="Arial"/>
            </a:endParaRPr>
          </a:p>
        </p:txBody>
      </p:sp>
      <p:sp>
        <p:nvSpPr>
          <p:cNvPr id="185" name=""/>
          <p:cNvSpPr/>
          <p:nvPr/>
        </p:nvSpPr>
        <p:spPr>
          <a:xfrm>
            <a:off x="3429000" y="1066680"/>
            <a:ext cx="2057400" cy="457200"/>
          </a:xfrm>
          <a:prstGeom prst="wedgeRectCallout">
            <a:avLst>
              <a:gd name="adj1" fmla="val 16513"/>
              <a:gd name="adj2" fmla="val 189583"/>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a:t>
            </a:r>
            <a:endParaRPr b="0" lang="en-US" sz="2400" spc="-1" strike="noStrike">
              <a:solidFill>
                <a:srgbClr val="000000"/>
              </a:solidFill>
              <a:latin typeface="Arial"/>
            </a:endParaRPr>
          </a:p>
        </p:txBody>
      </p:sp>
      <p:sp>
        <p:nvSpPr>
          <p:cNvPr id="186" name=""/>
          <p:cNvSpPr/>
          <p:nvPr/>
        </p:nvSpPr>
        <p:spPr>
          <a:xfrm>
            <a:off x="6629400" y="685800"/>
            <a:ext cx="2057400" cy="457200"/>
          </a:xfrm>
          <a:prstGeom prst="wedgeRectCallout">
            <a:avLst>
              <a:gd name="adj1" fmla="val -12037"/>
              <a:gd name="adj2" fmla="val 16805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State</a:t>
            </a:r>
            <a:endParaRPr b="0" lang="en-US" sz="2400" spc="-1" strike="noStrike">
              <a:solidFill>
                <a:srgbClr val="000000"/>
              </a:solidFill>
              <a:latin typeface="Arial"/>
            </a:endParaRPr>
          </a:p>
        </p:txBody>
      </p:sp>
      <p:sp>
        <p:nvSpPr>
          <p:cNvPr id="187" name=""/>
          <p:cNvSpPr/>
          <p:nvPr/>
        </p:nvSpPr>
        <p:spPr>
          <a:xfrm>
            <a:off x="380880" y="3886200"/>
            <a:ext cx="3581640" cy="838080"/>
          </a:xfrm>
          <a:prstGeom prst="wedgeRectCallout">
            <a:avLst>
              <a:gd name="adj1" fmla="val -10504"/>
              <a:gd name="adj2" fmla="val 806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um (infinite number) of  states</a:t>
            </a:r>
            <a:endParaRPr b="0" lang="en-US" sz="2400" spc="-1" strike="noStrike">
              <a:solidFill>
                <a:srgbClr val="000000"/>
              </a:solidFill>
              <a:latin typeface="Arial"/>
            </a:endParaRPr>
          </a:p>
        </p:txBody>
      </p:sp>
      <p:sp>
        <p:nvSpPr>
          <p:cNvPr id="188" name=""/>
          <p:cNvSpPr/>
          <p:nvPr/>
        </p:nvSpPr>
        <p:spPr>
          <a:xfrm>
            <a:off x="5105520" y="3886200"/>
            <a:ext cx="3581280" cy="838080"/>
          </a:xfrm>
          <a:prstGeom prst="wedgeRectCallout">
            <a:avLst>
              <a:gd name="adj1" fmla="val -37898"/>
              <a:gd name="adj2" fmla="val 9090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plus distributed team control</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37853D4-46CF-465D-979B-03D0DB047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19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are reachable from S in 1 step but aren’t reachable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2 steps but aren’t reachable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3 steps but aren’t reachable in less than 3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until Goal state reached.</a:t>
            </a:r>
            <a:endParaRPr b="0" lang="en-US" sz="2000" spc="-1" strike="noStrike">
              <a:solidFill>
                <a:srgbClr val="000000"/>
              </a:solidFill>
              <a:latin typeface="Arial"/>
            </a:endParaRPr>
          </a:p>
        </p:txBody>
      </p:sp>
      <p:grpSp>
        <p:nvGrpSpPr>
          <p:cNvPr id="191" name=""/>
          <p:cNvGrpSpPr/>
          <p:nvPr/>
        </p:nvGrpSpPr>
        <p:grpSpPr>
          <a:xfrm>
            <a:off x="2133720" y="1143000"/>
            <a:ext cx="4419000" cy="2361960"/>
            <a:chOff x="2133720" y="1143000"/>
            <a:chExt cx="4419000" cy="2361960"/>
          </a:xfrm>
        </p:grpSpPr>
        <p:sp>
          <p:nvSpPr>
            <p:cNvPr id="19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0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0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0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0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04" name=""/>
            <p:cNvCxnSpPr>
              <a:stCxn id="192" idx="5"/>
              <a:endCxn id="19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205" name=""/>
            <p:cNvCxnSpPr>
              <a:stCxn id="196" idx="5"/>
              <a:endCxn id="19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206" name=""/>
            <p:cNvCxnSpPr>
              <a:stCxn id="200" idx="3"/>
              <a:endCxn id="19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207" name=""/>
            <p:cNvCxnSpPr>
              <a:stCxn id="200" idx="2"/>
              <a:endCxn id="19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208" name=""/>
            <p:cNvCxnSpPr>
              <a:stCxn id="199" idx="4"/>
              <a:endCxn id="20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209" name=""/>
            <p:cNvCxnSpPr>
              <a:stCxn id="199" idx="5"/>
              <a:endCxn id="20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210" name=""/>
            <p:cNvCxnSpPr>
              <a:stCxn id="203" idx="0"/>
              <a:endCxn id="20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211" name=""/>
            <p:cNvCxnSpPr>
              <a:stCxn id="202" idx="0"/>
              <a:endCxn id="19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212" name=""/>
            <p:cNvCxnSpPr>
              <a:stCxn id="19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213" name=""/>
            <p:cNvCxnSpPr>
              <a:stCxn id="194" idx="1"/>
              <a:endCxn id="19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214" name=""/>
            <p:cNvCxnSpPr>
              <a:endCxn id="20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215" name=""/>
            <p:cNvCxnSpPr>
              <a:stCxn id="198" idx="2"/>
              <a:endCxn id="20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216" name=""/>
            <p:cNvCxnSpPr>
              <a:stCxn id="194" idx="7"/>
              <a:endCxn id="19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217" name=""/>
            <p:cNvCxnSpPr>
              <a:stCxn id="194" idx="6"/>
              <a:endCxn id="19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218" name=""/>
            <p:cNvCxnSpPr>
              <a:stCxn id="202" idx="1"/>
              <a:endCxn id="19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219" name=""/>
            <p:cNvCxnSpPr>
              <a:stCxn id="192" idx="6"/>
              <a:endCxn id="19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17036AAE-FA23-4EF5-B708-1322F6979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2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22"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2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24"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2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2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27"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2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2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3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3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32" name=""/>
          <p:cNvCxnSpPr>
            <a:stCxn id="220" idx="5"/>
            <a:endCxn id="224" idx="2"/>
          </p:cNvCxnSpPr>
          <p:nvPr/>
        </p:nvCxnSpPr>
        <p:spPr>
          <a:xfrm>
            <a:off x="1576080" y="4124160"/>
            <a:ext cx="649800" cy="501120"/>
          </a:xfrm>
          <a:prstGeom prst="straightConnector1">
            <a:avLst/>
          </a:prstGeom>
          <a:ln w="9360">
            <a:solidFill>
              <a:srgbClr val="000000"/>
            </a:solidFill>
            <a:miter/>
            <a:tailEnd len="med" type="triangle" w="med"/>
          </a:ln>
        </p:spPr>
      </p:cxnSp>
      <p:cxnSp>
        <p:nvCxnSpPr>
          <p:cNvPr id="233" name=""/>
          <p:cNvCxnSpPr>
            <a:stCxn id="224" idx="5"/>
            <a:endCxn id="225"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234" name=""/>
          <p:cNvCxnSpPr>
            <a:stCxn id="228" idx="3"/>
            <a:endCxn id="22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35" name=""/>
          <p:cNvCxnSpPr>
            <a:stCxn id="228" idx="2"/>
            <a:endCxn id="224" idx="6"/>
          </p:cNvCxnSpPr>
          <p:nvPr/>
        </p:nvCxnSpPr>
        <p:spPr>
          <a:xfrm flipH="1">
            <a:off x="2912400" y="3927600"/>
            <a:ext cx="2129400" cy="697680"/>
          </a:xfrm>
          <a:prstGeom prst="straightConnector1">
            <a:avLst/>
          </a:prstGeom>
          <a:ln w="9360">
            <a:solidFill>
              <a:srgbClr val="000000"/>
            </a:solidFill>
            <a:miter/>
            <a:tailEnd len="med" type="triangle" w="med"/>
          </a:ln>
        </p:spPr>
      </p:cxnSp>
      <p:cxnSp>
        <p:nvCxnSpPr>
          <p:cNvPr id="236" name=""/>
          <p:cNvCxnSpPr>
            <a:stCxn id="227" idx="4"/>
            <a:endCxn id="228"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237" name=""/>
          <p:cNvCxnSpPr>
            <a:stCxn id="227" idx="5"/>
            <a:endCxn id="231"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238" name=""/>
          <p:cNvCxnSpPr>
            <a:stCxn id="231" idx="0"/>
            <a:endCxn id="23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39" name=""/>
          <p:cNvCxnSpPr>
            <a:stCxn id="230" idx="0"/>
            <a:endCxn id="22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40" name=""/>
          <p:cNvCxnSpPr>
            <a:stCxn id="22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41" name=""/>
          <p:cNvCxnSpPr>
            <a:stCxn id="222" idx="1"/>
            <a:endCxn id="223"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242" name=""/>
          <p:cNvCxnSpPr>
            <a:endCxn id="22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43" name=""/>
          <p:cNvCxnSpPr>
            <a:stCxn id="226" idx="2"/>
            <a:endCxn id="22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44" name=""/>
          <p:cNvCxnSpPr>
            <a:stCxn id="222" idx="7"/>
            <a:endCxn id="226"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245" name=""/>
          <p:cNvCxnSpPr>
            <a:stCxn id="222" idx="6"/>
            <a:endCxn id="227" idx="2"/>
          </p:cNvCxnSpPr>
          <p:nvPr/>
        </p:nvCxnSpPr>
        <p:spPr>
          <a:xfrm flipV="1">
            <a:off x="3668760" y="2952360"/>
            <a:ext cx="1923120" cy="280080"/>
          </a:xfrm>
          <a:prstGeom prst="straightConnector1">
            <a:avLst/>
          </a:prstGeom>
          <a:ln w="9360">
            <a:solidFill>
              <a:srgbClr val="000000"/>
            </a:solidFill>
            <a:miter/>
            <a:tailEnd len="med" type="triangle" w="med"/>
          </a:ln>
        </p:spPr>
      </p:cxnSp>
      <p:cxnSp>
        <p:nvCxnSpPr>
          <p:cNvPr id="246" name=""/>
          <p:cNvCxnSpPr>
            <a:stCxn id="230" idx="1"/>
            <a:endCxn id="22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47" name=""/>
          <p:cNvCxnSpPr>
            <a:stCxn id="220" idx="6"/>
            <a:endCxn id="227" idx="3"/>
          </p:cNvCxnSpPr>
          <p:nvPr/>
        </p:nvCxnSpPr>
        <p:spPr>
          <a:xfrm flipV="1">
            <a:off x="1695240" y="3200040"/>
            <a:ext cx="3996000" cy="659520"/>
          </a:xfrm>
          <a:prstGeom prst="curvedConnector2">
            <a:avLst/>
          </a:prstGeom>
          <a:ln w="9360">
            <a:solidFill>
              <a:srgbClr val="000000"/>
            </a:solidFill>
            <a:miter/>
            <a:tailEnd len="med" type="triangle" w="med"/>
          </a:ln>
        </p:spPr>
      </p:cxnSp>
      <p:sp>
        <p:nvSpPr>
          <p:cNvPr id="24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4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ABE08AD-E3A1-437D-AD67-FC01693C3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52"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5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54"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5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5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57"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5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5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6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6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62" name=""/>
          <p:cNvCxnSpPr>
            <a:stCxn id="250" idx="5"/>
            <a:endCxn id="254"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63" name=""/>
          <p:cNvCxnSpPr>
            <a:stCxn id="254" idx="5"/>
            <a:endCxn id="255" idx="2"/>
          </p:cNvCxnSpPr>
          <p:nvPr/>
        </p:nvCxnSpPr>
        <p:spPr>
          <a:xfrm flipV="1">
            <a:off x="2813040" y="4833720"/>
            <a:ext cx="1061280" cy="56160"/>
          </a:xfrm>
          <a:prstGeom prst="straightConnector1">
            <a:avLst/>
          </a:prstGeom>
          <a:ln w="9360">
            <a:solidFill>
              <a:srgbClr val="000000"/>
            </a:solidFill>
            <a:miter/>
            <a:tailEnd len="med" type="triangle" w="med"/>
          </a:ln>
        </p:spPr>
      </p:cxnSp>
      <p:cxnSp>
        <p:nvCxnSpPr>
          <p:cNvPr id="264" name=""/>
          <p:cNvCxnSpPr>
            <a:stCxn id="258" idx="3"/>
            <a:endCxn id="25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65" name=""/>
          <p:cNvCxnSpPr>
            <a:stCxn id="258" idx="2"/>
            <a:endCxn id="254" idx="6"/>
          </p:cNvCxnSpPr>
          <p:nvPr/>
        </p:nvCxnSpPr>
        <p:spPr>
          <a:xfrm flipH="1">
            <a:off x="2931840" y="3929040"/>
            <a:ext cx="2110320" cy="696240"/>
          </a:xfrm>
          <a:prstGeom prst="straightConnector1">
            <a:avLst/>
          </a:prstGeom>
          <a:ln w="9360">
            <a:solidFill>
              <a:srgbClr val="000000"/>
            </a:solidFill>
            <a:miter/>
            <a:tailEnd len="med" type="triangle" w="med"/>
          </a:ln>
        </p:spPr>
      </p:cxnSp>
      <p:cxnSp>
        <p:nvCxnSpPr>
          <p:cNvPr id="266" name=""/>
          <p:cNvCxnSpPr>
            <a:stCxn id="257" idx="4"/>
            <a:endCxn id="258" idx="7"/>
          </p:cNvCxnSpPr>
          <p:nvPr/>
        </p:nvCxnSpPr>
        <p:spPr>
          <a:xfrm flipH="1">
            <a:off x="5627160" y="3320640"/>
            <a:ext cx="307440" cy="361080"/>
          </a:xfrm>
          <a:prstGeom prst="straightConnector1">
            <a:avLst/>
          </a:prstGeom>
          <a:ln w="9360">
            <a:solidFill>
              <a:srgbClr val="000000"/>
            </a:solidFill>
            <a:miter/>
            <a:tailEnd len="med" type="triangle" w="med"/>
          </a:ln>
        </p:spPr>
      </p:cxnSp>
      <p:cxnSp>
        <p:nvCxnSpPr>
          <p:cNvPr id="267" name=""/>
          <p:cNvCxnSpPr>
            <a:stCxn id="257" idx="5"/>
            <a:endCxn id="261" idx="1"/>
          </p:cNvCxnSpPr>
          <p:nvPr/>
        </p:nvCxnSpPr>
        <p:spPr>
          <a:xfrm>
            <a:off x="6176880" y="3219120"/>
            <a:ext cx="681840" cy="1159560"/>
          </a:xfrm>
          <a:prstGeom prst="straightConnector1">
            <a:avLst/>
          </a:prstGeom>
          <a:ln w="9360">
            <a:solidFill>
              <a:srgbClr val="000000"/>
            </a:solidFill>
            <a:miter/>
            <a:tailEnd len="med" type="triangle" w="med"/>
          </a:ln>
        </p:spPr>
      </p:cxnSp>
      <p:cxnSp>
        <p:nvCxnSpPr>
          <p:cNvPr id="268" name=""/>
          <p:cNvCxnSpPr>
            <a:stCxn id="261" idx="0"/>
            <a:endCxn id="26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69" name=""/>
          <p:cNvCxnSpPr>
            <a:stCxn id="260" idx="0"/>
            <a:endCxn id="25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70" name=""/>
          <p:cNvCxnSpPr>
            <a:stCxn id="25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71" name=""/>
          <p:cNvCxnSpPr>
            <a:stCxn id="252" idx="1"/>
            <a:endCxn id="253" idx="5"/>
          </p:cNvCxnSpPr>
          <p:nvPr/>
        </p:nvCxnSpPr>
        <p:spPr>
          <a:xfrm flipH="1" flipV="1">
            <a:off x="2125440" y="2433240"/>
            <a:ext cx="956160" cy="534240"/>
          </a:xfrm>
          <a:prstGeom prst="straightConnector1">
            <a:avLst/>
          </a:prstGeom>
          <a:ln w="9360">
            <a:solidFill>
              <a:srgbClr val="000000"/>
            </a:solidFill>
            <a:miter/>
            <a:tailEnd len="med" type="triangle" w="med"/>
          </a:ln>
        </p:spPr>
      </p:cxnSp>
      <p:cxnSp>
        <p:nvCxnSpPr>
          <p:cNvPr id="272" name=""/>
          <p:cNvCxnSpPr>
            <a:endCxn id="25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73" name=""/>
          <p:cNvCxnSpPr>
            <a:stCxn id="256" idx="2"/>
            <a:endCxn id="25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74" name=""/>
          <p:cNvCxnSpPr>
            <a:stCxn id="252" idx="7"/>
            <a:endCxn id="256" idx="3"/>
          </p:cNvCxnSpPr>
          <p:nvPr/>
        </p:nvCxnSpPr>
        <p:spPr>
          <a:xfrm flipV="1">
            <a:off x="3568680" y="2363760"/>
            <a:ext cx="1161360" cy="603720"/>
          </a:xfrm>
          <a:prstGeom prst="straightConnector1">
            <a:avLst/>
          </a:prstGeom>
          <a:ln w="9360">
            <a:solidFill>
              <a:srgbClr val="000000"/>
            </a:solidFill>
            <a:miter/>
            <a:tailEnd len="med" type="triangle" w="med"/>
          </a:ln>
        </p:spPr>
      </p:cxnSp>
      <p:cxnSp>
        <p:nvCxnSpPr>
          <p:cNvPr id="275" name=""/>
          <p:cNvCxnSpPr>
            <a:stCxn id="252" idx="6"/>
            <a:endCxn id="257"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276" name=""/>
          <p:cNvCxnSpPr>
            <a:stCxn id="260" idx="1"/>
            <a:endCxn id="25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77" name=""/>
          <p:cNvCxnSpPr>
            <a:stCxn id="250" idx="6"/>
            <a:endCxn id="257"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27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7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280"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210FE4C-D5C4-4826-A668-1B8C30C77C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82"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8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8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8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8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8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28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8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290"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291"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9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293" name=""/>
          <p:cNvCxnSpPr>
            <a:stCxn id="281" idx="5"/>
            <a:endCxn id="28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94" name=""/>
          <p:cNvCxnSpPr>
            <a:stCxn id="285" idx="5"/>
            <a:endCxn id="28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295" name=""/>
          <p:cNvCxnSpPr>
            <a:stCxn id="289" idx="3"/>
            <a:endCxn id="28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296" name=""/>
          <p:cNvCxnSpPr>
            <a:stCxn id="289" idx="2"/>
            <a:endCxn id="28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297" name=""/>
          <p:cNvCxnSpPr>
            <a:stCxn id="288" idx="4"/>
            <a:endCxn id="28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298" name=""/>
          <p:cNvCxnSpPr>
            <a:stCxn id="288" idx="5"/>
            <a:endCxn id="29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299" name=""/>
          <p:cNvCxnSpPr>
            <a:stCxn id="292" idx="0"/>
            <a:endCxn id="291" idx="4"/>
          </p:cNvCxnSpPr>
          <p:nvPr/>
        </p:nvCxnSpPr>
        <p:spPr>
          <a:xfrm flipV="1">
            <a:off x="7100640" y="3718800"/>
            <a:ext cx="275400" cy="538920"/>
          </a:xfrm>
          <a:prstGeom prst="straightConnector1">
            <a:avLst/>
          </a:prstGeom>
          <a:ln w="9360">
            <a:solidFill>
              <a:srgbClr val="000000"/>
            </a:solidFill>
            <a:miter/>
            <a:tailEnd len="med" type="triangle" w="med"/>
          </a:ln>
        </p:spPr>
      </p:cxnSp>
      <p:cxnSp>
        <p:nvCxnSpPr>
          <p:cNvPr id="300" name=""/>
          <p:cNvCxnSpPr>
            <a:stCxn id="291" idx="0"/>
            <a:endCxn id="282"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301" name=""/>
          <p:cNvCxnSpPr>
            <a:stCxn id="28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02" name=""/>
          <p:cNvCxnSpPr>
            <a:stCxn id="283" idx="1"/>
            <a:endCxn id="28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03" name=""/>
          <p:cNvCxnSpPr>
            <a:endCxn id="290"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304" name=""/>
          <p:cNvCxnSpPr>
            <a:stCxn id="287" idx="2"/>
            <a:endCxn id="290" idx="6"/>
          </p:cNvCxnSpPr>
          <p:nvPr/>
        </p:nvCxnSpPr>
        <p:spPr>
          <a:xfrm flipH="1" flipV="1">
            <a:off x="3462480" y="1560240"/>
            <a:ext cx="1148040" cy="558000"/>
          </a:xfrm>
          <a:prstGeom prst="straightConnector1">
            <a:avLst/>
          </a:prstGeom>
          <a:ln w="9360">
            <a:solidFill>
              <a:srgbClr val="000000"/>
            </a:solidFill>
            <a:miter/>
            <a:tailEnd len="med" type="triangle" w="med"/>
          </a:ln>
        </p:spPr>
      </p:cxnSp>
      <p:cxnSp>
        <p:nvCxnSpPr>
          <p:cNvPr id="305" name=""/>
          <p:cNvCxnSpPr>
            <a:stCxn id="283" idx="7"/>
            <a:endCxn id="28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06" name=""/>
          <p:cNvCxnSpPr>
            <a:stCxn id="283" idx="6"/>
            <a:endCxn id="28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07" name=""/>
          <p:cNvCxnSpPr>
            <a:stCxn id="291" idx="1"/>
            <a:endCxn id="287" idx="6"/>
          </p:cNvCxnSpPr>
          <p:nvPr/>
        </p:nvCxnSpPr>
        <p:spPr>
          <a:xfrm flipV="1" rot="16200000">
            <a:off x="5730480" y="1721520"/>
            <a:ext cx="1006920" cy="1797840"/>
          </a:xfrm>
          <a:prstGeom prst="curvedConnector2">
            <a:avLst/>
          </a:prstGeom>
          <a:ln w="9360">
            <a:solidFill>
              <a:srgbClr val="000000"/>
            </a:solidFill>
            <a:miter/>
            <a:tailEnd len="med" type="triangle" w="med"/>
          </a:ln>
        </p:spPr>
      </p:cxnSp>
      <p:cxnSp>
        <p:nvCxnSpPr>
          <p:cNvPr id="308" name=""/>
          <p:cNvCxnSpPr>
            <a:stCxn id="281" idx="6"/>
            <a:endCxn id="28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1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1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1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C0A44E4-338A-4CAF-B772-51E65FBC1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1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15"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16"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17"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18"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19"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20"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21"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22"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23"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24"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25" name=""/>
          <p:cNvCxnSpPr>
            <a:stCxn id="313" idx="5"/>
            <a:endCxn id="317"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26" name=""/>
          <p:cNvCxnSpPr>
            <a:stCxn id="317" idx="5"/>
            <a:endCxn id="318"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27" name=""/>
          <p:cNvCxnSpPr>
            <a:stCxn id="321" idx="3"/>
            <a:endCxn id="318"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28" name=""/>
          <p:cNvCxnSpPr>
            <a:stCxn id="321" idx="2"/>
            <a:endCxn id="317"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29" name=""/>
          <p:cNvCxnSpPr>
            <a:stCxn id="320" idx="4"/>
            <a:endCxn id="321"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30" name=""/>
          <p:cNvCxnSpPr>
            <a:stCxn id="320" idx="5"/>
            <a:endCxn id="324"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31" name=""/>
          <p:cNvCxnSpPr>
            <a:stCxn id="324" idx="0"/>
            <a:endCxn id="323"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32" name=""/>
          <p:cNvCxnSpPr>
            <a:stCxn id="323" idx="0"/>
            <a:endCxn id="314" idx="4"/>
          </p:cNvCxnSpPr>
          <p:nvPr/>
        </p:nvCxnSpPr>
        <p:spPr>
          <a:xfrm flipV="1">
            <a:off x="7375320" y="1839600"/>
            <a:ext cx="207000" cy="1164240"/>
          </a:xfrm>
          <a:prstGeom prst="straightConnector1">
            <a:avLst/>
          </a:prstGeom>
          <a:ln w="9360">
            <a:solidFill>
              <a:srgbClr val="000000"/>
            </a:solidFill>
            <a:miter/>
            <a:tailEnd len="med" type="triangle" w="med"/>
          </a:ln>
        </p:spPr>
      </p:cxnSp>
      <p:cxnSp>
        <p:nvCxnSpPr>
          <p:cNvPr id="333" name=""/>
          <p:cNvCxnSpPr>
            <a:stCxn id="313"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34" name=""/>
          <p:cNvCxnSpPr>
            <a:stCxn id="315" idx="1"/>
            <a:endCxn id="316"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35" name=""/>
          <p:cNvCxnSpPr>
            <a:endCxn id="322"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36" name=""/>
          <p:cNvCxnSpPr>
            <a:stCxn id="319" idx="2"/>
            <a:endCxn id="322"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37" name=""/>
          <p:cNvCxnSpPr>
            <a:stCxn id="315" idx="7"/>
            <a:endCxn id="319"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38" name=""/>
          <p:cNvCxnSpPr>
            <a:stCxn id="315" idx="6"/>
            <a:endCxn id="320"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39" name=""/>
          <p:cNvCxnSpPr>
            <a:stCxn id="323" idx="1"/>
            <a:endCxn id="319"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40" name=""/>
          <p:cNvCxnSpPr>
            <a:stCxn id="313" idx="6"/>
            <a:endCxn id="320"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4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42"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43"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44"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45"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80CE979-1D44-499D-9EB4-797995CC4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4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4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4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5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5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5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5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5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5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5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5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58" name=""/>
          <p:cNvCxnSpPr>
            <a:stCxn id="346" idx="5"/>
            <a:endCxn id="35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59" name=""/>
          <p:cNvCxnSpPr>
            <a:stCxn id="350" idx="5"/>
            <a:endCxn id="35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60" name=""/>
          <p:cNvCxnSpPr>
            <a:stCxn id="354" idx="3"/>
            <a:endCxn id="35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61" name=""/>
          <p:cNvCxnSpPr>
            <a:stCxn id="354" idx="2"/>
            <a:endCxn id="35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62" name=""/>
          <p:cNvCxnSpPr>
            <a:stCxn id="353" idx="4"/>
            <a:endCxn id="35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63" name=""/>
          <p:cNvCxnSpPr>
            <a:stCxn id="353" idx="5"/>
            <a:endCxn id="35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64" name=""/>
          <p:cNvCxnSpPr>
            <a:stCxn id="357" idx="0"/>
            <a:endCxn id="35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65" name=""/>
          <p:cNvCxnSpPr>
            <a:stCxn id="356" idx="0"/>
            <a:endCxn id="34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366" name=""/>
          <p:cNvCxnSpPr>
            <a:stCxn id="34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67" name=""/>
          <p:cNvCxnSpPr>
            <a:stCxn id="348" idx="1"/>
            <a:endCxn id="34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68" name=""/>
          <p:cNvCxnSpPr>
            <a:endCxn id="35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69" name=""/>
          <p:cNvCxnSpPr>
            <a:stCxn id="352" idx="2"/>
            <a:endCxn id="35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70" name=""/>
          <p:cNvCxnSpPr>
            <a:stCxn id="348" idx="7"/>
            <a:endCxn id="35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71" name=""/>
          <p:cNvCxnSpPr>
            <a:stCxn id="348" idx="6"/>
            <a:endCxn id="35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72" name=""/>
          <p:cNvCxnSpPr>
            <a:stCxn id="356" idx="1"/>
            <a:endCxn id="35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73" name=""/>
          <p:cNvCxnSpPr>
            <a:stCxn id="346" idx="6"/>
            <a:endCxn id="35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7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7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7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7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7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7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80F662A-0A95-44AF-AE84-58F119F29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emember the path!</a:t>
            </a:r>
            <a:endParaRPr b="0" lang="en-US" sz="4400" spc="-1" strike="noStrike">
              <a:solidFill>
                <a:srgbClr val="009900"/>
              </a:solidFill>
              <a:latin typeface="Arial"/>
            </a:endParaRPr>
          </a:p>
        </p:txBody>
      </p:sp>
      <p:sp>
        <p:nvSpPr>
          <p:cNvPr id="381"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when you label a state, record the predecessor state.  This record is called a </a:t>
            </a:r>
            <a:r>
              <a:rPr b="0" i="1" lang="en-US" sz="2000" spc="-1" strike="noStrike">
                <a:solidFill>
                  <a:srgbClr val="cc3300"/>
                </a:solidFill>
                <a:latin typeface="Arial"/>
              </a:rPr>
              <a:t>backpointer</a:t>
            </a:r>
            <a:r>
              <a:rPr b="0" lang="en-US" sz="2000" spc="-1" strike="noStrike">
                <a:solidFill>
                  <a:srgbClr val="000000"/>
                </a:solidFill>
                <a:latin typeface="Arial"/>
              </a:rPr>
              <a:t>.  The history of predecessors is used to generate the solution path, once you’ve found the go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ve got to the goal.  I see I was at </a:t>
            </a:r>
            <a:r>
              <a:rPr b="0" i="1" lang="en-US" sz="2000" spc="-1" strike="noStrike">
                <a:solidFill>
                  <a:srgbClr val="000000"/>
                </a:solidFill>
                <a:latin typeface="Arial"/>
              </a:rPr>
              <a:t>f </a:t>
            </a:r>
            <a:r>
              <a:rPr b="0" lang="en-US" sz="2000" spc="-1" strike="noStrike">
                <a:solidFill>
                  <a:srgbClr val="000000"/>
                </a:solidFill>
                <a:latin typeface="Arial"/>
              </a:rPr>
              <a:t>before this.  And I was at </a:t>
            </a:r>
            <a:r>
              <a:rPr b="0" i="1" lang="en-US" sz="2000" spc="-1" strike="noStrike">
                <a:solidFill>
                  <a:srgbClr val="000000"/>
                </a:solidFill>
                <a:latin typeface="Arial"/>
              </a:rPr>
              <a:t>r</a:t>
            </a:r>
            <a:r>
              <a:rPr b="0" lang="en-US" sz="2000" spc="-1" strike="noStrike">
                <a:solidFill>
                  <a:srgbClr val="000000"/>
                </a:solidFill>
                <a:latin typeface="Arial"/>
              </a:rPr>
              <a:t> before I was at </a:t>
            </a:r>
            <a:r>
              <a:rPr b="0" i="1" lang="en-US" sz="2000" spc="-1" strike="noStrike">
                <a:solidFill>
                  <a:srgbClr val="000000"/>
                </a:solidFill>
                <a:latin typeface="Arial"/>
              </a:rPr>
              <a:t>f</a:t>
            </a:r>
            <a:r>
              <a:rPr b="0" lang="en-US" sz="2000" spc="-1" strike="noStrike">
                <a:solidFill>
                  <a:srgbClr val="000000"/>
                </a:solidFill>
                <a:latin typeface="Arial"/>
              </a:rPr>
              <a:t>.  And I wa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so solution path is S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G”</a:t>
            </a:r>
            <a:endParaRPr b="0" lang="en-US" sz="2000" spc="-1" strike="noStrike">
              <a:solidFill>
                <a:srgbClr val="000000"/>
              </a:solidFill>
              <a:latin typeface="Arial"/>
            </a:endParaRPr>
          </a:p>
        </p:txBody>
      </p:sp>
      <p:grpSp>
        <p:nvGrpSpPr>
          <p:cNvPr id="382" name=""/>
          <p:cNvGrpSpPr/>
          <p:nvPr/>
        </p:nvGrpSpPr>
        <p:grpSpPr>
          <a:xfrm>
            <a:off x="2133720" y="1143000"/>
            <a:ext cx="4419000" cy="2361960"/>
            <a:chOff x="2133720" y="1143000"/>
            <a:chExt cx="4419000" cy="2361960"/>
          </a:xfrm>
        </p:grpSpPr>
        <p:sp>
          <p:nvSpPr>
            <p:cNvPr id="383"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384"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385"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86"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87"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88"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89"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90"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91"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92"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93"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94"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95" name=""/>
            <p:cNvCxnSpPr>
              <a:stCxn id="383" idx="5"/>
              <a:endCxn id="387"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396" name=""/>
            <p:cNvCxnSpPr>
              <a:stCxn id="387" idx="5"/>
              <a:endCxn id="388"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397" name=""/>
            <p:cNvCxnSpPr>
              <a:stCxn id="391" idx="3"/>
              <a:endCxn id="388"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398" name=""/>
            <p:cNvCxnSpPr>
              <a:stCxn id="391" idx="2"/>
              <a:endCxn id="387"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399" name=""/>
            <p:cNvCxnSpPr>
              <a:stCxn id="390" idx="4"/>
              <a:endCxn id="391"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400" name=""/>
            <p:cNvCxnSpPr>
              <a:stCxn id="390" idx="5"/>
              <a:endCxn id="394"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401" name=""/>
            <p:cNvCxnSpPr>
              <a:stCxn id="394" idx="0"/>
              <a:endCxn id="393"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402" name=""/>
            <p:cNvCxnSpPr>
              <a:stCxn id="393" idx="0"/>
              <a:endCxn id="384"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403" name=""/>
            <p:cNvCxnSpPr>
              <a:stCxn id="383"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404" name=""/>
            <p:cNvCxnSpPr>
              <a:stCxn id="385" idx="1"/>
              <a:endCxn id="386"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405" name=""/>
            <p:cNvCxnSpPr>
              <a:endCxn id="392"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406" name=""/>
            <p:cNvCxnSpPr>
              <a:stCxn id="389" idx="2"/>
              <a:endCxn id="392"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407" name=""/>
            <p:cNvCxnSpPr>
              <a:stCxn id="385" idx="7"/>
              <a:endCxn id="389"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408" name=""/>
            <p:cNvCxnSpPr>
              <a:stCxn id="385" idx="6"/>
              <a:endCxn id="390"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409" name=""/>
            <p:cNvCxnSpPr>
              <a:stCxn id="393" idx="1"/>
              <a:endCxn id="389"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410" name=""/>
            <p:cNvCxnSpPr>
              <a:stCxn id="383" idx="6"/>
              <a:endCxn id="390"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0C6E090C-5E55-4CA0-A092-D52A9DA318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12"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1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1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1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1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1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1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1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20"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21"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2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23" name=""/>
          <p:cNvCxnSpPr>
            <a:stCxn id="411" idx="5"/>
            <a:endCxn id="41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24" name=""/>
          <p:cNvCxnSpPr>
            <a:stCxn id="415" idx="5"/>
            <a:endCxn id="41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25" name=""/>
          <p:cNvCxnSpPr>
            <a:stCxn id="419" idx="3"/>
            <a:endCxn id="41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26" name=""/>
          <p:cNvCxnSpPr>
            <a:stCxn id="419" idx="2"/>
            <a:endCxn id="41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27" name=""/>
          <p:cNvCxnSpPr>
            <a:stCxn id="418" idx="4"/>
            <a:endCxn id="41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28" name=""/>
          <p:cNvCxnSpPr>
            <a:stCxn id="418" idx="5"/>
            <a:endCxn id="42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29" name=""/>
          <p:cNvCxnSpPr>
            <a:stCxn id="422" idx="0"/>
            <a:endCxn id="421"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30" name=""/>
          <p:cNvCxnSpPr>
            <a:stCxn id="421" idx="0"/>
            <a:endCxn id="412"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31" name=""/>
          <p:cNvCxnSpPr>
            <a:stCxn id="41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32" name=""/>
          <p:cNvCxnSpPr>
            <a:stCxn id="413" idx="1"/>
            <a:endCxn id="41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33" name=""/>
          <p:cNvCxnSpPr>
            <a:endCxn id="420"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34" name=""/>
          <p:cNvCxnSpPr>
            <a:stCxn id="417" idx="2"/>
            <a:endCxn id="420"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35" name=""/>
          <p:cNvCxnSpPr>
            <a:stCxn id="413" idx="7"/>
            <a:endCxn id="41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36" name=""/>
          <p:cNvCxnSpPr>
            <a:stCxn id="413" idx="6"/>
            <a:endCxn id="41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37" name=""/>
          <p:cNvCxnSpPr>
            <a:stCxn id="421" idx="1"/>
            <a:endCxn id="417"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38" name=""/>
          <p:cNvCxnSpPr>
            <a:stCxn id="411" idx="6"/>
            <a:endCxn id="41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3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4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4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4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43"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44"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4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5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BEA57C1-1B50-4019-8CD8-A6902222B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stic, single-agent, search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ity, Completeness, Time and Space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 Deep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First “Greedy” Sear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4F5D66-F4A0-4471-B2BF-8AFEEF652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5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5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5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6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6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6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6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6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6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6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6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68" name=""/>
          <p:cNvCxnSpPr>
            <a:stCxn id="456" idx="5"/>
            <a:endCxn id="46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69" name=""/>
          <p:cNvCxnSpPr>
            <a:stCxn id="460" idx="5"/>
            <a:endCxn id="46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70" name=""/>
          <p:cNvCxnSpPr>
            <a:stCxn id="464" idx="3"/>
            <a:endCxn id="46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71" name=""/>
          <p:cNvCxnSpPr>
            <a:stCxn id="464" idx="2"/>
            <a:endCxn id="46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72" name=""/>
          <p:cNvCxnSpPr>
            <a:stCxn id="463" idx="4"/>
            <a:endCxn id="46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73" name=""/>
          <p:cNvCxnSpPr>
            <a:stCxn id="463" idx="5"/>
            <a:endCxn id="46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74" name=""/>
          <p:cNvCxnSpPr>
            <a:stCxn id="467" idx="0"/>
            <a:endCxn id="46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75" name=""/>
          <p:cNvCxnSpPr>
            <a:stCxn id="466" idx="0"/>
            <a:endCxn id="45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76" name=""/>
          <p:cNvCxnSpPr>
            <a:stCxn id="45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77" name=""/>
          <p:cNvCxnSpPr>
            <a:stCxn id="458" idx="1"/>
            <a:endCxn id="45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78" name=""/>
          <p:cNvCxnSpPr>
            <a:endCxn id="46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79" name=""/>
          <p:cNvCxnSpPr>
            <a:stCxn id="462" idx="2"/>
            <a:endCxn id="46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80" name=""/>
          <p:cNvCxnSpPr>
            <a:stCxn id="458" idx="7"/>
            <a:endCxn id="46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81" name=""/>
          <p:cNvCxnSpPr>
            <a:stCxn id="458" idx="6"/>
            <a:endCxn id="46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82" name=""/>
          <p:cNvCxnSpPr>
            <a:stCxn id="466" idx="1"/>
            <a:endCxn id="46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83" name=""/>
          <p:cNvCxnSpPr>
            <a:stCxn id="456" idx="6"/>
            <a:endCxn id="46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8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8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8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8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8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8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90"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1"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2"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3"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4"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5"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6"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97"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9"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0"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DE5FDBF-D813-4087-B58B-E708FB9403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Breadth First Search</a:t>
            </a:r>
            <a:endParaRPr b="0" lang="en-US" sz="4400" spc="-1" strike="noStrike">
              <a:solidFill>
                <a:srgbClr val="009900"/>
              </a:solidFill>
              <a:latin typeface="Arial"/>
            </a:endParaRPr>
          </a:p>
        </p:txBody>
      </p:sp>
      <p:sp>
        <p:nvSpPr>
          <p:cNvPr id="50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For any state </a:t>
            </a:r>
            <a:r>
              <a:rPr b="0" i="1" lang="en-US" sz="2000" spc="-1" strike="noStrike">
                <a:solidFill>
                  <a:srgbClr val="000000"/>
                </a:solidFill>
                <a:latin typeface="Arial"/>
              </a:rPr>
              <a:t>s</a:t>
            </a:r>
            <a:r>
              <a:rPr b="0" lang="en-US" sz="2000" spc="-1" strike="noStrike">
                <a:solidFill>
                  <a:srgbClr val="000000"/>
                </a:solidFill>
                <a:latin typeface="Arial"/>
              </a:rPr>
              <a:t> that we’ve labeled, we’ll remember:</a:t>
            </a:r>
            <a:endParaRPr b="0" lang="en-US" sz="2000" spc="-1" strike="noStrike">
              <a:solidFill>
                <a:srgbClr val="000000"/>
              </a:solidFill>
              <a:latin typeface="Arial"/>
            </a:endParaRPr>
          </a:p>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a:buClr>
                <a:srgbClr val="000000"/>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previous state on a shortest path from START state </a:t>
            </a:r>
            <a:r>
              <a:rPr b="0" lang="en-US" sz="2000" spc="-1" strike="noStrike">
                <a:solidFill>
                  <a:srgbClr val="000000"/>
                </a:solidFill>
                <a:latin typeface="Arial"/>
              </a:rPr>
              <a:t>	</a:t>
            </a:r>
            <a:r>
              <a:rPr b="0" lang="en-US" sz="2000" spc="-1" strike="noStrike">
                <a:solidFill>
                  <a:srgbClr val="000000"/>
                </a:solidFill>
                <a:latin typeface="Arial"/>
              </a:rPr>
              <a:t>to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On the </a:t>
            </a:r>
            <a:r>
              <a:rPr b="0" i="1" lang="en-US" sz="2000" spc="-1" strike="noStrike">
                <a:solidFill>
                  <a:srgbClr val="000000"/>
                </a:solidFill>
                <a:latin typeface="Arial"/>
              </a:rPr>
              <a:t>k</a:t>
            </a:r>
            <a:r>
              <a:rPr b="0" lang="en-US" sz="2000" spc="-1" strike="noStrike">
                <a:solidFill>
                  <a:srgbClr val="000000"/>
                </a:solidFill>
                <a:latin typeface="Arial"/>
              </a:rPr>
              <a:t>th iteration of the algorithm we’ll begin with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during that iteration, we’ll compute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1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We begin with </a:t>
            </a: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START} and we’ll define,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a:t>
            </a:r>
            <a:r>
              <a:rPr b="0" i="1" lang="en-US" sz="2000" spc="-1" strike="noStrike">
                <a:solidFill>
                  <a:srgbClr val="000000"/>
                </a:solidFill>
                <a:latin typeface="Arial"/>
              </a:rPr>
              <a:t> = NULL</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we’ll add in things one step from the START into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nd we’ll keep go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2F8C72-0EC5-49B5-8502-CEBC3505E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05"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6"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07"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08"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09"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10"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11"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12"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13"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14"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15"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16" name=""/>
          <p:cNvCxnSpPr>
            <a:stCxn id="504" idx="5"/>
            <a:endCxn id="508"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17" name=""/>
          <p:cNvCxnSpPr>
            <a:stCxn id="508" idx="5"/>
            <a:endCxn id="509"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18" name=""/>
          <p:cNvCxnSpPr>
            <a:stCxn id="512" idx="3"/>
            <a:endCxn id="509"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19" name=""/>
          <p:cNvCxnSpPr>
            <a:stCxn id="512" idx="2"/>
            <a:endCxn id="508"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20" name=""/>
          <p:cNvCxnSpPr>
            <a:stCxn id="511" idx="4"/>
            <a:endCxn id="512"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21" name=""/>
          <p:cNvCxnSpPr>
            <a:stCxn id="511" idx="5"/>
            <a:endCxn id="515"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22" name=""/>
          <p:cNvCxnSpPr>
            <a:stCxn id="515" idx="0"/>
            <a:endCxn id="514"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23" name=""/>
          <p:cNvCxnSpPr>
            <a:stCxn id="514" idx="0"/>
            <a:endCxn id="505"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24" name=""/>
          <p:cNvCxnSpPr>
            <a:stCxn id="504"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25" name=""/>
          <p:cNvCxnSpPr>
            <a:stCxn id="506" idx="1"/>
            <a:endCxn id="507"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26" name=""/>
          <p:cNvCxnSpPr>
            <a:endCxn id="513"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27" name=""/>
          <p:cNvCxnSpPr>
            <a:stCxn id="510" idx="2"/>
            <a:endCxn id="513"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28" name=""/>
          <p:cNvCxnSpPr>
            <a:stCxn id="506" idx="7"/>
            <a:endCxn id="510"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29" name=""/>
          <p:cNvCxnSpPr>
            <a:stCxn id="506" idx="6"/>
            <a:endCxn id="511"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30" name=""/>
          <p:cNvCxnSpPr>
            <a:stCxn id="514" idx="1"/>
            <a:endCxn id="510"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31" name=""/>
          <p:cNvCxnSpPr>
            <a:stCxn id="504" idx="6"/>
            <a:endCxn id="511"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32"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33"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985131C-C2D7-4456-8DA1-FA959A91B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6"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37"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38"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39"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40"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41"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2"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43"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44"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45"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46"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47"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48" name=""/>
          <p:cNvCxnSpPr>
            <a:stCxn id="536" idx="5"/>
            <a:endCxn id="540"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49" name=""/>
          <p:cNvCxnSpPr>
            <a:stCxn id="540" idx="5"/>
            <a:endCxn id="541"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50" name=""/>
          <p:cNvCxnSpPr>
            <a:stCxn id="544" idx="3"/>
            <a:endCxn id="541"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51" name=""/>
          <p:cNvCxnSpPr>
            <a:stCxn id="544" idx="2"/>
            <a:endCxn id="540"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52" name=""/>
          <p:cNvCxnSpPr>
            <a:stCxn id="543" idx="4"/>
            <a:endCxn id="544"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53" name=""/>
          <p:cNvCxnSpPr>
            <a:stCxn id="543" idx="5"/>
            <a:endCxn id="547"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54" name=""/>
          <p:cNvCxnSpPr>
            <a:stCxn id="547" idx="0"/>
            <a:endCxn id="546"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55" name=""/>
          <p:cNvCxnSpPr>
            <a:stCxn id="546" idx="0"/>
            <a:endCxn id="537"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56" name=""/>
          <p:cNvCxnSpPr>
            <a:stCxn id="536"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57" name=""/>
          <p:cNvCxnSpPr>
            <a:stCxn id="538" idx="1"/>
            <a:endCxn id="539"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58" name=""/>
          <p:cNvCxnSpPr>
            <a:endCxn id="545"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59" name=""/>
          <p:cNvCxnSpPr>
            <a:stCxn id="542" idx="2"/>
            <a:endCxn id="545"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60" name=""/>
          <p:cNvCxnSpPr>
            <a:stCxn id="538" idx="7"/>
            <a:endCxn id="542"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61" name=""/>
          <p:cNvCxnSpPr>
            <a:stCxn id="538" idx="6"/>
            <a:endCxn id="543"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62" name=""/>
          <p:cNvCxnSpPr>
            <a:stCxn id="546" idx="1"/>
            <a:endCxn id="542"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63" name=""/>
          <p:cNvCxnSpPr>
            <a:stCxn id="536" idx="6"/>
            <a:endCxn id="543"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64"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6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56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7F223D-67EB-43C3-B1A8-22FF0A3C2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1"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2"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3"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7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75"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76"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77"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78"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79"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80"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81"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82"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83"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84"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85" name=""/>
          <p:cNvCxnSpPr>
            <a:stCxn id="573" idx="5"/>
            <a:endCxn id="577"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86" name=""/>
          <p:cNvCxnSpPr>
            <a:stCxn id="577" idx="5"/>
            <a:endCxn id="578"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87" name=""/>
          <p:cNvCxnSpPr>
            <a:stCxn id="581" idx="3"/>
            <a:endCxn id="578"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88" name=""/>
          <p:cNvCxnSpPr>
            <a:stCxn id="581" idx="2"/>
            <a:endCxn id="577"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89" name=""/>
          <p:cNvCxnSpPr>
            <a:stCxn id="580" idx="4"/>
            <a:endCxn id="581"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90" name=""/>
          <p:cNvCxnSpPr>
            <a:stCxn id="580" idx="5"/>
            <a:endCxn id="584"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91" name=""/>
          <p:cNvCxnSpPr>
            <a:stCxn id="584" idx="0"/>
            <a:endCxn id="583"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92" name=""/>
          <p:cNvCxnSpPr>
            <a:stCxn id="583" idx="0"/>
            <a:endCxn id="574"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93" name=""/>
          <p:cNvCxnSpPr>
            <a:stCxn id="573"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94" name=""/>
          <p:cNvCxnSpPr>
            <a:stCxn id="575" idx="1"/>
            <a:endCxn id="576"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95" name=""/>
          <p:cNvCxnSpPr>
            <a:endCxn id="582"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96" name=""/>
          <p:cNvCxnSpPr>
            <a:stCxn id="579" idx="2"/>
            <a:endCxn id="582"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97" name=""/>
          <p:cNvCxnSpPr>
            <a:stCxn id="575" idx="7"/>
            <a:endCxn id="579"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98" name=""/>
          <p:cNvCxnSpPr>
            <a:stCxn id="575" idx="6"/>
            <a:endCxn id="580"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99" name=""/>
          <p:cNvCxnSpPr>
            <a:stCxn id="583" idx="1"/>
            <a:endCxn id="579"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00" name=""/>
          <p:cNvCxnSpPr>
            <a:stCxn id="573" idx="6"/>
            <a:endCxn id="580"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01"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02"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3"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4"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5"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6"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7"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08"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9"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0"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11"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12"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95FF4E-58BF-433A-B2F6-4BFF53057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29" name=""/>
          <p:cNvCxnSpPr>
            <a:stCxn id="617" idx="5"/>
            <a:endCxn id="6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30" name=""/>
          <p:cNvCxnSpPr>
            <a:stCxn id="621" idx="5"/>
            <a:endCxn id="6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31" name=""/>
          <p:cNvCxnSpPr>
            <a:stCxn id="625" idx="3"/>
            <a:endCxn id="6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32" name=""/>
          <p:cNvCxnSpPr>
            <a:stCxn id="625" idx="2"/>
            <a:endCxn id="6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33" name=""/>
          <p:cNvCxnSpPr>
            <a:stCxn id="624" idx="4"/>
            <a:endCxn id="6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34" name=""/>
          <p:cNvCxnSpPr>
            <a:stCxn id="624" idx="5"/>
            <a:endCxn id="6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35" name=""/>
          <p:cNvCxnSpPr>
            <a:stCxn id="628" idx="0"/>
            <a:endCxn id="6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36" name=""/>
          <p:cNvCxnSpPr>
            <a:stCxn id="627" idx="0"/>
            <a:endCxn id="6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37" name=""/>
          <p:cNvCxnSpPr>
            <a:stCxn id="6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38" name=""/>
          <p:cNvCxnSpPr>
            <a:stCxn id="619" idx="1"/>
            <a:endCxn id="6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39" name=""/>
          <p:cNvCxnSpPr>
            <a:endCxn id="6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40" name=""/>
          <p:cNvCxnSpPr>
            <a:stCxn id="623" idx="2"/>
            <a:endCxn id="6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41" name=""/>
          <p:cNvCxnSpPr>
            <a:stCxn id="619" idx="7"/>
            <a:endCxn id="6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42" name=""/>
          <p:cNvCxnSpPr>
            <a:stCxn id="619" idx="6"/>
            <a:endCxn id="6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43" name=""/>
          <p:cNvCxnSpPr>
            <a:stCxn id="627" idx="1"/>
            <a:endCxn id="6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44" name=""/>
          <p:cNvCxnSpPr>
            <a:stCxn id="617" idx="6"/>
            <a:endCxn id="6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46"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7"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8"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9"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0"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1"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2"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53"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4"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5"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5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5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65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AABD1B-F349-4451-B2A5-E04D901E4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1"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2"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3"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4"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5"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66"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67"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68"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69"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70"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71"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72"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73"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74"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75"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76"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77" name=""/>
          <p:cNvCxnSpPr>
            <a:stCxn id="665" idx="5"/>
            <a:endCxn id="669"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78" name=""/>
          <p:cNvCxnSpPr>
            <a:stCxn id="669" idx="5"/>
            <a:endCxn id="670"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79" name=""/>
          <p:cNvCxnSpPr>
            <a:stCxn id="673" idx="3"/>
            <a:endCxn id="670"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80" name=""/>
          <p:cNvCxnSpPr>
            <a:stCxn id="673" idx="2"/>
            <a:endCxn id="669"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81" name=""/>
          <p:cNvCxnSpPr>
            <a:stCxn id="672" idx="4"/>
            <a:endCxn id="673"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82" name=""/>
          <p:cNvCxnSpPr>
            <a:stCxn id="672" idx="5"/>
            <a:endCxn id="676"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83" name=""/>
          <p:cNvCxnSpPr>
            <a:stCxn id="676" idx="0"/>
            <a:endCxn id="675"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84" name=""/>
          <p:cNvCxnSpPr>
            <a:stCxn id="675" idx="0"/>
            <a:endCxn id="666"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85" name=""/>
          <p:cNvCxnSpPr>
            <a:stCxn id="665"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86" name=""/>
          <p:cNvCxnSpPr>
            <a:stCxn id="667" idx="1"/>
            <a:endCxn id="668"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87" name=""/>
          <p:cNvCxnSpPr>
            <a:endCxn id="674"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88" name=""/>
          <p:cNvCxnSpPr>
            <a:stCxn id="671" idx="2"/>
            <a:endCxn id="674"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89" name=""/>
          <p:cNvCxnSpPr>
            <a:stCxn id="667" idx="7"/>
            <a:endCxn id="671"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90" name=""/>
          <p:cNvCxnSpPr>
            <a:stCxn id="667" idx="6"/>
            <a:endCxn id="672"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91" name=""/>
          <p:cNvCxnSpPr>
            <a:stCxn id="675" idx="1"/>
            <a:endCxn id="671"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92" name=""/>
          <p:cNvCxnSpPr>
            <a:stCxn id="665" idx="6"/>
            <a:endCxn id="672"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93"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94"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69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0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0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0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0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3C3D17-184A-4BFB-9A6F-DFA8330DE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71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the set of start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 := </a:t>
            </a:r>
            <a:r>
              <a:rPr b="0" i="1" lang="en-US" sz="2000" spc="-1" strike="noStrike">
                <a:solidFill>
                  <a:srgbClr val="000000"/>
                </a:solidFill>
                <a:latin typeface="Arial"/>
              </a:rPr>
              <a:t>NI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a:t>
            </a:r>
            <a:r>
              <a:rPr b="0" lang="en-US" sz="2000" spc="-1" strike="noStrike">
                <a:solidFill>
                  <a:srgbClr val="000000"/>
                </a:solidFill>
                <a:latin typeface="Arial"/>
              </a:rPr>
              <a:t> (no goal state is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nd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not empty) </a:t>
            </a:r>
            <a:r>
              <a:rPr b="1" lang="en-US" sz="2000" spc="-1" strike="noStrike">
                <a:solidFill>
                  <a:srgbClr val="000000"/>
                </a:solidFill>
                <a:latin typeface="Arial"/>
              </a:rPr>
              <a:t>d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i="1" lang="en-US" sz="2000" spc="-1" strike="noStrike">
                <a:solidFill>
                  <a:srgbClr val="000000"/>
                </a:solidFill>
                <a:latin typeface="Arial"/>
              </a:rPr>
              <a:t> </a:t>
            </a:r>
            <a:r>
              <a:rPr b="0" lang="en-US" sz="2000" spc="-1" strike="noStrike">
                <a:solidFill>
                  <a:srgbClr val="000000"/>
                </a:solidFill>
                <a:latin typeface="Arial"/>
              </a:rPr>
              <a:t>:= empty se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a:t>
            </a:r>
            <a:r>
              <a:rPr b="0" i="1" lang="en-US" sz="2000" spc="-1" strike="noStrike">
                <a:solidFill>
                  <a:srgbClr val="000000"/>
                </a:solidFill>
                <a:latin typeface="Arial"/>
              </a:rPr>
              <a:t>s’</a:t>
            </a:r>
            <a:r>
              <a:rPr b="0" lang="en-US" sz="2000" spc="-1" strike="noStrike">
                <a:solidFill>
                  <a:srgbClr val="000000"/>
                </a:solidFill>
                <a:latin typeface="Arial"/>
              </a:rPr>
              <a:t> has not already been label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t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s’</a:t>
            </a:r>
            <a:r>
              <a:rPr b="0" lang="en-US" sz="2000" spc="-1" strike="noStrike">
                <a:solidFill>
                  <a:srgbClr val="000000"/>
                </a:solidFill>
                <a:latin typeface="Arial"/>
              </a:rPr>
              <a:t> into </a:t>
            </a:r>
            <a:r>
              <a:rPr b="0" i="1" lang="en-US" sz="2000" spc="-1" strike="noStrike">
                <a:solidFill>
                  <a:srgbClr val="000000"/>
                </a:solidFill>
                <a:latin typeface="Arial"/>
              </a:rPr>
              <a:t>V</a:t>
            </a:r>
            <a:r>
              <a:rPr b="0" i="1" lang="en-US" sz="2000" spc="-1" strike="noStrike" baseline="-25000">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empty signal FAILU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se</a:t>
            </a:r>
            <a:r>
              <a:rPr b="0" lang="en-US" sz="2000" spc="-1" strike="noStrike">
                <a:solidFill>
                  <a:srgbClr val="000000"/>
                </a:solidFill>
                <a:latin typeface="Arial"/>
              </a:rPr>
              <a:t> build the solution path thus:  Let </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 be the </a:t>
            </a:r>
            <a:r>
              <a:rPr b="0" i="1" lang="en-US" sz="2000" spc="-1" strike="noStrike">
                <a:solidFill>
                  <a:srgbClr val="000000"/>
                </a:solidFill>
                <a:latin typeface="Arial"/>
              </a:rPr>
              <a:t>i</a:t>
            </a:r>
            <a:r>
              <a:rPr b="0" lang="en-US" sz="2000" spc="-1" strike="noStrike">
                <a:solidFill>
                  <a:srgbClr val="000000"/>
                </a:solidFill>
                <a:latin typeface="Arial"/>
              </a:rPr>
              <a:t>th state in the shortest path.  Define </a:t>
            </a:r>
            <a:r>
              <a:rPr b="0" i="1" lang="en-US" sz="2000" spc="-1" strike="noStrike">
                <a:solidFill>
                  <a:srgbClr val="000000"/>
                </a:solidFill>
                <a:latin typeface="Arial"/>
              </a:rPr>
              <a:t>S</a:t>
            </a:r>
            <a:r>
              <a:rPr b="0" i="1" lang="en-US" sz="2000" spc="-1" strike="noStrike" baseline="-25000">
                <a:solidFill>
                  <a:srgbClr val="000000"/>
                </a:solidFill>
                <a:latin typeface="Arial"/>
              </a:rPr>
              <a:t>k</a:t>
            </a:r>
            <a:r>
              <a:rPr b="0" lang="en-US" sz="2000" spc="-1" strike="noStrike">
                <a:solidFill>
                  <a:srgbClr val="000000"/>
                </a:solidFill>
                <a:latin typeface="Arial"/>
              </a:rPr>
              <a:t> = GOAL, and forall </a:t>
            </a:r>
            <a:r>
              <a:rPr b="0" i="1" lang="en-US" sz="2000" spc="-1" strike="noStrike">
                <a:solidFill>
                  <a:srgbClr val="000000"/>
                </a:solidFill>
                <a:latin typeface="Arial"/>
              </a:rPr>
              <a:t>i </a:t>
            </a:r>
            <a:r>
              <a:rPr b="0" lang="en-US" sz="2000" spc="-1" strike="noStrike">
                <a:solidFill>
                  <a:srgbClr val="000000"/>
                </a:solidFill>
                <a:latin typeface="Arial"/>
              </a:rPr>
              <a:t>&lt;= </a:t>
            </a:r>
            <a:r>
              <a:rPr b="0" i="1" lang="en-US" sz="2000" spc="-1" strike="noStrike">
                <a:solidFill>
                  <a:srgbClr val="000000"/>
                </a:solidFill>
                <a:latin typeface="Arial"/>
              </a:rPr>
              <a:t>k,</a:t>
            </a:r>
            <a:r>
              <a:rPr b="0" lang="en-US" sz="2000" spc="-1" strike="noStrike">
                <a:solidFill>
                  <a:srgbClr val="000000"/>
                </a:solidFill>
                <a:latin typeface="Arial"/>
              </a:rPr>
              <a:t> define </a:t>
            </a:r>
            <a:r>
              <a:rPr b="0" i="1" lang="en-US" sz="2000" spc="-1" strike="noStrike">
                <a:solidFill>
                  <a:srgbClr val="000000"/>
                </a:solidFill>
                <a:latin typeface="Arial"/>
              </a:rPr>
              <a:t>S</a:t>
            </a:r>
            <a:r>
              <a:rPr b="0" i="1" lang="en-US" sz="2000" spc="-1" strike="noStrike" baseline="-25000">
                <a:solidFill>
                  <a:srgbClr val="000000"/>
                </a:solidFill>
                <a:latin typeface="Arial"/>
              </a:rPr>
              <a:t>i-1</a:t>
            </a:r>
            <a:r>
              <a:rPr b="0" lang="en-US" sz="2000" spc="-1" strike="noStrike">
                <a:solidFill>
                  <a:srgbClr val="000000"/>
                </a:solidFill>
                <a:latin typeface="Arial"/>
              </a:rPr>
              <a:t> =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129027-B84D-44F5-BAA0-3512D9CA9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7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7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7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7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7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729" name=""/>
          <p:cNvCxnSpPr>
            <a:stCxn id="717" idx="5"/>
            <a:endCxn id="7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730" name=""/>
          <p:cNvCxnSpPr>
            <a:stCxn id="721" idx="5"/>
            <a:endCxn id="7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731" name=""/>
          <p:cNvCxnSpPr>
            <a:stCxn id="725" idx="3"/>
            <a:endCxn id="7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732" name=""/>
          <p:cNvCxnSpPr>
            <a:stCxn id="725" idx="2"/>
            <a:endCxn id="7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733" name=""/>
          <p:cNvCxnSpPr>
            <a:stCxn id="724" idx="4"/>
            <a:endCxn id="7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734" name=""/>
          <p:cNvCxnSpPr>
            <a:stCxn id="724" idx="5"/>
            <a:endCxn id="7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735" name=""/>
          <p:cNvCxnSpPr>
            <a:stCxn id="728" idx="0"/>
            <a:endCxn id="7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736" name=""/>
          <p:cNvCxnSpPr>
            <a:stCxn id="727" idx="0"/>
            <a:endCxn id="7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737" name=""/>
          <p:cNvCxnSpPr>
            <a:stCxn id="7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738" name=""/>
          <p:cNvCxnSpPr>
            <a:stCxn id="719" idx="1"/>
            <a:endCxn id="7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739" name=""/>
          <p:cNvCxnSpPr>
            <a:endCxn id="7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740" name=""/>
          <p:cNvCxnSpPr>
            <a:stCxn id="723" idx="2"/>
            <a:endCxn id="7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741" name=""/>
          <p:cNvCxnSpPr>
            <a:stCxn id="719" idx="7"/>
            <a:endCxn id="7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742" name=""/>
          <p:cNvCxnSpPr>
            <a:stCxn id="719" idx="6"/>
            <a:endCxn id="7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743" name=""/>
          <p:cNvCxnSpPr>
            <a:stCxn id="727" idx="1"/>
            <a:endCxn id="7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744" name=""/>
          <p:cNvCxnSpPr>
            <a:stCxn id="717" idx="6"/>
            <a:endCxn id="7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7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746"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747"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8"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9"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0"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1"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2"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3"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54"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5"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6"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7"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5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60"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61"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762" name=""/>
          <p:cNvSpPr/>
          <p:nvPr/>
        </p:nvSpPr>
        <p:spPr>
          <a:xfrm rot="21227400">
            <a:off x="1829160" y="3171600"/>
            <a:ext cx="6458040" cy="266940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pose your search space conveniently allowed you to obtain predecessors(state).</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think of a different way to do BFS?</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would you be able to avoid storing something that we’d previously had to stor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07AD21C-1EA0-4B7E-90FE-1B621735CF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other way: Work back</a:t>
            </a:r>
            <a:endParaRPr b="0" lang="en-US" sz="4400" spc="-1" strike="noStrike">
              <a:solidFill>
                <a:srgbClr val="009900"/>
              </a:solidFill>
              <a:latin typeface="Arial"/>
            </a:endParaRPr>
          </a:p>
        </p:txBody>
      </p:sp>
      <p:sp>
        <p:nvSpPr>
          <p:cNvPr id="764"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1 step but can’t reach it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2 steps but can’t reach it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 until start is reach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steps to goal” labels determine the shortest path.  Don’t need extra bookkeeping info.</a:t>
            </a:r>
            <a:endParaRPr b="0" lang="en-US" sz="2000" spc="-1" strike="noStrike">
              <a:solidFill>
                <a:srgbClr val="000000"/>
              </a:solidFill>
              <a:latin typeface="Arial"/>
            </a:endParaRPr>
          </a:p>
        </p:txBody>
      </p:sp>
      <p:grpSp>
        <p:nvGrpSpPr>
          <p:cNvPr id="765" name=""/>
          <p:cNvGrpSpPr/>
          <p:nvPr/>
        </p:nvGrpSpPr>
        <p:grpSpPr>
          <a:xfrm>
            <a:off x="2133720" y="1143000"/>
            <a:ext cx="4419000" cy="2361960"/>
            <a:chOff x="2133720" y="1143000"/>
            <a:chExt cx="4419000" cy="2361960"/>
          </a:xfrm>
        </p:grpSpPr>
        <p:sp>
          <p:nvSpPr>
            <p:cNvPr id="766"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767"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768"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69"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70"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71"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72"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773"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74"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775"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776"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77"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778" name=""/>
            <p:cNvCxnSpPr>
              <a:stCxn id="766" idx="5"/>
              <a:endCxn id="770"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779" name=""/>
            <p:cNvCxnSpPr>
              <a:stCxn id="770" idx="5"/>
              <a:endCxn id="771"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780" name=""/>
            <p:cNvCxnSpPr>
              <a:stCxn id="774" idx="3"/>
              <a:endCxn id="771"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781" name=""/>
            <p:cNvCxnSpPr>
              <a:stCxn id="774" idx="2"/>
              <a:endCxn id="770"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782" name=""/>
            <p:cNvCxnSpPr>
              <a:stCxn id="773" idx="4"/>
              <a:endCxn id="774"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783" name=""/>
            <p:cNvCxnSpPr>
              <a:stCxn id="773" idx="5"/>
              <a:endCxn id="777"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784" name=""/>
            <p:cNvCxnSpPr>
              <a:stCxn id="777" idx="0"/>
              <a:endCxn id="776"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785" name=""/>
            <p:cNvCxnSpPr>
              <a:stCxn id="776" idx="0"/>
              <a:endCxn id="767"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786" name=""/>
            <p:cNvCxnSpPr>
              <a:stCxn id="766"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787" name=""/>
            <p:cNvCxnSpPr>
              <a:stCxn id="768" idx="1"/>
              <a:endCxn id="769"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788" name=""/>
            <p:cNvCxnSpPr>
              <a:endCxn id="775"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789" name=""/>
            <p:cNvCxnSpPr>
              <a:stCxn id="772" idx="2"/>
              <a:endCxn id="775"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790" name=""/>
            <p:cNvCxnSpPr>
              <a:stCxn id="768" idx="7"/>
              <a:endCxn id="772"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791" name=""/>
            <p:cNvCxnSpPr>
              <a:stCxn id="768" idx="6"/>
              <a:endCxn id="773"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792" name=""/>
            <p:cNvCxnSpPr>
              <a:stCxn id="776" idx="1"/>
              <a:endCxn id="772"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793" name=""/>
            <p:cNvCxnSpPr>
              <a:stCxn id="766" idx="6"/>
              <a:endCxn id="773"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647BCD77-17CD-42EF-AED5-EA18A3979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earch problem</a:t>
            </a:r>
            <a:endParaRPr b="0" lang="en-US" sz="4400" spc="-1" strike="noStrike">
              <a:solidFill>
                <a:srgbClr val="009900"/>
              </a:solidFill>
              <a:latin typeface="Arial"/>
            </a:endParaRPr>
          </a:p>
        </p:txBody>
      </p:sp>
      <p:sp>
        <p:nvSpPr>
          <p:cNvPr id="46" name="PlaceHolder 2"/>
          <p:cNvSpPr>
            <a:spLocks noGrp="1"/>
          </p:cNvSpPr>
          <p:nvPr>
            <p:ph/>
          </p:nvPr>
        </p:nvSpPr>
        <p:spPr>
          <a:xfrm>
            <a:off x="457200" y="5257800"/>
            <a:ext cx="8229600" cy="868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get from S to G?  And what’s the smallest possible number of transitions?</a:t>
            </a:r>
            <a:endParaRPr b="0" lang="en-US" sz="2800" spc="-1" strike="noStrike">
              <a:solidFill>
                <a:srgbClr val="000000"/>
              </a:solidFill>
              <a:latin typeface="Arial"/>
            </a:endParaRPr>
          </a:p>
        </p:txBody>
      </p:sp>
      <p:grpSp>
        <p:nvGrpSpPr>
          <p:cNvPr id="47" name=""/>
          <p:cNvGrpSpPr/>
          <p:nvPr/>
        </p:nvGrpSpPr>
        <p:grpSpPr>
          <a:xfrm>
            <a:off x="990720" y="1143000"/>
            <a:ext cx="6933600" cy="4038120"/>
            <a:chOff x="990720" y="1143000"/>
            <a:chExt cx="6933600" cy="4038120"/>
          </a:xfrm>
        </p:grpSpPr>
        <p:sp>
          <p:nvSpPr>
            <p:cNvPr id="48" name=""/>
            <p:cNvSpPr/>
            <p:nvPr/>
          </p:nvSpPr>
          <p:spPr>
            <a:xfrm>
              <a:off x="990720" y="3510360"/>
              <a:ext cx="68616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9" name=""/>
            <p:cNvSpPr/>
            <p:nvPr/>
          </p:nvSpPr>
          <p:spPr>
            <a:xfrm>
              <a:off x="7237800" y="11430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 name=""/>
            <p:cNvSpPr/>
            <p:nvPr/>
          </p:nvSpPr>
          <p:spPr>
            <a:xfrm>
              <a:off x="2981520" y="288360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1" name=""/>
            <p:cNvSpPr/>
            <p:nvPr/>
          </p:nvSpPr>
          <p:spPr>
            <a:xfrm>
              <a:off x="1539720" y="183924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2" name=""/>
            <p:cNvSpPr/>
            <p:nvPr/>
          </p:nvSpPr>
          <p:spPr>
            <a:xfrm>
              <a:off x="222624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3" name=""/>
            <p:cNvSpPr/>
            <p:nvPr/>
          </p:nvSpPr>
          <p:spPr>
            <a:xfrm>
              <a:off x="3873960" y="44848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 name=""/>
            <p:cNvSpPr/>
            <p:nvPr/>
          </p:nvSpPr>
          <p:spPr>
            <a:xfrm>
              <a:off x="4629240" y="17694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55" name=""/>
            <p:cNvSpPr/>
            <p:nvPr/>
          </p:nvSpPr>
          <p:spPr>
            <a:xfrm>
              <a:off x="5590080" y="260496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6" name=""/>
            <p:cNvSpPr/>
            <p:nvPr/>
          </p:nvSpPr>
          <p:spPr>
            <a:xfrm>
              <a:off x="5041080" y="357984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57" name=""/>
            <p:cNvSpPr/>
            <p:nvPr/>
          </p:nvSpPr>
          <p:spPr>
            <a:xfrm>
              <a:off x="2775600" y="121248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58" name=""/>
            <p:cNvSpPr/>
            <p:nvPr/>
          </p:nvSpPr>
          <p:spPr>
            <a:xfrm>
              <a:off x="7031880" y="302292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9" name=""/>
            <p:cNvSpPr/>
            <p:nvPr/>
          </p:nvSpPr>
          <p:spPr>
            <a:xfrm>
              <a:off x="675756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60" name=""/>
            <p:cNvCxnSpPr>
              <a:stCxn id="48" idx="5"/>
              <a:endCxn id="52" idx="2"/>
            </p:cNvCxnSpPr>
            <p:nvPr/>
          </p:nvCxnSpPr>
          <p:spPr>
            <a:xfrm>
              <a:off x="1576440" y="4104720"/>
              <a:ext cx="649800" cy="519480"/>
            </a:xfrm>
            <a:prstGeom prst="straightConnector1">
              <a:avLst/>
            </a:prstGeom>
            <a:ln w="9360">
              <a:solidFill>
                <a:srgbClr val="000000"/>
              </a:solidFill>
              <a:miter/>
              <a:tailEnd len="med" type="triangle" w="med"/>
            </a:ln>
          </p:spPr>
        </p:cxnSp>
        <p:cxnSp>
          <p:nvCxnSpPr>
            <p:cNvPr id="61" name=""/>
            <p:cNvCxnSpPr>
              <a:stCxn id="52" idx="5"/>
              <a:endCxn id="53" idx="2"/>
            </p:cNvCxnSpPr>
            <p:nvPr/>
          </p:nvCxnSpPr>
          <p:spPr>
            <a:xfrm flipV="1">
              <a:off x="2812320" y="4832280"/>
              <a:ext cx="1061640" cy="38520"/>
            </a:xfrm>
            <a:prstGeom prst="straightConnector1">
              <a:avLst/>
            </a:prstGeom>
            <a:ln w="9360">
              <a:solidFill>
                <a:srgbClr val="000000"/>
              </a:solidFill>
              <a:miter/>
              <a:tailEnd len="med" type="triangle" w="med"/>
            </a:ln>
          </p:spPr>
        </p:cxnSp>
        <p:cxnSp>
          <p:nvCxnSpPr>
            <p:cNvPr id="62" name=""/>
            <p:cNvCxnSpPr>
              <a:stCxn id="56" idx="3"/>
              <a:endCxn id="53" idx="7"/>
            </p:cNvCxnSpPr>
            <p:nvPr/>
          </p:nvCxnSpPr>
          <p:spPr>
            <a:xfrm flipH="1">
              <a:off x="4459680" y="4174560"/>
              <a:ext cx="681480" cy="412560"/>
            </a:xfrm>
            <a:prstGeom prst="straightConnector1">
              <a:avLst/>
            </a:prstGeom>
            <a:ln w="9360">
              <a:solidFill>
                <a:srgbClr val="000000"/>
              </a:solidFill>
              <a:miter/>
              <a:tailEnd len="med" type="triangle" w="med"/>
            </a:ln>
          </p:spPr>
        </p:cxnSp>
        <p:cxnSp>
          <p:nvCxnSpPr>
            <p:cNvPr id="63" name=""/>
            <p:cNvCxnSpPr>
              <a:stCxn id="56" idx="2"/>
              <a:endCxn id="52" idx="6"/>
            </p:cNvCxnSpPr>
            <p:nvPr/>
          </p:nvCxnSpPr>
          <p:spPr>
            <a:xfrm flipH="1">
              <a:off x="2912400" y="3927600"/>
              <a:ext cx="2129040" cy="696600"/>
            </a:xfrm>
            <a:prstGeom prst="straightConnector1">
              <a:avLst/>
            </a:prstGeom>
            <a:ln w="9360">
              <a:solidFill>
                <a:srgbClr val="000000"/>
              </a:solidFill>
              <a:miter/>
              <a:tailEnd len="med" type="triangle" w="med"/>
            </a:ln>
          </p:spPr>
        </p:cxnSp>
        <p:cxnSp>
          <p:nvCxnSpPr>
            <p:cNvPr id="64" name=""/>
            <p:cNvCxnSpPr>
              <a:stCxn id="55" idx="4"/>
              <a:endCxn id="56" idx="7"/>
            </p:cNvCxnSpPr>
            <p:nvPr/>
          </p:nvCxnSpPr>
          <p:spPr>
            <a:xfrm flipH="1">
              <a:off x="5627160" y="3301200"/>
              <a:ext cx="306720" cy="380520"/>
            </a:xfrm>
            <a:prstGeom prst="straightConnector1">
              <a:avLst/>
            </a:prstGeom>
            <a:ln w="9360">
              <a:solidFill>
                <a:srgbClr val="000000"/>
              </a:solidFill>
              <a:miter/>
              <a:tailEnd len="med" type="triangle" w="med"/>
            </a:ln>
          </p:spPr>
        </p:cxnSp>
        <p:cxnSp>
          <p:nvCxnSpPr>
            <p:cNvPr id="65" name=""/>
            <p:cNvCxnSpPr>
              <a:stCxn id="55" idx="5"/>
              <a:endCxn id="59" idx="1"/>
            </p:cNvCxnSpPr>
            <p:nvPr/>
          </p:nvCxnSpPr>
          <p:spPr>
            <a:xfrm>
              <a:off x="6176160" y="3199680"/>
              <a:ext cx="681480" cy="1178640"/>
            </a:xfrm>
            <a:prstGeom prst="straightConnector1">
              <a:avLst/>
            </a:prstGeom>
            <a:ln w="9360">
              <a:solidFill>
                <a:srgbClr val="000000"/>
              </a:solidFill>
              <a:miter/>
              <a:tailEnd len="med" type="triangle" w="med"/>
            </a:ln>
          </p:spPr>
        </p:cxnSp>
        <p:cxnSp>
          <p:nvCxnSpPr>
            <p:cNvPr id="66" name=""/>
            <p:cNvCxnSpPr>
              <a:stCxn id="59" idx="0"/>
              <a:endCxn id="58" idx="4"/>
            </p:cNvCxnSpPr>
            <p:nvPr/>
          </p:nvCxnSpPr>
          <p:spPr>
            <a:xfrm flipV="1">
              <a:off x="7100280" y="3718800"/>
              <a:ext cx="275400" cy="557280"/>
            </a:xfrm>
            <a:prstGeom prst="straightConnector1">
              <a:avLst/>
            </a:prstGeom>
            <a:ln w="9360">
              <a:solidFill>
                <a:srgbClr val="000000"/>
              </a:solidFill>
              <a:miter/>
              <a:tailEnd len="med" type="triangle" w="med"/>
            </a:ln>
          </p:spPr>
        </p:cxnSp>
        <p:cxnSp>
          <p:nvCxnSpPr>
            <p:cNvPr id="67" name=""/>
            <p:cNvCxnSpPr>
              <a:stCxn id="58" idx="0"/>
              <a:endCxn id="49" idx="4"/>
            </p:cNvCxnSpPr>
            <p:nvPr/>
          </p:nvCxnSpPr>
          <p:spPr>
            <a:xfrm flipV="1">
              <a:off x="7375320" y="1838520"/>
              <a:ext cx="206640" cy="1184040"/>
            </a:xfrm>
            <a:prstGeom prst="straightConnector1">
              <a:avLst/>
            </a:prstGeom>
            <a:ln w="9360">
              <a:solidFill>
                <a:srgbClr val="000000"/>
              </a:solidFill>
              <a:miter/>
              <a:tailEnd len="med" type="triangle" w="med"/>
            </a:ln>
          </p:spPr>
        </p:cxnSp>
        <p:cxnSp>
          <p:nvCxnSpPr>
            <p:cNvPr id="68" name=""/>
            <p:cNvCxnSpPr>
              <a:stCxn id="48" idx="7"/>
            </p:cNvCxnSpPr>
            <p:nvPr/>
          </p:nvCxnSpPr>
          <p:spPr>
            <a:xfrm flipV="1">
              <a:off x="1576440" y="3231000"/>
              <a:ext cx="1405080" cy="380520"/>
            </a:xfrm>
            <a:prstGeom prst="straightConnector1">
              <a:avLst/>
            </a:prstGeom>
            <a:ln w="9360">
              <a:solidFill>
                <a:srgbClr val="000000"/>
              </a:solidFill>
              <a:miter/>
              <a:tailEnd len="med" type="triangle" w="med"/>
            </a:ln>
          </p:spPr>
        </p:cxnSp>
        <p:cxnSp>
          <p:nvCxnSpPr>
            <p:cNvPr id="69" name=""/>
            <p:cNvCxnSpPr>
              <a:stCxn id="50" idx="1"/>
              <a:endCxn id="51" idx="5"/>
            </p:cNvCxnSpPr>
            <p:nvPr/>
          </p:nvCxnSpPr>
          <p:spPr>
            <a:xfrm flipH="1" flipV="1">
              <a:off x="2125800" y="2433600"/>
              <a:ext cx="956160" cy="551520"/>
            </a:xfrm>
            <a:prstGeom prst="straightConnector1">
              <a:avLst/>
            </a:prstGeom>
            <a:ln w="9360">
              <a:solidFill>
                <a:srgbClr val="000000"/>
              </a:solidFill>
              <a:miter/>
              <a:tailEnd len="med" type="triangle" w="med"/>
            </a:ln>
          </p:spPr>
        </p:cxnSp>
        <p:cxnSp>
          <p:nvCxnSpPr>
            <p:cNvPr id="70" name=""/>
            <p:cNvCxnSpPr>
              <a:endCxn id="57" idx="2"/>
            </p:cNvCxnSpPr>
            <p:nvPr/>
          </p:nvCxnSpPr>
          <p:spPr>
            <a:xfrm flipV="1">
              <a:off x="2157480" y="1559880"/>
              <a:ext cx="618480" cy="380520"/>
            </a:xfrm>
            <a:prstGeom prst="straightConnector1">
              <a:avLst/>
            </a:prstGeom>
            <a:ln w="9360">
              <a:solidFill>
                <a:srgbClr val="000000"/>
              </a:solidFill>
              <a:miter/>
              <a:tailEnd len="med" type="triangle" w="med"/>
            </a:ln>
          </p:spPr>
        </p:cxnSp>
        <p:cxnSp>
          <p:nvCxnSpPr>
            <p:cNvPr id="71" name=""/>
            <p:cNvCxnSpPr>
              <a:stCxn id="54" idx="2"/>
              <a:endCxn id="57" idx="6"/>
            </p:cNvCxnSpPr>
            <p:nvPr/>
          </p:nvCxnSpPr>
          <p:spPr>
            <a:xfrm flipH="1" flipV="1">
              <a:off x="3461400" y="1560240"/>
              <a:ext cx="1167480" cy="557280"/>
            </a:xfrm>
            <a:prstGeom prst="straightConnector1">
              <a:avLst/>
            </a:prstGeom>
            <a:ln w="9360">
              <a:solidFill>
                <a:srgbClr val="000000"/>
              </a:solidFill>
              <a:miter/>
              <a:tailEnd len="med" type="triangle" w="med"/>
            </a:ln>
          </p:spPr>
        </p:cxnSp>
        <p:cxnSp>
          <p:nvCxnSpPr>
            <p:cNvPr id="72" name=""/>
            <p:cNvCxnSpPr>
              <a:stCxn id="50" idx="7"/>
              <a:endCxn id="54" idx="3"/>
            </p:cNvCxnSpPr>
            <p:nvPr/>
          </p:nvCxnSpPr>
          <p:spPr>
            <a:xfrm flipV="1">
              <a:off x="3567960" y="2364120"/>
              <a:ext cx="1162080" cy="621000"/>
            </a:xfrm>
            <a:prstGeom prst="straightConnector1">
              <a:avLst/>
            </a:prstGeom>
            <a:ln w="9360">
              <a:solidFill>
                <a:srgbClr val="000000"/>
              </a:solidFill>
              <a:miter/>
              <a:tailEnd len="med" type="triangle" w="med"/>
            </a:ln>
          </p:spPr>
        </p:cxnSp>
        <p:cxnSp>
          <p:nvCxnSpPr>
            <p:cNvPr id="73" name=""/>
            <p:cNvCxnSpPr>
              <a:stCxn id="50" idx="6"/>
              <a:endCxn id="55" idx="2"/>
            </p:cNvCxnSpPr>
            <p:nvPr/>
          </p:nvCxnSpPr>
          <p:spPr>
            <a:xfrm flipV="1">
              <a:off x="3667680" y="2952360"/>
              <a:ext cx="1922760" cy="279000"/>
            </a:xfrm>
            <a:prstGeom prst="straightConnector1">
              <a:avLst/>
            </a:prstGeom>
            <a:ln w="9360">
              <a:solidFill>
                <a:srgbClr val="000000"/>
              </a:solidFill>
              <a:miter/>
              <a:tailEnd len="med" type="triangle" w="med"/>
            </a:ln>
          </p:spPr>
        </p:cxnSp>
        <p:cxnSp>
          <p:nvCxnSpPr>
            <p:cNvPr id="74" name=""/>
            <p:cNvCxnSpPr>
              <a:stCxn id="58" idx="1"/>
              <a:endCxn id="54" idx="6"/>
            </p:cNvCxnSpPr>
            <p:nvPr/>
          </p:nvCxnSpPr>
          <p:spPr>
            <a:xfrm flipV="1" rot="16200000">
              <a:off x="5720040" y="1712160"/>
              <a:ext cx="1007280" cy="1816920"/>
            </a:xfrm>
            <a:prstGeom prst="curvedConnector2">
              <a:avLst/>
            </a:prstGeom>
            <a:ln w="9360">
              <a:solidFill>
                <a:srgbClr val="000000"/>
              </a:solidFill>
              <a:miter/>
              <a:tailEnd len="med" type="triangle" w="med"/>
            </a:ln>
          </p:spPr>
        </p:cxnSp>
        <p:cxnSp>
          <p:nvCxnSpPr>
            <p:cNvPr id="75" name=""/>
            <p:cNvCxnSpPr>
              <a:stCxn id="48" idx="6"/>
              <a:endCxn id="55" idx="3"/>
            </p:cNvCxnSpPr>
            <p:nvPr/>
          </p:nvCxnSpPr>
          <p:spPr>
            <a:xfrm flipV="1">
              <a:off x="1676880" y="3198960"/>
              <a:ext cx="4014000" cy="6591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2F1061E9-8F9F-46B8-B64B-4DAE20C8D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Details</a:t>
            </a:r>
            <a:endParaRPr b="0" lang="en-US" sz="4400" spc="-1" strike="noStrike">
              <a:solidFill>
                <a:srgbClr val="009900"/>
              </a:solidFill>
              <a:latin typeface="Arial"/>
            </a:endParaRPr>
          </a:p>
        </p:txBody>
      </p:sp>
      <p:sp>
        <p:nvSpPr>
          <p:cNvPr id="795"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goal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start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works forwards from the start.  Any algorithm which works forwards from the start is said to be </a:t>
            </a:r>
            <a:r>
              <a:rPr b="0" i="1" lang="en-US" sz="2800" spc="-1" strike="noStrike">
                <a:solidFill>
                  <a:srgbClr val="ff5050"/>
                </a:solidFill>
                <a:latin typeface="Arial"/>
              </a:rPr>
              <a:t>for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work backwards from the goal. This algorithm is very similar to Dijkstra’s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lgorithm which works backwards from the goal is said to be </a:t>
            </a:r>
            <a:r>
              <a:rPr b="0" i="1" lang="en-US" sz="2800" spc="-1" strike="noStrike">
                <a:solidFill>
                  <a:srgbClr val="ff5050"/>
                </a:solidFill>
                <a:latin typeface="Arial"/>
              </a:rPr>
              <a:t>back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versus forward.  Which is bet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B8AF3C-A8DF-4E0F-8BFD-A8E22989C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sts on transitions</a:t>
            </a:r>
            <a:endParaRPr b="0" lang="en-US" sz="4400" spc="-1" strike="noStrike">
              <a:solidFill>
                <a:srgbClr val="009900"/>
              </a:solidFill>
              <a:latin typeface="Arial"/>
            </a:endParaRPr>
          </a:p>
        </p:txBody>
      </p:sp>
      <p:sp>
        <p:nvSpPr>
          <p:cNvPr id="797"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BFS finds the shortest path in terms of number of transitions.  It does not find the least-cost pat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quickly review an algorithm which does find the least-cost path.  On the </a:t>
            </a:r>
            <a:r>
              <a:rPr b="0" i="1" lang="en-US" sz="2000" spc="-1" strike="noStrike">
                <a:solidFill>
                  <a:srgbClr val="000000"/>
                </a:solidFill>
                <a:latin typeface="Arial"/>
              </a:rPr>
              <a:t>k</a:t>
            </a:r>
            <a:r>
              <a:rPr b="0" lang="en-US" sz="2000" spc="-1" strike="noStrike">
                <a:solidFill>
                  <a:srgbClr val="000000"/>
                </a:solidFill>
                <a:latin typeface="Arial"/>
              </a:rPr>
              <a:t>th iteration, for any state </a:t>
            </a:r>
            <a:r>
              <a:rPr b="0" i="1" lang="en-US" sz="2000" spc="-1" strike="noStrike">
                <a:solidFill>
                  <a:srgbClr val="000000"/>
                </a:solidFill>
                <a:latin typeface="Arial"/>
              </a:rPr>
              <a:t>S</a:t>
            </a:r>
            <a:r>
              <a:rPr b="0" lang="en-US" sz="2000" spc="-1" strike="noStrike">
                <a:solidFill>
                  <a:srgbClr val="000000"/>
                </a:solidFill>
                <a:latin typeface="Arial"/>
              </a:rPr>
              <a:t>, write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least-cost path to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k</a:t>
            </a:r>
            <a:r>
              <a:rPr b="0" lang="en-US" sz="2000" spc="-1" strike="noStrike">
                <a:solidFill>
                  <a:srgbClr val="000000"/>
                </a:solidFill>
                <a:latin typeface="Arial"/>
              </a:rPr>
              <a:t> or fewer steps.</a:t>
            </a:r>
            <a:endParaRPr b="0" lang="en-US" sz="2000" spc="-1" strike="noStrike">
              <a:solidFill>
                <a:srgbClr val="000000"/>
              </a:solidFill>
              <a:latin typeface="Arial"/>
            </a:endParaRPr>
          </a:p>
        </p:txBody>
      </p:sp>
      <p:grpSp>
        <p:nvGrpSpPr>
          <p:cNvPr id="798" name=""/>
          <p:cNvGrpSpPr/>
          <p:nvPr/>
        </p:nvGrpSpPr>
        <p:grpSpPr>
          <a:xfrm>
            <a:off x="1600200" y="1143000"/>
            <a:ext cx="6019560" cy="3119400"/>
            <a:chOff x="1600200" y="1143000"/>
            <a:chExt cx="6019560" cy="3119400"/>
          </a:xfrm>
        </p:grpSpPr>
        <p:grpSp>
          <p:nvGrpSpPr>
            <p:cNvPr id="799" name=""/>
            <p:cNvGrpSpPr/>
            <p:nvPr/>
          </p:nvGrpSpPr>
          <p:grpSpPr>
            <a:xfrm>
              <a:off x="1600200" y="1143000"/>
              <a:ext cx="6019560" cy="2971800"/>
              <a:chOff x="1600200" y="1143000"/>
              <a:chExt cx="6019560" cy="2971800"/>
            </a:xfrm>
          </p:grpSpPr>
          <p:sp>
            <p:nvSpPr>
              <p:cNvPr id="800" name=""/>
              <p:cNvSpPr/>
              <p:nvPr/>
            </p:nvSpPr>
            <p:spPr>
              <a:xfrm>
                <a:off x="1600200" y="28854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01" name=""/>
              <p:cNvSpPr/>
              <p:nvPr/>
            </p:nvSpPr>
            <p:spPr>
              <a:xfrm>
                <a:off x="7023960" y="11430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02" name=""/>
              <p:cNvSpPr/>
              <p:nvPr/>
            </p:nvSpPr>
            <p:spPr>
              <a:xfrm>
                <a:off x="3328560" y="24238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03" name=""/>
              <p:cNvSpPr/>
              <p:nvPr/>
            </p:nvSpPr>
            <p:spPr>
              <a:xfrm>
                <a:off x="2076840" y="16552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04" name=""/>
              <p:cNvSpPr/>
              <p:nvPr/>
            </p:nvSpPr>
            <p:spPr>
              <a:xfrm>
                <a:off x="267300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05" name=""/>
              <p:cNvSpPr/>
              <p:nvPr/>
            </p:nvSpPr>
            <p:spPr>
              <a:xfrm>
                <a:off x="4103280" y="36025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06" name=""/>
              <p:cNvSpPr/>
              <p:nvPr/>
            </p:nvSpPr>
            <p:spPr>
              <a:xfrm>
                <a:off x="4758840" y="1604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07" name=""/>
              <p:cNvSpPr/>
              <p:nvPr/>
            </p:nvSpPr>
            <p:spPr>
              <a:xfrm>
                <a:off x="5593320" y="221904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08" name=""/>
              <p:cNvSpPr/>
              <p:nvPr/>
            </p:nvSpPr>
            <p:spPr>
              <a:xfrm>
                <a:off x="5116680" y="2936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09" name=""/>
              <p:cNvSpPr/>
              <p:nvPr/>
            </p:nvSpPr>
            <p:spPr>
              <a:xfrm>
                <a:off x="3149640" y="11941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10" name=""/>
              <p:cNvSpPr/>
              <p:nvPr/>
            </p:nvSpPr>
            <p:spPr>
              <a:xfrm>
                <a:off x="6845040" y="25264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11" name=""/>
              <p:cNvSpPr/>
              <p:nvPr/>
            </p:nvSpPr>
            <p:spPr>
              <a:xfrm>
                <a:off x="660672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12" name=""/>
              <p:cNvCxnSpPr>
                <a:stCxn id="800" idx="5"/>
                <a:endCxn id="804" idx="2"/>
              </p:cNvCxnSpPr>
              <p:nvPr/>
            </p:nvCxnSpPr>
            <p:spPr>
              <a:xfrm>
                <a:off x="2108880" y="3322440"/>
                <a:ext cx="564120" cy="382680"/>
              </a:xfrm>
              <a:prstGeom prst="straightConnector1">
                <a:avLst/>
              </a:prstGeom>
              <a:ln w="9360">
                <a:solidFill>
                  <a:srgbClr val="000000"/>
                </a:solidFill>
                <a:miter/>
                <a:tailEnd len="med" type="triangle" w="med"/>
              </a:ln>
            </p:spPr>
          </p:cxnSp>
          <p:cxnSp>
            <p:nvCxnSpPr>
              <p:cNvPr id="813" name=""/>
              <p:cNvCxnSpPr>
                <a:stCxn id="804" idx="5"/>
                <a:endCxn id="805" idx="2"/>
              </p:cNvCxnSpPr>
              <p:nvPr/>
            </p:nvCxnSpPr>
            <p:spPr>
              <a:xfrm flipV="1">
                <a:off x="3181680" y="3858120"/>
                <a:ext cx="921960" cy="28440"/>
              </a:xfrm>
              <a:prstGeom prst="straightConnector1">
                <a:avLst/>
              </a:prstGeom>
              <a:ln w="9360">
                <a:solidFill>
                  <a:srgbClr val="000000"/>
                </a:solidFill>
                <a:miter/>
                <a:tailEnd len="med" type="triangle" w="med"/>
              </a:ln>
            </p:spPr>
          </p:cxnSp>
          <p:cxnSp>
            <p:nvCxnSpPr>
              <p:cNvPr id="814" name=""/>
              <p:cNvCxnSpPr>
                <a:stCxn id="808" idx="3"/>
                <a:endCxn id="805" idx="7"/>
              </p:cNvCxnSpPr>
              <p:nvPr/>
            </p:nvCxnSpPr>
            <p:spPr>
              <a:xfrm flipH="1">
                <a:off x="4612320" y="3373920"/>
                <a:ext cx="591120" cy="303840"/>
              </a:xfrm>
              <a:prstGeom prst="straightConnector1">
                <a:avLst/>
              </a:prstGeom>
              <a:ln w="9360">
                <a:solidFill>
                  <a:srgbClr val="000000"/>
                </a:solidFill>
                <a:miter/>
                <a:tailEnd len="med" type="triangle" w="med"/>
              </a:ln>
            </p:spPr>
          </p:cxnSp>
          <p:cxnSp>
            <p:nvCxnSpPr>
              <p:cNvPr id="815" name=""/>
              <p:cNvCxnSpPr>
                <a:stCxn id="808" idx="2"/>
                <a:endCxn id="804" idx="6"/>
              </p:cNvCxnSpPr>
              <p:nvPr/>
            </p:nvCxnSpPr>
            <p:spPr>
              <a:xfrm flipH="1">
                <a:off x="3268440" y="3192480"/>
                <a:ext cx="1848240" cy="513000"/>
              </a:xfrm>
              <a:prstGeom prst="straightConnector1">
                <a:avLst/>
              </a:prstGeom>
              <a:ln w="9360">
                <a:solidFill>
                  <a:srgbClr val="000000"/>
                </a:solidFill>
                <a:miter/>
                <a:tailEnd len="med" type="triangle" w="med"/>
              </a:ln>
            </p:spPr>
          </p:cxnSp>
          <p:cxnSp>
            <p:nvCxnSpPr>
              <p:cNvPr id="816" name=""/>
              <p:cNvCxnSpPr>
                <a:stCxn id="807" idx="4"/>
                <a:endCxn id="808" idx="7"/>
              </p:cNvCxnSpPr>
              <p:nvPr/>
            </p:nvCxnSpPr>
            <p:spPr>
              <a:xfrm flipH="1">
                <a:off x="5625360" y="2731320"/>
                <a:ext cx="266400" cy="280080"/>
              </a:xfrm>
              <a:prstGeom prst="straightConnector1">
                <a:avLst/>
              </a:prstGeom>
              <a:ln w="9360">
                <a:solidFill>
                  <a:srgbClr val="000000"/>
                </a:solidFill>
                <a:miter/>
                <a:tailEnd len="med" type="triangle" w="med"/>
              </a:ln>
            </p:spPr>
          </p:cxnSp>
          <p:cxnSp>
            <p:nvCxnSpPr>
              <p:cNvPr id="817" name=""/>
              <p:cNvCxnSpPr>
                <a:stCxn id="807" idx="5"/>
                <a:endCxn id="811" idx="1"/>
              </p:cNvCxnSpPr>
              <p:nvPr/>
            </p:nvCxnSpPr>
            <p:spPr>
              <a:xfrm>
                <a:off x="6102000" y="2656800"/>
                <a:ext cx="591120" cy="867600"/>
              </a:xfrm>
              <a:prstGeom prst="straightConnector1">
                <a:avLst/>
              </a:prstGeom>
              <a:ln w="9360">
                <a:solidFill>
                  <a:srgbClr val="000000"/>
                </a:solidFill>
                <a:miter/>
                <a:tailEnd len="med" type="triangle" w="med"/>
              </a:ln>
            </p:spPr>
          </p:cxnSp>
          <p:cxnSp>
            <p:nvCxnSpPr>
              <p:cNvPr id="818" name=""/>
              <p:cNvCxnSpPr>
                <a:stCxn id="811" idx="0"/>
                <a:endCxn id="810" idx="4"/>
              </p:cNvCxnSpPr>
              <p:nvPr/>
            </p:nvCxnSpPr>
            <p:spPr>
              <a:xfrm flipV="1">
                <a:off x="6904800" y="3038760"/>
                <a:ext cx="239040" cy="410400"/>
              </a:xfrm>
              <a:prstGeom prst="straightConnector1">
                <a:avLst/>
              </a:prstGeom>
              <a:ln w="9360">
                <a:solidFill>
                  <a:srgbClr val="000000"/>
                </a:solidFill>
                <a:miter/>
                <a:tailEnd len="med" type="triangle" w="med"/>
              </a:ln>
            </p:spPr>
          </p:cxnSp>
          <p:cxnSp>
            <p:nvCxnSpPr>
              <p:cNvPr id="819" name=""/>
              <p:cNvCxnSpPr>
                <a:stCxn id="810" idx="0"/>
                <a:endCxn id="801" idx="4"/>
              </p:cNvCxnSpPr>
              <p:nvPr/>
            </p:nvCxnSpPr>
            <p:spPr>
              <a:xfrm flipV="1">
                <a:off x="7143120" y="1654560"/>
                <a:ext cx="179280" cy="871560"/>
              </a:xfrm>
              <a:prstGeom prst="straightConnector1">
                <a:avLst/>
              </a:prstGeom>
              <a:ln w="9360">
                <a:solidFill>
                  <a:srgbClr val="000000"/>
                </a:solidFill>
                <a:miter/>
                <a:tailEnd len="med" type="triangle" w="med"/>
              </a:ln>
            </p:spPr>
          </p:cxnSp>
          <p:cxnSp>
            <p:nvCxnSpPr>
              <p:cNvPr id="820" name=""/>
              <p:cNvCxnSpPr>
                <a:stCxn id="800" idx="7"/>
              </p:cNvCxnSpPr>
              <p:nvPr/>
            </p:nvCxnSpPr>
            <p:spPr>
              <a:xfrm flipV="1">
                <a:off x="2109240" y="2679840"/>
                <a:ext cx="1219680" cy="280080"/>
              </a:xfrm>
              <a:prstGeom prst="straightConnector1">
                <a:avLst/>
              </a:prstGeom>
              <a:ln w="9360">
                <a:solidFill>
                  <a:srgbClr val="000000"/>
                </a:solidFill>
                <a:miter/>
                <a:tailEnd len="med" type="triangle" w="med"/>
              </a:ln>
            </p:spPr>
          </p:cxnSp>
          <p:cxnSp>
            <p:nvCxnSpPr>
              <p:cNvPr id="821" name=""/>
              <p:cNvCxnSpPr>
                <a:stCxn id="802" idx="1"/>
                <a:endCxn id="803" idx="5"/>
              </p:cNvCxnSpPr>
              <p:nvPr/>
            </p:nvCxnSpPr>
            <p:spPr>
              <a:xfrm flipH="1" flipV="1">
                <a:off x="2585520" y="2092680"/>
                <a:ext cx="830160" cy="406080"/>
              </a:xfrm>
              <a:prstGeom prst="straightConnector1">
                <a:avLst/>
              </a:prstGeom>
              <a:ln w="9360">
                <a:solidFill>
                  <a:srgbClr val="000000"/>
                </a:solidFill>
                <a:miter/>
                <a:tailEnd len="med" type="triangle" w="med"/>
              </a:ln>
            </p:spPr>
          </p:cxnSp>
          <p:cxnSp>
            <p:nvCxnSpPr>
              <p:cNvPr id="822" name=""/>
              <p:cNvCxnSpPr>
                <a:endCxn id="809" idx="2"/>
              </p:cNvCxnSpPr>
              <p:nvPr/>
            </p:nvCxnSpPr>
            <p:spPr>
              <a:xfrm flipV="1">
                <a:off x="2613240" y="1450080"/>
                <a:ext cx="536760" cy="280080"/>
              </a:xfrm>
              <a:prstGeom prst="straightConnector1">
                <a:avLst/>
              </a:prstGeom>
              <a:ln w="9360">
                <a:solidFill>
                  <a:srgbClr val="000000"/>
                </a:solidFill>
                <a:miter/>
                <a:tailEnd len="med" type="triangle" w="med"/>
              </a:ln>
            </p:spPr>
          </p:cxnSp>
          <p:cxnSp>
            <p:nvCxnSpPr>
              <p:cNvPr id="823" name=""/>
              <p:cNvCxnSpPr>
                <a:stCxn id="806" idx="2"/>
                <a:endCxn id="809" idx="6"/>
              </p:cNvCxnSpPr>
              <p:nvPr/>
            </p:nvCxnSpPr>
            <p:spPr>
              <a:xfrm flipH="1" flipV="1">
                <a:off x="3745440" y="1450080"/>
                <a:ext cx="1013760" cy="410400"/>
              </a:xfrm>
              <a:prstGeom prst="straightConnector1">
                <a:avLst/>
              </a:prstGeom>
              <a:ln w="9360">
                <a:solidFill>
                  <a:srgbClr val="000000"/>
                </a:solidFill>
                <a:miter/>
                <a:tailEnd len="med" type="triangle" w="med"/>
              </a:ln>
            </p:spPr>
          </p:cxnSp>
          <p:cxnSp>
            <p:nvCxnSpPr>
              <p:cNvPr id="824" name=""/>
              <p:cNvCxnSpPr>
                <a:stCxn id="802" idx="7"/>
                <a:endCxn id="806" idx="3"/>
              </p:cNvCxnSpPr>
              <p:nvPr/>
            </p:nvCxnSpPr>
            <p:spPr>
              <a:xfrm flipV="1">
                <a:off x="3837240" y="2041200"/>
                <a:ext cx="1008720" cy="457560"/>
              </a:xfrm>
              <a:prstGeom prst="straightConnector1">
                <a:avLst/>
              </a:prstGeom>
              <a:ln w="9360">
                <a:solidFill>
                  <a:srgbClr val="000000"/>
                </a:solidFill>
                <a:miter/>
                <a:tailEnd len="med" type="triangle" w="med"/>
              </a:ln>
            </p:spPr>
          </p:cxnSp>
          <p:cxnSp>
            <p:nvCxnSpPr>
              <p:cNvPr id="825" name=""/>
              <p:cNvCxnSpPr>
                <a:stCxn id="802" idx="6"/>
                <a:endCxn id="807" idx="2"/>
              </p:cNvCxnSpPr>
              <p:nvPr/>
            </p:nvCxnSpPr>
            <p:spPr>
              <a:xfrm flipV="1">
                <a:off x="3924360" y="2474280"/>
                <a:ext cx="1669320" cy="205560"/>
              </a:xfrm>
              <a:prstGeom prst="straightConnector1">
                <a:avLst/>
              </a:prstGeom>
              <a:ln w="9360">
                <a:solidFill>
                  <a:srgbClr val="000000"/>
                </a:solidFill>
                <a:miter/>
                <a:tailEnd len="med" type="triangle" w="med"/>
              </a:ln>
            </p:spPr>
          </p:cxnSp>
          <p:cxnSp>
            <p:nvCxnSpPr>
              <p:cNvPr id="826" name=""/>
              <p:cNvCxnSpPr>
                <a:stCxn id="810" idx="1"/>
                <a:endCxn id="806" idx="6"/>
              </p:cNvCxnSpPr>
              <p:nvPr/>
            </p:nvCxnSpPr>
            <p:spPr>
              <a:xfrm flipV="1" rot="16200000">
                <a:off x="5772600" y="1441440"/>
                <a:ext cx="741600" cy="1577520"/>
              </a:xfrm>
              <a:prstGeom prst="curvedConnector2">
                <a:avLst/>
              </a:prstGeom>
              <a:ln w="9360">
                <a:solidFill>
                  <a:srgbClr val="000000"/>
                </a:solidFill>
                <a:miter/>
                <a:tailEnd len="med" type="triangle" w="med"/>
              </a:ln>
            </p:spPr>
          </p:cxnSp>
          <p:cxnSp>
            <p:nvCxnSpPr>
              <p:cNvPr id="827" name=""/>
              <p:cNvCxnSpPr>
                <a:stCxn id="800" idx="6"/>
                <a:endCxn id="807" idx="3"/>
              </p:cNvCxnSpPr>
              <p:nvPr/>
            </p:nvCxnSpPr>
            <p:spPr>
              <a:xfrm flipV="1">
                <a:off x="2195640" y="2656440"/>
                <a:ext cx="3485160" cy="485280"/>
              </a:xfrm>
              <a:prstGeom prst="curvedConnector2">
                <a:avLst/>
              </a:prstGeom>
              <a:ln w="9360">
                <a:solidFill>
                  <a:srgbClr val="000000"/>
                </a:solidFill>
                <a:miter/>
                <a:tailEnd len="med" type="triangle" w="med"/>
              </a:ln>
            </p:spPr>
          </p:cxnSp>
        </p:grpSp>
        <p:sp>
          <p:nvSpPr>
            <p:cNvPr id="828" name=""/>
            <p:cNvSpPr/>
            <p:nvPr/>
          </p:nvSpPr>
          <p:spPr>
            <a:xfrm>
              <a:off x="2568600" y="13906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29" name=""/>
            <p:cNvSpPr/>
            <p:nvPr/>
          </p:nvSpPr>
          <p:spPr>
            <a:xfrm>
              <a:off x="4160160" y="27525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0" name=""/>
            <p:cNvSpPr/>
            <p:nvPr/>
          </p:nvSpPr>
          <p:spPr>
            <a:xfrm>
              <a:off x="6305040" y="28148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1" name=""/>
            <p:cNvSpPr/>
            <p:nvPr/>
          </p:nvSpPr>
          <p:spPr>
            <a:xfrm>
              <a:off x="4023000" y="2071800"/>
              <a:ext cx="27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832" name=""/>
            <p:cNvSpPr/>
            <p:nvPr/>
          </p:nvSpPr>
          <p:spPr>
            <a:xfrm>
              <a:off x="2983680" y="207180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3" name=""/>
            <p:cNvSpPr/>
            <p:nvPr/>
          </p:nvSpPr>
          <p:spPr>
            <a:xfrm>
              <a:off x="5751720" y="2752560"/>
              <a:ext cx="27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4" name=""/>
            <p:cNvSpPr/>
            <p:nvPr/>
          </p:nvSpPr>
          <p:spPr>
            <a:xfrm>
              <a:off x="4229280" y="14522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5" name=""/>
            <p:cNvSpPr/>
            <p:nvPr/>
          </p:nvSpPr>
          <p:spPr>
            <a:xfrm>
              <a:off x="2430360" y="256680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6" name=""/>
            <p:cNvSpPr/>
            <p:nvPr/>
          </p:nvSpPr>
          <p:spPr>
            <a:xfrm>
              <a:off x="6997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37" name=""/>
            <p:cNvSpPr/>
            <p:nvPr/>
          </p:nvSpPr>
          <p:spPr>
            <a:xfrm>
              <a:off x="568224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8" name=""/>
            <p:cNvSpPr/>
            <p:nvPr/>
          </p:nvSpPr>
          <p:spPr>
            <a:xfrm>
              <a:off x="485208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39" name=""/>
            <p:cNvSpPr/>
            <p:nvPr/>
          </p:nvSpPr>
          <p:spPr>
            <a:xfrm>
              <a:off x="3883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40" name=""/>
            <p:cNvSpPr/>
            <p:nvPr/>
          </p:nvSpPr>
          <p:spPr>
            <a:xfrm>
              <a:off x="3675960" y="3619800"/>
              <a:ext cx="41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841" name=""/>
            <p:cNvSpPr/>
            <p:nvPr/>
          </p:nvSpPr>
          <p:spPr>
            <a:xfrm>
              <a:off x="2291760" y="32482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42" name=""/>
            <p:cNvSpPr/>
            <p:nvPr/>
          </p:nvSpPr>
          <p:spPr>
            <a:xfrm>
              <a:off x="6374520" y="18237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43" name=""/>
            <p:cNvSpPr/>
            <p:nvPr/>
          </p:nvSpPr>
          <p:spPr>
            <a:xfrm>
              <a:off x="7273800" y="1947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844" name=""/>
            <p:cNvCxnSpPr>
              <a:stCxn id="805" idx="6"/>
              <a:endCxn id="811" idx="2"/>
            </p:cNvCxnSpPr>
            <p:nvPr/>
          </p:nvCxnSpPr>
          <p:spPr>
            <a:xfrm flipV="1">
              <a:off x="4699080" y="3705840"/>
              <a:ext cx="1907640" cy="154080"/>
            </a:xfrm>
            <a:prstGeom prst="straightConnector1">
              <a:avLst/>
            </a:prstGeom>
            <a:ln w="9360">
              <a:solidFill>
                <a:srgbClr val="000000"/>
              </a:solidFill>
              <a:miter/>
              <a:tailEnd len="med" type="triangle" w="med"/>
            </a:ln>
          </p:spPr>
        </p:cxnSp>
        <p:sp>
          <p:nvSpPr>
            <p:cNvPr id="845" name=""/>
            <p:cNvSpPr/>
            <p:nvPr/>
          </p:nvSpPr>
          <p:spPr>
            <a:xfrm>
              <a:off x="4713840" y="231948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8D536228-AD28-439F-9E42-B21E01FE46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Least Cost Breadth First</a:t>
            </a:r>
            <a:endParaRPr b="0" lang="en-US" sz="4400" spc="-1" strike="noStrike">
              <a:solidFill>
                <a:srgbClr val="009900"/>
              </a:solidFill>
              <a:latin typeface="Arial"/>
            </a:endParaRPr>
          </a:p>
        </p:txBody>
      </p:sp>
      <p:sp>
        <p:nvSpPr>
          <p:cNvPr id="847"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8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ich can be reached in exactly </a:t>
            </a:r>
            <a:r>
              <a:rPr b="0" i="1" lang="en-US" sz="1600" spc="-1" strike="noStrike">
                <a:solidFill>
                  <a:srgbClr val="000000"/>
                </a:solidFill>
                <a:latin typeface="Arial"/>
              </a:rPr>
              <a:t>k</a:t>
            </a:r>
            <a:r>
              <a:rPr b="0" lang="en-US" sz="1600" spc="-1" strike="noStrike">
                <a:solidFill>
                  <a:srgbClr val="000000"/>
                </a:solidFill>
                <a:latin typeface="Arial"/>
              </a:rPr>
              <a:t> steps, and for which the least-cost </a:t>
            </a:r>
            <a:r>
              <a:rPr b="0" i="1" lang="en-US" sz="1600" spc="-1" strike="noStrike">
                <a:solidFill>
                  <a:srgbClr val="000000"/>
                </a:solidFill>
                <a:latin typeface="Arial"/>
              </a:rPr>
              <a:t>k</a:t>
            </a:r>
            <a:r>
              <a:rPr b="0" lang="en-US" sz="1600" spc="-1" strike="noStrike">
                <a:solidFill>
                  <a:srgbClr val="000000"/>
                </a:solidFill>
                <a:latin typeface="Arial"/>
              </a:rPr>
              <a:t>-step path is less cost than any path of length less than </a:t>
            </a:r>
            <a:r>
              <a:rPr b="0" i="1" lang="en-US" sz="1600" spc="-1" strike="noStrike">
                <a:solidFill>
                  <a:srgbClr val="000000"/>
                </a:solidFill>
                <a:latin typeface="Arial"/>
              </a:rPr>
              <a:t>k</a:t>
            </a:r>
            <a:r>
              <a:rPr b="0" lang="en-US" sz="1600" spc="-1" strike="noStrike">
                <a:solidFill>
                  <a:srgbClr val="000000"/>
                </a:solidFill>
                <a:latin typeface="Arial"/>
              </a:rPr>
              <a:t>.  In other words, </a:t>
            </a: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ose values changed on the previous iteratio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 (the set of start stat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NI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 </a:t>
            </a:r>
            <a:r>
              <a:rPr b="0" lang="en-US" sz="1800" spc="-1" strike="noStrike">
                <a:solidFill>
                  <a:srgbClr val="000000"/>
                </a:solidFill>
                <a:latin typeface="Arial"/>
              </a:rPr>
              <a:t>:=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is not empty) </a:t>
            </a:r>
            <a:r>
              <a:rPr b="1" lang="en-US" sz="1800" spc="-1" strike="noStrike">
                <a:solidFill>
                  <a:srgbClr val="000000"/>
                </a:solidFill>
                <a:latin typeface="Arial"/>
              </a:rPr>
              <a:t>d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1</a:t>
            </a:r>
            <a:r>
              <a:rPr b="0" i="1" lang="en-US" sz="1800" spc="-1" strike="noStrike">
                <a:solidFill>
                  <a:srgbClr val="000000"/>
                </a:solidFill>
                <a:latin typeface="Arial"/>
              </a:rPr>
              <a:t> </a:t>
            </a:r>
            <a:r>
              <a:rPr b="0" lang="en-US" sz="1800" spc="-1" strike="noStrike">
                <a:solidFill>
                  <a:srgbClr val="000000"/>
                </a:solidFill>
                <a:latin typeface="Arial"/>
              </a:rPr>
              <a:t>:= empty s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1" lang="en-US" sz="1800" spc="-1" strike="noStrike">
                <a:solidFill>
                  <a:srgbClr val="000000"/>
                </a:solidFill>
                <a:latin typeface="Arial"/>
              </a:rPr>
              <a:t>succ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s’</a:t>
            </a:r>
            <a:r>
              <a:rPr b="0" lang="en-US" sz="1800" spc="-1" strike="noStrike">
                <a:solidFill>
                  <a:srgbClr val="000000"/>
                </a:solidFill>
                <a:latin typeface="Arial"/>
              </a:rPr>
              <a:t> has not already been labele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if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l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d </a:t>
            </a:r>
            <a:r>
              <a:rPr b="0" i="1" lang="en-US" sz="1800" spc="-1" strike="noStrike">
                <a:solidFill>
                  <a:srgbClr val="000000"/>
                </a:solidFill>
                <a:latin typeface="Arial"/>
              </a:rPr>
              <a:t>s’</a:t>
            </a:r>
            <a:r>
              <a:rPr b="0" lang="en-US" sz="1800" spc="-1" strike="noStrike">
                <a:solidFill>
                  <a:srgbClr val="000000"/>
                </a:solidFill>
                <a:latin typeface="Arial"/>
              </a:rPr>
              <a:t> into </a:t>
            </a:r>
            <a:r>
              <a:rPr b="0" i="1" lang="en-US" sz="1800" spc="-1" strike="noStrike">
                <a:solidFill>
                  <a:srgbClr val="000000"/>
                </a:solidFill>
                <a:latin typeface="Arial"/>
              </a:rPr>
              <a:t>V</a:t>
            </a:r>
            <a:r>
              <a:rPr b="0" i="1" lang="en-US" sz="1800" spc="-1" strike="noStrike" baseline="-25000">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0" lang="en-US" sz="1800" spc="-1" strike="noStrike">
                <a:solidFill>
                  <a:srgbClr val="000000"/>
                </a:solidFill>
                <a:latin typeface="Arial"/>
              </a:rPr>
              <a:t> GOAL not labeled, exit signaling FAILU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a:t>
            </a:r>
            <a:r>
              <a:rPr b="0" lang="en-US" sz="1800" spc="-1" strike="noStrike">
                <a:solidFill>
                  <a:srgbClr val="000000"/>
                </a:solidFill>
                <a:latin typeface="Arial"/>
              </a:rPr>
              <a:t> build the solution path thus:  Let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be the </a:t>
            </a:r>
            <a:r>
              <a:rPr b="0" i="1" lang="en-US" sz="1800" spc="-1" strike="noStrike">
                <a:solidFill>
                  <a:srgbClr val="000000"/>
                </a:solidFill>
                <a:latin typeface="Arial"/>
              </a:rPr>
              <a:t>k</a:t>
            </a:r>
            <a:r>
              <a:rPr b="0" lang="en-US" sz="1800" spc="-1" strike="noStrike">
                <a:solidFill>
                  <a:srgbClr val="000000"/>
                </a:solidFill>
                <a:latin typeface="Arial"/>
              </a:rPr>
              <a:t>th state in the shortest path.  Define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 GOAL, and forall </a:t>
            </a:r>
            <a:r>
              <a:rPr b="0" i="1" lang="en-US" sz="1800" spc="-1" strike="noStrike">
                <a:solidFill>
                  <a:srgbClr val="000000"/>
                </a:solidFill>
                <a:latin typeface="Arial"/>
              </a:rPr>
              <a:t>i </a:t>
            </a:r>
            <a:r>
              <a:rPr b="0" lang="en-US" sz="1800" spc="-1" strike="noStrike">
                <a:solidFill>
                  <a:srgbClr val="000000"/>
                </a:solidFill>
                <a:latin typeface="Arial"/>
              </a:rPr>
              <a:t>&lt;= </a:t>
            </a:r>
            <a:r>
              <a:rPr b="0" i="1" lang="en-US" sz="1800" spc="-1" strike="noStrike">
                <a:solidFill>
                  <a:srgbClr val="000000"/>
                </a:solidFill>
                <a:latin typeface="Arial"/>
              </a:rPr>
              <a:t>k,</a:t>
            </a:r>
            <a:r>
              <a:rPr b="0" lang="en-US" sz="1800" spc="-1" strike="noStrike">
                <a:solidFill>
                  <a:srgbClr val="000000"/>
                </a:solidFill>
                <a:latin typeface="Arial"/>
              </a:rPr>
              <a:t> define </a:t>
            </a:r>
            <a:r>
              <a:rPr b="0" i="1" lang="en-US" sz="1800" spc="-1" strike="noStrike">
                <a:solidFill>
                  <a:srgbClr val="000000"/>
                </a:solidFill>
                <a:latin typeface="Arial"/>
              </a:rPr>
              <a:t>S</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5E0FB-6542-45DE-B462-AE78CA7621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priority queu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B25D1-7D4E-40C4-AE01-5933856B02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155520" y="46080"/>
            <a:ext cx="1368360" cy="1128600"/>
          </a:xfrm>
          <a:prstGeom prst="rect">
            <a:avLst/>
          </a:prstGeom>
          <a:ln w="0">
            <a:noFill/>
          </a:ln>
        </p:spPr>
      </p:pic>
      <p:sp>
        <p:nvSpPr>
          <p:cNvPr id="851"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2"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thing, value) pairs with the following operations:</a:t>
            </a:r>
            <a:endParaRPr b="0" lang="en-US" sz="2800" spc="-1" strike="noStrike">
              <a:solidFill>
                <a:srgbClr val="000000"/>
              </a:solidFill>
              <a:latin typeface="Arial"/>
            </a:endParaRPr>
          </a:p>
        </p:txBody>
      </p:sp>
      <p:graphicFrame>
        <p:nvGraphicFramePr>
          <p:cNvPr id="853"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6686E75-E616-4E23-806C-BCF3928121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55520" y="46080"/>
            <a:ext cx="1368360" cy="1128600"/>
          </a:xfrm>
          <a:prstGeom prst="rect">
            <a:avLst/>
          </a:prstGeom>
          <a:ln w="0">
            <a:noFill/>
          </a:ln>
        </p:spPr>
      </p:pic>
      <p:sp>
        <p:nvSpPr>
          <p:cNvPr id="855"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6"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a:t>
            </a:r>
            <a:r>
              <a:rPr b="0" i="1" lang="en-US" sz="2800" spc="-1" strike="noStrike">
                <a:solidFill>
                  <a:srgbClr val="000000"/>
                </a:solidFill>
                <a:latin typeface="Arial"/>
              </a:rPr>
              <a:t>(thing, value)</a:t>
            </a:r>
            <a:r>
              <a:rPr b="0" lang="en-US" sz="2800" spc="-1" strike="noStrike">
                <a:solidFill>
                  <a:srgbClr val="000000"/>
                </a:solidFill>
                <a:latin typeface="Arial"/>
              </a:rPr>
              <a:t> pairs with the following operations:</a:t>
            </a:r>
            <a:endParaRPr b="0" lang="en-US" sz="2800" spc="-1" strike="noStrike">
              <a:solidFill>
                <a:srgbClr val="000000"/>
              </a:solidFill>
              <a:latin typeface="Arial"/>
            </a:endParaRPr>
          </a:p>
        </p:txBody>
      </p:sp>
      <p:sp>
        <p:nvSpPr>
          <p:cNvPr id="857" name=""/>
          <p:cNvSpPr/>
          <p:nvPr/>
        </p:nvSpPr>
        <p:spPr>
          <a:xfrm>
            <a:off x="228600" y="4267080"/>
            <a:ext cx="54100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Queues can be implemented in such a way that the cost of the insert and pop operations are</a:t>
            </a:r>
            <a:endParaRPr b="0" lang="en-US" sz="2800" spc="-1" strike="noStrike">
              <a:solidFill>
                <a:srgbClr val="000000"/>
              </a:solidFill>
              <a:latin typeface="Arial"/>
            </a:endParaRPr>
          </a:p>
        </p:txBody>
      </p:sp>
      <p:sp>
        <p:nvSpPr>
          <p:cNvPr id="858" name=""/>
          <p:cNvSpPr/>
          <p:nvPr/>
        </p:nvSpPr>
        <p:spPr>
          <a:xfrm rot="549600">
            <a:off x="6171840" y="1066320"/>
            <a:ext cx="2743200" cy="1295640"/>
          </a:xfrm>
          <a:prstGeom prst="rect">
            <a:avLst/>
          </a:prstGeom>
          <a:solidFill>
            <a:srgbClr val="dcf6dc"/>
          </a:solidFill>
          <a:ln w="9360">
            <a:solidFill>
              <a:srgbClr val="0033cc"/>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or more details, see Knuth or Sedgwick or basically any book with the word “algorithms” prominently appearing in the title.</a:t>
            </a:r>
            <a:endParaRPr b="0" lang="en-US" sz="1600" spc="-1" strike="noStrike">
              <a:solidFill>
                <a:srgbClr val="000000"/>
              </a:solidFill>
              <a:latin typeface="Arial"/>
            </a:endParaRPr>
          </a:p>
        </p:txBody>
      </p:sp>
      <p:graphicFrame>
        <p:nvGraphicFramePr>
          <p:cNvPr id="859"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0" name=""/>
          <p:cNvSpPr/>
          <p:nvPr/>
        </p:nvSpPr>
        <p:spPr>
          <a:xfrm>
            <a:off x="6477120" y="4267080"/>
            <a:ext cx="2514600" cy="1143000"/>
          </a:xfrm>
          <a:prstGeom prst="wedgeRectCallout">
            <a:avLst>
              <a:gd name="adj1" fmla="val -53282"/>
              <a:gd name="adj2" fmla="val 99027"/>
            </a:avLst>
          </a:prstGeom>
          <a:solidFill>
            <a:srgbClr val="ffffdf"/>
          </a:solidFill>
          <a:ln w="12600">
            <a:solidFill>
              <a:srgbClr val="ff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cheap (though not absolutely, incredibly cheap!)</a:t>
            </a:r>
            <a:endParaRPr b="0" lang="en-US" sz="2000" spc="-1" strike="noStrike">
              <a:solidFill>
                <a:srgbClr val="000000"/>
              </a:solidFill>
              <a:latin typeface="Arial"/>
            </a:endParaRPr>
          </a:p>
        </p:txBody>
      </p:sp>
      <p:sp>
        <p:nvSpPr>
          <p:cNvPr id="861" name=""/>
          <p:cNvSpPr/>
          <p:nvPr/>
        </p:nvSpPr>
        <p:spPr>
          <a:xfrm>
            <a:off x="533520" y="5943600"/>
            <a:ext cx="70866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log</a:t>
            </a:r>
            <a:r>
              <a:rPr b="0" lang="en-US" sz="2800" spc="-1" strike="noStrike">
                <a:solidFill>
                  <a:srgbClr val="ff0000"/>
                </a:solidFill>
                <a:latin typeface="Arial"/>
              </a:rPr>
              <a:t>(</a:t>
            </a:r>
            <a:r>
              <a:rPr b="0" i="1" lang="en-US" sz="2800" spc="-1" strike="noStrike">
                <a:solidFill>
                  <a:srgbClr val="ff0000"/>
                </a:solidFill>
                <a:latin typeface="Arial"/>
              </a:rPr>
              <a:t>number of things in priority queue</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C96318-DD03-48D4-B913-3BA058B63E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63"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a priority queu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 = Set of states that have been expanded or are awaiting expansion</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ority of state </a:t>
            </a:r>
            <a:r>
              <a:rPr b="0" i="1" lang="en-US" sz="3600" spc="-1" strike="noStrike">
                <a:solidFill>
                  <a:srgbClr val="000000"/>
                </a:solidFill>
                <a:latin typeface="Arial"/>
              </a:rPr>
              <a:t>s</a:t>
            </a:r>
            <a:r>
              <a:rPr b="0" lang="en-US" sz="3600" spc="-1" strike="noStrike">
                <a:solidFill>
                  <a:srgbClr val="000000"/>
                </a:solidFill>
                <a:latin typeface="Arial"/>
              </a:rPr>
              <a:t> = </a:t>
            </a:r>
            <a:r>
              <a:rPr b="0" i="1" lang="en-US" sz="3600" spc="-1" strike="noStrike">
                <a:solidFill>
                  <a:srgbClr val="000000"/>
                </a:solidFill>
                <a:latin typeface="Arial"/>
              </a:rPr>
              <a:t>g(s)</a:t>
            </a:r>
            <a:r>
              <a:rPr b="0" lang="en-US" sz="3600" spc="-1" strike="noStrike">
                <a:solidFill>
                  <a:srgbClr val="000000"/>
                </a:solidFill>
                <a:latin typeface="Arial"/>
              </a:rPr>
              <a:t> = cost of getting to </a:t>
            </a:r>
            <a:r>
              <a:rPr b="0" i="1" lang="en-US" sz="3600" spc="-1" strike="noStrike">
                <a:solidFill>
                  <a:srgbClr val="000000"/>
                </a:solidFill>
                <a:latin typeface="Arial"/>
              </a:rPr>
              <a:t>s</a:t>
            </a:r>
            <a:r>
              <a:rPr b="0" lang="en-US" sz="3600" spc="-1" strike="noStrike">
                <a:solidFill>
                  <a:srgbClr val="000000"/>
                </a:solidFill>
                <a:latin typeface="Arial"/>
              </a:rPr>
              <a:t> using path implied by backpointers.</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5E0816D-4228-41CE-9E64-98F47E546C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151920" y="75960"/>
            <a:ext cx="350532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UCS</a:t>
            </a:r>
            <a:endParaRPr b="0" lang="en-US" sz="4400" spc="-1" strike="noStrike">
              <a:solidFill>
                <a:srgbClr val="009900"/>
              </a:solidFill>
              <a:latin typeface="Arial"/>
            </a:endParaRPr>
          </a:p>
        </p:txBody>
      </p:sp>
      <p:sp>
        <p:nvSpPr>
          <p:cNvPr id="86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867" name=""/>
          <p:cNvGrpSpPr/>
          <p:nvPr/>
        </p:nvGrpSpPr>
        <p:grpSpPr>
          <a:xfrm>
            <a:off x="762120" y="1066680"/>
            <a:ext cx="7238160" cy="4342680"/>
            <a:chOff x="762120" y="1066680"/>
            <a:chExt cx="7238160" cy="4342680"/>
          </a:xfrm>
        </p:grpSpPr>
        <p:grpSp>
          <p:nvGrpSpPr>
            <p:cNvPr id="868" name=""/>
            <p:cNvGrpSpPr/>
            <p:nvPr/>
          </p:nvGrpSpPr>
          <p:grpSpPr>
            <a:xfrm>
              <a:off x="762120" y="1066680"/>
              <a:ext cx="7238160" cy="4342680"/>
              <a:chOff x="762120" y="1066680"/>
              <a:chExt cx="7238160" cy="4342680"/>
            </a:xfrm>
          </p:grpSpPr>
          <p:sp>
            <p:nvSpPr>
              <p:cNvPr id="86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7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7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7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7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7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7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7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7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7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8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81" name=""/>
              <p:cNvCxnSpPr>
                <a:stCxn id="869" idx="5"/>
                <a:endCxn id="87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882" name=""/>
              <p:cNvCxnSpPr>
                <a:stCxn id="873" idx="5"/>
                <a:endCxn id="87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883" name=""/>
              <p:cNvCxnSpPr>
                <a:stCxn id="877" idx="3"/>
                <a:endCxn id="87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884" name=""/>
              <p:cNvCxnSpPr>
                <a:stCxn id="877" idx="2"/>
                <a:endCxn id="87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885" name=""/>
              <p:cNvCxnSpPr>
                <a:stCxn id="876" idx="4"/>
                <a:endCxn id="87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886" name=""/>
              <p:cNvCxnSpPr>
                <a:stCxn id="876" idx="5"/>
                <a:endCxn id="88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887" name=""/>
              <p:cNvCxnSpPr>
                <a:stCxn id="880" idx="0"/>
                <a:endCxn id="87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888" name=""/>
              <p:cNvCxnSpPr>
                <a:stCxn id="879" idx="0"/>
                <a:endCxn id="87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889" name=""/>
              <p:cNvCxnSpPr>
                <a:stCxn id="86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890" name=""/>
              <p:cNvCxnSpPr>
                <a:stCxn id="871" idx="1"/>
                <a:endCxn id="87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891" name=""/>
              <p:cNvCxnSpPr>
                <a:endCxn id="87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892" name=""/>
              <p:cNvCxnSpPr>
                <a:stCxn id="875" idx="2"/>
                <a:endCxn id="87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893" name=""/>
              <p:cNvCxnSpPr>
                <a:stCxn id="871" idx="7"/>
                <a:endCxn id="87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894" name=""/>
              <p:cNvCxnSpPr>
                <a:stCxn id="871" idx="6"/>
                <a:endCxn id="87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895" name=""/>
              <p:cNvCxnSpPr>
                <a:stCxn id="879" idx="1"/>
                <a:endCxn id="87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896" name=""/>
              <p:cNvCxnSpPr>
                <a:stCxn id="869" idx="6"/>
                <a:endCxn id="87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89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9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0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0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0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0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1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1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13" name=""/>
            <p:cNvCxnSpPr>
              <a:stCxn id="874" idx="6"/>
              <a:endCxn id="88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1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44BB291-D982-405B-8CDF-847BAC591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917" name=""/>
          <p:cNvGrpSpPr/>
          <p:nvPr/>
        </p:nvGrpSpPr>
        <p:grpSpPr>
          <a:xfrm>
            <a:off x="762120" y="1066680"/>
            <a:ext cx="7238160" cy="4342680"/>
            <a:chOff x="762120" y="1066680"/>
            <a:chExt cx="7238160" cy="4342680"/>
          </a:xfrm>
        </p:grpSpPr>
        <p:grpSp>
          <p:nvGrpSpPr>
            <p:cNvPr id="918" name=""/>
            <p:cNvGrpSpPr/>
            <p:nvPr/>
          </p:nvGrpSpPr>
          <p:grpSpPr>
            <a:xfrm>
              <a:off x="762120" y="1066680"/>
              <a:ext cx="7238160" cy="4342680"/>
              <a:chOff x="762120" y="1066680"/>
              <a:chExt cx="7238160" cy="4342680"/>
            </a:xfrm>
          </p:grpSpPr>
          <p:sp>
            <p:nvSpPr>
              <p:cNvPr id="91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2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2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2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2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2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2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2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2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2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2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3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1" name=""/>
              <p:cNvCxnSpPr>
                <a:stCxn id="919" idx="5"/>
                <a:endCxn id="92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932" name=""/>
              <p:cNvCxnSpPr>
                <a:stCxn id="923" idx="5"/>
                <a:endCxn id="92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933" name=""/>
              <p:cNvCxnSpPr>
                <a:stCxn id="927" idx="3"/>
                <a:endCxn id="92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934" name=""/>
              <p:cNvCxnSpPr>
                <a:stCxn id="927" idx="2"/>
                <a:endCxn id="92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935" name=""/>
              <p:cNvCxnSpPr>
                <a:stCxn id="926" idx="4"/>
                <a:endCxn id="92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936" name=""/>
              <p:cNvCxnSpPr>
                <a:stCxn id="926" idx="5"/>
                <a:endCxn id="93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937" name=""/>
              <p:cNvCxnSpPr>
                <a:stCxn id="930" idx="0"/>
                <a:endCxn id="92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938" name=""/>
              <p:cNvCxnSpPr>
                <a:stCxn id="929" idx="0"/>
                <a:endCxn id="92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939" name=""/>
              <p:cNvCxnSpPr>
                <a:stCxn id="91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940" name=""/>
              <p:cNvCxnSpPr>
                <a:stCxn id="921" idx="1"/>
                <a:endCxn id="92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941" name=""/>
              <p:cNvCxnSpPr>
                <a:endCxn id="92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942" name=""/>
              <p:cNvCxnSpPr>
                <a:stCxn id="925" idx="2"/>
                <a:endCxn id="92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943" name=""/>
              <p:cNvCxnSpPr>
                <a:stCxn id="921" idx="7"/>
                <a:endCxn id="92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944" name=""/>
              <p:cNvCxnSpPr>
                <a:stCxn id="921" idx="6"/>
                <a:endCxn id="92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945" name=""/>
              <p:cNvCxnSpPr>
                <a:stCxn id="929" idx="1"/>
                <a:endCxn id="92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946" name=""/>
              <p:cNvCxnSpPr>
                <a:stCxn id="919" idx="6"/>
                <a:endCxn id="92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94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4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4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5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5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5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5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6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6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6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63" name=""/>
            <p:cNvCxnSpPr>
              <a:stCxn id="924" idx="6"/>
              <a:endCxn id="93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6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96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96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DA6397FA-0F79-46B9-BB1D-0FB3E14217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673280" y="2475000"/>
            <a:ext cx="4983120" cy="2971800"/>
          </a:xfrm>
          <a:custGeom>
            <a:avLst/>
            <a:gdLst/>
            <a:ahLst/>
            <a:rect l="l" t="t" r="r" b="b"/>
            <a:pathLst>
              <a:path w="3139" h="1872">
                <a:moveTo>
                  <a:pt x="928" y="110"/>
                </a:moveTo>
                <a:cubicBezTo>
                  <a:pt x="903" y="147"/>
                  <a:pt x="892" y="135"/>
                  <a:pt x="860" y="161"/>
                </a:cubicBezTo>
                <a:cubicBezTo>
                  <a:pt x="788" y="220"/>
                  <a:pt x="879" y="156"/>
                  <a:pt x="810" y="203"/>
                </a:cubicBezTo>
                <a:cubicBezTo>
                  <a:pt x="763" y="273"/>
                  <a:pt x="827" y="185"/>
                  <a:pt x="767" y="245"/>
                </a:cubicBezTo>
                <a:cubicBezTo>
                  <a:pt x="707" y="305"/>
                  <a:pt x="795" y="241"/>
                  <a:pt x="725" y="288"/>
                </a:cubicBezTo>
                <a:cubicBezTo>
                  <a:pt x="691" y="337"/>
                  <a:pt x="641" y="366"/>
                  <a:pt x="606" y="415"/>
                </a:cubicBezTo>
                <a:cubicBezTo>
                  <a:pt x="585" y="444"/>
                  <a:pt x="517" y="531"/>
                  <a:pt x="505" y="567"/>
                </a:cubicBezTo>
                <a:cubicBezTo>
                  <a:pt x="502" y="576"/>
                  <a:pt x="501" y="585"/>
                  <a:pt x="496" y="593"/>
                </a:cubicBezTo>
                <a:cubicBezTo>
                  <a:pt x="458" y="649"/>
                  <a:pt x="482" y="588"/>
                  <a:pt x="454" y="643"/>
                </a:cubicBezTo>
                <a:cubicBezTo>
                  <a:pt x="435" y="680"/>
                  <a:pt x="418" y="718"/>
                  <a:pt x="394" y="753"/>
                </a:cubicBezTo>
                <a:cubicBezTo>
                  <a:pt x="391" y="764"/>
                  <a:pt x="391" y="777"/>
                  <a:pt x="386" y="787"/>
                </a:cubicBezTo>
                <a:cubicBezTo>
                  <a:pt x="377" y="805"/>
                  <a:pt x="352" y="838"/>
                  <a:pt x="352" y="838"/>
                </a:cubicBezTo>
                <a:cubicBezTo>
                  <a:pt x="341" y="873"/>
                  <a:pt x="333" y="892"/>
                  <a:pt x="310" y="923"/>
                </a:cubicBezTo>
                <a:cubicBezTo>
                  <a:pt x="301" y="948"/>
                  <a:pt x="299" y="958"/>
                  <a:pt x="284" y="982"/>
                </a:cubicBezTo>
                <a:cubicBezTo>
                  <a:pt x="273" y="1000"/>
                  <a:pt x="250" y="1033"/>
                  <a:pt x="250" y="1033"/>
                </a:cubicBezTo>
                <a:cubicBezTo>
                  <a:pt x="233" y="1085"/>
                  <a:pt x="201" y="1130"/>
                  <a:pt x="174" y="1177"/>
                </a:cubicBezTo>
                <a:cubicBezTo>
                  <a:pt x="168" y="1188"/>
                  <a:pt x="164" y="1200"/>
                  <a:pt x="157" y="1211"/>
                </a:cubicBezTo>
                <a:cubicBezTo>
                  <a:pt x="146" y="1229"/>
                  <a:pt x="123" y="1262"/>
                  <a:pt x="123" y="1262"/>
                </a:cubicBezTo>
                <a:cubicBezTo>
                  <a:pt x="111" y="1300"/>
                  <a:pt x="91" y="1336"/>
                  <a:pt x="73" y="1372"/>
                </a:cubicBezTo>
                <a:cubicBezTo>
                  <a:pt x="54" y="1409"/>
                  <a:pt x="54" y="1447"/>
                  <a:pt x="30" y="1482"/>
                </a:cubicBezTo>
                <a:cubicBezTo>
                  <a:pt x="0" y="1575"/>
                  <a:pt x="2" y="1695"/>
                  <a:pt x="90" y="1753"/>
                </a:cubicBezTo>
                <a:cubicBezTo>
                  <a:pt x="95" y="1761"/>
                  <a:pt x="98" y="1773"/>
                  <a:pt x="106" y="1778"/>
                </a:cubicBezTo>
                <a:cubicBezTo>
                  <a:pt x="121" y="1788"/>
                  <a:pt x="157" y="1795"/>
                  <a:pt x="157" y="1795"/>
                </a:cubicBezTo>
                <a:cubicBezTo>
                  <a:pt x="225" y="1863"/>
                  <a:pt x="348" y="1858"/>
                  <a:pt x="437" y="1872"/>
                </a:cubicBezTo>
                <a:cubicBezTo>
                  <a:pt x="555" y="1866"/>
                  <a:pt x="604" y="1868"/>
                  <a:pt x="699" y="1838"/>
                </a:cubicBezTo>
                <a:cubicBezTo>
                  <a:pt x="761" y="1797"/>
                  <a:pt x="799" y="1745"/>
                  <a:pt x="852" y="1694"/>
                </a:cubicBezTo>
                <a:cubicBezTo>
                  <a:pt x="863" y="1659"/>
                  <a:pt x="882" y="1623"/>
                  <a:pt x="903" y="1592"/>
                </a:cubicBezTo>
                <a:cubicBezTo>
                  <a:pt x="913" y="1559"/>
                  <a:pt x="922" y="1530"/>
                  <a:pt x="937" y="1499"/>
                </a:cubicBezTo>
                <a:cubicBezTo>
                  <a:pt x="954" y="1425"/>
                  <a:pt x="932" y="1500"/>
                  <a:pt x="962" y="1440"/>
                </a:cubicBezTo>
                <a:cubicBezTo>
                  <a:pt x="978" y="1408"/>
                  <a:pt x="982" y="1370"/>
                  <a:pt x="996" y="1338"/>
                </a:cubicBezTo>
                <a:cubicBezTo>
                  <a:pt x="1018" y="1289"/>
                  <a:pt x="1051" y="1246"/>
                  <a:pt x="1081" y="1202"/>
                </a:cubicBezTo>
                <a:cubicBezTo>
                  <a:pt x="1111" y="1157"/>
                  <a:pt x="1137" y="1111"/>
                  <a:pt x="1191" y="1092"/>
                </a:cubicBezTo>
                <a:cubicBezTo>
                  <a:pt x="1258" y="1025"/>
                  <a:pt x="1371" y="972"/>
                  <a:pt x="1462" y="948"/>
                </a:cubicBezTo>
                <a:cubicBezTo>
                  <a:pt x="1489" y="930"/>
                  <a:pt x="1515" y="916"/>
                  <a:pt x="1546" y="906"/>
                </a:cubicBezTo>
                <a:cubicBezTo>
                  <a:pt x="1578" y="885"/>
                  <a:pt x="1606" y="886"/>
                  <a:pt x="1640" y="872"/>
                </a:cubicBezTo>
                <a:cubicBezTo>
                  <a:pt x="1660" y="863"/>
                  <a:pt x="1732" y="834"/>
                  <a:pt x="1758" y="821"/>
                </a:cubicBezTo>
                <a:cubicBezTo>
                  <a:pt x="1836" y="781"/>
                  <a:pt x="1919" y="734"/>
                  <a:pt x="2004" y="711"/>
                </a:cubicBezTo>
                <a:cubicBezTo>
                  <a:pt x="2063" y="671"/>
                  <a:pt x="2138" y="659"/>
                  <a:pt x="2207" y="652"/>
                </a:cubicBezTo>
                <a:cubicBezTo>
                  <a:pt x="2378" y="660"/>
                  <a:pt x="2545" y="679"/>
                  <a:pt x="2715" y="694"/>
                </a:cubicBezTo>
                <a:cubicBezTo>
                  <a:pt x="2808" y="672"/>
                  <a:pt x="2865" y="637"/>
                  <a:pt x="2944" y="584"/>
                </a:cubicBezTo>
                <a:cubicBezTo>
                  <a:pt x="2956" y="576"/>
                  <a:pt x="2959" y="560"/>
                  <a:pt x="2970" y="550"/>
                </a:cubicBezTo>
                <a:cubicBezTo>
                  <a:pt x="2988" y="534"/>
                  <a:pt x="3029" y="508"/>
                  <a:pt x="3029" y="508"/>
                </a:cubicBezTo>
                <a:cubicBezTo>
                  <a:pt x="3035" y="497"/>
                  <a:pt x="3039" y="484"/>
                  <a:pt x="3046" y="474"/>
                </a:cubicBezTo>
                <a:cubicBezTo>
                  <a:pt x="3053" y="464"/>
                  <a:pt x="3064" y="459"/>
                  <a:pt x="3071" y="449"/>
                </a:cubicBezTo>
                <a:cubicBezTo>
                  <a:pt x="3120" y="376"/>
                  <a:pt x="3028" y="475"/>
                  <a:pt x="3105" y="398"/>
                </a:cubicBezTo>
                <a:cubicBezTo>
                  <a:pt x="3119" y="359"/>
                  <a:pt x="3125" y="318"/>
                  <a:pt x="3139" y="279"/>
                </a:cubicBezTo>
                <a:cubicBezTo>
                  <a:pt x="3139" y="274"/>
                  <a:pt x="3139" y="171"/>
                  <a:pt x="3122" y="135"/>
                </a:cubicBezTo>
                <a:cubicBezTo>
                  <a:pt x="3081" y="50"/>
                  <a:pt x="2979" y="13"/>
                  <a:pt x="2893" y="0"/>
                </a:cubicBezTo>
                <a:cubicBezTo>
                  <a:pt x="2813" y="8"/>
                  <a:pt x="2736" y="22"/>
                  <a:pt x="2656" y="33"/>
                </a:cubicBezTo>
                <a:cubicBezTo>
                  <a:pt x="2525" y="80"/>
                  <a:pt x="2379" y="109"/>
                  <a:pt x="2241" y="127"/>
                </a:cubicBezTo>
                <a:cubicBezTo>
                  <a:pt x="2082" y="178"/>
                  <a:pt x="1895" y="164"/>
                  <a:pt x="1733" y="169"/>
                </a:cubicBezTo>
                <a:cubicBezTo>
                  <a:pt x="1359" y="164"/>
                  <a:pt x="1188" y="167"/>
                  <a:pt x="886" y="135"/>
                </a:cubicBezTo>
                <a:cubicBezTo>
                  <a:pt x="872" y="138"/>
                  <a:pt x="843" y="144"/>
                  <a:pt x="843" y="144"/>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8" name=""/>
          <p:cNvSpPr/>
          <p:nvPr/>
        </p:nvSpPr>
        <p:spPr>
          <a:xfrm>
            <a:off x="152280" y="580536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p,1), (d,3) , (e,9) }</a:t>
            </a:r>
            <a:endParaRPr b="0" lang="en-US" sz="2800" spc="-1" strike="noStrike">
              <a:solidFill>
                <a:srgbClr val="000000"/>
              </a:solidFill>
              <a:latin typeface="Arial"/>
            </a:endParaRPr>
          </a:p>
        </p:txBody>
      </p:sp>
      <p:sp>
        <p:nvSpPr>
          <p:cNvPr id="96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7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7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7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73" name=""/>
          <p:cNvSpPr/>
          <p:nvPr/>
        </p:nvSpPr>
        <p:spPr>
          <a:xfrm>
            <a:off x="2052720" y="443700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7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7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76"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7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7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7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8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81" name=""/>
          <p:cNvCxnSpPr>
            <a:stCxn id="969" idx="5"/>
            <a:endCxn id="973" idx="2"/>
          </p:cNvCxnSpPr>
          <p:nvPr/>
        </p:nvCxnSpPr>
        <p:spPr>
          <a:xfrm>
            <a:off x="1372680" y="4253040"/>
            <a:ext cx="661320" cy="559080"/>
          </a:xfrm>
          <a:prstGeom prst="straightConnector1">
            <a:avLst/>
          </a:prstGeom>
          <a:ln w="9360">
            <a:solidFill>
              <a:srgbClr val="000000"/>
            </a:solidFill>
            <a:miter/>
            <a:tailEnd len="med" type="triangle" w="med"/>
          </a:ln>
        </p:spPr>
      </p:cxnSp>
      <p:cxnSp>
        <p:nvCxnSpPr>
          <p:cNvPr id="982" name=""/>
          <p:cNvCxnSpPr>
            <a:stCxn id="973" idx="5"/>
            <a:endCxn id="974" idx="2"/>
          </p:cNvCxnSpPr>
          <p:nvPr/>
        </p:nvCxnSpPr>
        <p:spPr>
          <a:xfrm flipV="1">
            <a:off x="2664000" y="5034960"/>
            <a:ext cx="1108800" cy="59400"/>
          </a:xfrm>
          <a:prstGeom prst="straightConnector1">
            <a:avLst/>
          </a:prstGeom>
          <a:ln w="9360">
            <a:solidFill>
              <a:srgbClr val="000000"/>
            </a:solidFill>
            <a:miter/>
            <a:tailEnd len="med" type="triangle" w="med"/>
          </a:ln>
        </p:spPr>
      </p:cxnSp>
      <p:cxnSp>
        <p:nvCxnSpPr>
          <p:cNvPr id="983" name=""/>
          <p:cNvCxnSpPr>
            <a:stCxn id="977" idx="3"/>
            <a:endCxn id="97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984" name=""/>
          <p:cNvCxnSpPr>
            <a:stCxn id="977" idx="2"/>
            <a:endCxn id="973" idx="6"/>
          </p:cNvCxnSpPr>
          <p:nvPr/>
        </p:nvCxnSpPr>
        <p:spPr>
          <a:xfrm flipH="1">
            <a:off x="2786760" y="4062240"/>
            <a:ext cx="2204280" cy="750240"/>
          </a:xfrm>
          <a:prstGeom prst="straightConnector1">
            <a:avLst/>
          </a:prstGeom>
          <a:ln w="9360">
            <a:solidFill>
              <a:srgbClr val="000000"/>
            </a:solidFill>
            <a:miter/>
            <a:tailEnd len="med" type="triangle" w="med"/>
          </a:ln>
        </p:spPr>
      </p:cxnSp>
      <p:cxnSp>
        <p:nvCxnSpPr>
          <p:cNvPr id="985" name=""/>
          <p:cNvCxnSpPr>
            <a:stCxn id="976" idx="4"/>
            <a:endCxn id="977"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986" name=""/>
          <p:cNvCxnSpPr>
            <a:stCxn id="976" idx="5"/>
            <a:endCxn id="980"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987" name=""/>
          <p:cNvCxnSpPr>
            <a:stCxn id="980" idx="0"/>
            <a:endCxn id="97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988" name=""/>
          <p:cNvCxnSpPr>
            <a:stCxn id="979" idx="0"/>
            <a:endCxn id="97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989" name=""/>
          <p:cNvCxnSpPr>
            <a:stCxn id="96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990" name=""/>
          <p:cNvCxnSpPr>
            <a:stCxn id="971" idx="1"/>
            <a:endCxn id="97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991" name=""/>
          <p:cNvCxnSpPr>
            <a:endCxn id="97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992" name=""/>
          <p:cNvCxnSpPr>
            <a:stCxn id="975" idx="2"/>
            <a:endCxn id="97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993" name=""/>
          <p:cNvCxnSpPr>
            <a:stCxn id="971" idx="7"/>
            <a:endCxn id="97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994" name=""/>
          <p:cNvCxnSpPr>
            <a:stCxn id="971" idx="6"/>
            <a:endCxn id="976"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995" name=""/>
          <p:cNvCxnSpPr>
            <a:stCxn id="979" idx="1"/>
            <a:endCxn id="97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996" name=""/>
          <p:cNvCxnSpPr>
            <a:stCxn id="969" idx="6"/>
            <a:endCxn id="976"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99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9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9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0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0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0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0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1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1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13" name=""/>
          <p:cNvCxnSpPr>
            <a:stCxn id="974" idx="6"/>
            <a:endCxn id="98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1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101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1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8"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9"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5B12E3-9F0D-4A92-B639-4EF93C18C8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ormalizing a search problem</a:t>
            </a:r>
            <a:endParaRPr b="0" lang="en-US" sz="4400" spc="-1" strike="noStrike">
              <a:solidFill>
                <a:srgbClr val="009900"/>
              </a:solidFill>
              <a:latin typeface="Arial"/>
            </a:endParaRPr>
          </a:p>
        </p:txBody>
      </p:sp>
      <p:sp>
        <p:nvSpPr>
          <p:cNvPr id="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problem has five compon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 , </a:t>
            </a:r>
            <a:r>
              <a:rPr b="1" lang="en-US" sz="2400" spc="-1" strike="noStrike">
                <a:solidFill>
                  <a:srgbClr val="000000"/>
                </a:solidFill>
                <a:latin typeface="Arial"/>
              </a:rPr>
              <a:t>succs</a:t>
            </a:r>
            <a:r>
              <a:rPr b="0" lang="en-US" sz="2400" spc="-1" strike="noStrike">
                <a:solidFill>
                  <a:srgbClr val="000000"/>
                </a:solidFill>
                <a:latin typeface="Arial"/>
              </a:rPr>
              <a:t> , </a:t>
            </a: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is a finite set of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 </a:t>
            </a:r>
            <a:r>
              <a:rPr b="0" lang="en-US" sz="2400" spc="-1" strike="noStrike">
                <a:solidFill>
                  <a:srgbClr val="000000"/>
                </a:solidFill>
                <a:latin typeface="Symbol"/>
                <a:ea typeface="Symbol"/>
              </a:rPr>
              <a:t></a:t>
            </a:r>
            <a:r>
              <a:rPr b="0" i="1" lang="en-US" sz="2400" spc="-1" strike="noStrike">
                <a:solidFill>
                  <a:srgbClr val="000000"/>
                </a:solidFill>
                <a:latin typeface="Arial"/>
              </a:rPr>
              <a:t> Q</a:t>
            </a:r>
            <a:r>
              <a:rPr b="0" lang="en-US" sz="2400" spc="-1" strike="noStrike">
                <a:solidFill>
                  <a:srgbClr val="000000"/>
                </a:solidFill>
                <a:latin typeface="Arial"/>
              </a:rPr>
              <a:t> is a non-empty set of start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is a non-empty set of goal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s</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Q)</a:t>
            </a:r>
            <a:r>
              <a:rPr b="0" lang="en-US" sz="2400" spc="-1" strike="noStrike">
                <a:solidFill>
                  <a:srgbClr val="000000"/>
                </a:solidFill>
                <a:latin typeface="Arial"/>
              </a:rPr>
              <a:t> is a function which takes a state as input and returns a set of states as output. </a:t>
            </a:r>
            <a:r>
              <a:rPr b="1" lang="en-US" sz="2400" spc="-1" strike="noStrike">
                <a:solidFill>
                  <a:srgbClr val="000000"/>
                </a:solidFill>
                <a:latin typeface="Arial"/>
              </a:rPr>
              <a:t>succs</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means “the set of states you can reach from </a:t>
            </a:r>
            <a:r>
              <a:rPr b="0" i="1" lang="en-US" sz="2400" spc="-1" strike="noStrike">
                <a:solidFill>
                  <a:srgbClr val="000000"/>
                </a:solidFill>
                <a:latin typeface="Arial"/>
              </a:rPr>
              <a:t>s</a:t>
            </a:r>
            <a:r>
              <a:rPr b="0" lang="en-US" sz="2400" spc="-1" strike="noStrike">
                <a:solidFill>
                  <a:srgbClr val="000000"/>
                </a:solidFill>
                <a:latin typeface="Arial"/>
              </a:rPr>
              <a:t> in one st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ositive Number</a:t>
            </a:r>
            <a:r>
              <a:rPr b="0" lang="en-US" sz="2400" spc="-1" strike="noStrike">
                <a:solidFill>
                  <a:srgbClr val="000000"/>
                </a:solidFill>
                <a:latin typeface="Arial"/>
              </a:rPr>
              <a:t> is a function which takes two states, </a:t>
            </a:r>
            <a:r>
              <a:rPr b="0" i="1" lang="en-US" sz="2400" spc="-1" strike="noStrike">
                <a:solidFill>
                  <a:srgbClr val="000000"/>
                </a:solidFill>
                <a:latin typeface="Arial"/>
              </a:rPr>
              <a:t>s</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a:solidFill>
                  <a:srgbClr val="000000"/>
                </a:solidFill>
                <a:latin typeface="Arial"/>
              </a:rPr>
              <a:t>’, as input.  It returns the one-step cost of traveling from </a:t>
            </a:r>
            <a:r>
              <a:rPr b="0" i="1" lang="en-US" sz="2400" spc="-1" strike="noStrike">
                <a:solidFill>
                  <a:srgbClr val="000000"/>
                </a:solidFill>
                <a:latin typeface="Arial"/>
              </a:rPr>
              <a:t>s</a:t>
            </a:r>
            <a:r>
              <a:rPr b="0" lang="en-US" sz="2400" spc="-1" strike="noStrike">
                <a:solidFill>
                  <a:srgbClr val="000000"/>
                </a:solidFill>
                <a:latin typeface="Arial"/>
              </a:rPr>
              <a:t> to </a:t>
            </a:r>
            <a:r>
              <a:rPr b="0" i="1" lang="en-US" sz="2400" spc="-1" strike="noStrike">
                <a:solidFill>
                  <a:srgbClr val="000000"/>
                </a:solidFill>
                <a:latin typeface="Arial"/>
              </a:rPr>
              <a:t>s</a:t>
            </a:r>
            <a:r>
              <a:rPr b="0" lang="en-US" sz="2400" spc="-1" strike="noStrike">
                <a:solidFill>
                  <a:srgbClr val="000000"/>
                </a:solidFill>
                <a:latin typeface="Arial"/>
              </a:rPr>
              <a:t>’.  The cost function is only defined when </a:t>
            </a:r>
            <a:r>
              <a:rPr b="0" i="1" lang="en-US" sz="2400" spc="-1" strike="noStrike">
                <a:solidFill>
                  <a:srgbClr val="000000"/>
                </a:solidFill>
                <a:latin typeface="Arial"/>
              </a:rPr>
              <a:t>s</a:t>
            </a:r>
            <a:r>
              <a:rPr b="0" lang="en-US" sz="2400" spc="-1" strike="noStrike">
                <a:solidFill>
                  <a:srgbClr val="000000"/>
                </a:solidFill>
                <a:latin typeface="Arial"/>
              </a:rPr>
              <a:t>’ is a successor state of </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A0F852-DC69-4C5A-ACF0-06C18B6D9D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2414520" y="2448000"/>
            <a:ext cx="4079880" cy="3257640"/>
          </a:xfrm>
          <a:custGeom>
            <a:avLst/>
            <a:gdLst/>
            <a:ahLst/>
            <a:rect l="l" t="t" r="r" b="b"/>
            <a:pathLst>
              <a:path w="2570" h="2052">
                <a:moveTo>
                  <a:pt x="88" y="466"/>
                </a:moveTo>
                <a:cubicBezTo>
                  <a:pt x="101" y="502"/>
                  <a:pt x="122" y="533"/>
                  <a:pt x="139" y="567"/>
                </a:cubicBezTo>
                <a:cubicBezTo>
                  <a:pt x="154" y="596"/>
                  <a:pt x="164" y="624"/>
                  <a:pt x="182" y="652"/>
                </a:cubicBezTo>
                <a:cubicBezTo>
                  <a:pt x="202" y="716"/>
                  <a:pt x="242" y="768"/>
                  <a:pt x="266" y="830"/>
                </a:cubicBezTo>
                <a:cubicBezTo>
                  <a:pt x="281" y="870"/>
                  <a:pt x="290" y="896"/>
                  <a:pt x="317" y="931"/>
                </a:cubicBezTo>
                <a:cubicBezTo>
                  <a:pt x="330" y="968"/>
                  <a:pt x="331" y="988"/>
                  <a:pt x="359" y="1016"/>
                </a:cubicBezTo>
                <a:cubicBezTo>
                  <a:pt x="378" y="1089"/>
                  <a:pt x="421" y="1138"/>
                  <a:pt x="453" y="1202"/>
                </a:cubicBezTo>
                <a:cubicBezTo>
                  <a:pt x="475" y="1247"/>
                  <a:pt x="501" y="1297"/>
                  <a:pt x="529" y="1338"/>
                </a:cubicBezTo>
                <a:cubicBezTo>
                  <a:pt x="541" y="1376"/>
                  <a:pt x="566" y="1407"/>
                  <a:pt x="588" y="1440"/>
                </a:cubicBezTo>
                <a:cubicBezTo>
                  <a:pt x="593" y="1447"/>
                  <a:pt x="593" y="1457"/>
                  <a:pt x="597" y="1465"/>
                </a:cubicBezTo>
                <a:cubicBezTo>
                  <a:pt x="617" y="1500"/>
                  <a:pt x="642" y="1534"/>
                  <a:pt x="664" y="1567"/>
                </a:cubicBezTo>
                <a:cubicBezTo>
                  <a:pt x="669" y="1574"/>
                  <a:pt x="669" y="1584"/>
                  <a:pt x="673" y="1592"/>
                </a:cubicBezTo>
                <a:cubicBezTo>
                  <a:pt x="683" y="1610"/>
                  <a:pt x="696" y="1626"/>
                  <a:pt x="707" y="1643"/>
                </a:cubicBezTo>
                <a:cubicBezTo>
                  <a:pt x="713" y="1651"/>
                  <a:pt x="724" y="1668"/>
                  <a:pt x="724" y="1668"/>
                </a:cubicBezTo>
                <a:cubicBezTo>
                  <a:pt x="745" y="1735"/>
                  <a:pt x="714" y="1649"/>
                  <a:pt x="758" y="1719"/>
                </a:cubicBezTo>
                <a:cubicBezTo>
                  <a:pt x="791" y="1771"/>
                  <a:pt x="809" y="1825"/>
                  <a:pt x="851" y="1872"/>
                </a:cubicBezTo>
                <a:cubicBezTo>
                  <a:pt x="884" y="1909"/>
                  <a:pt x="931" y="1966"/>
                  <a:pt x="978" y="1990"/>
                </a:cubicBezTo>
                <a:cubicBezTo>
                  <a:pt x="1008" y="2006"/>
                  <a:pt x="998" y="1993"/>
                  <a:pt x="1029" y="2007"/>
                </a:cubicBezTo>
                <a:cubicBezTo>
                  <a:pt x="1130" y="2052"/>
                  <a:pt x="1061" y="2032"/>
                  <a:pt x="1130" y="2050"/>
                </a:cubicBezTo>
                <a:cubicBezTo>
                  <a:pt x="1295" y="2032"/>
                  <a:pt x="1233" y="2046"/>
                  <a:pt x="1317" y="2024"/>
                </a:cubicBezTo>
                <a:cubicBezTo>
                  <a:pt x="1325" y="2018"/>
                  <a:pt x="1333" y="2012"/>
                  <a:pt x="1342" y="2007"/>
                </a:cubicBezTo>
                <a:cubicBezTo>
                  <a:pt x="1350" y="2003"/>
                  <a:pt x="1359" y="2003"/>
                  <a:pt x="1367" y="1999"/>
                </a:cubicBezTo>
                <a:cubicBezTo>
                  <a:pt x="1399" y="1981"/>
                  <a:pt x="1432" y="1953"/>
                  <a:pt x="1461" y="1931"/>
                </a:cubicBezTo>
                <a:cubicBezTo>
                  <a:pt x="1481" y="1870"/>
                  <a:pt x="1468" y="1895"/>
                  <a:pt x="1495" y="1855"/>
                </a:cubicBezTo>
                <a:cubicBezTo>
                  <a:pt x="1505" y="1800"/>
                  <a:pt x="1518" y="1746"/>
                  <a:pt x="1537" y="1694"/>
                </a:cubicBezTo>
                <a:cubicBezTo>
                  <a:pt x="1529" y="1569"/>
                  <a:pt x="1515" y="1432"/>
                  <a:pt x="1435" y="1330"/>
                </a:cubicBezTo>
                <a:cubicBezTo>
                  <a:pt x="1426" y="1301"/>
                  <a:pt x="1418" y="1279"/>
                  <a:pt x="1401" y="1253"/>
                </a:cubicBezTo>
                <a:cubicBezTo>
                  <a:pt x="1388" y="1213"/>
                  <a:pt x="1372" y="1175"/>
                  <a:pt x="1359" y="1135"/>
                </a:cubicBezTo>
                <a:cubicBezTo>
                  <a:pt x="1365" y="1012"/>
                  <a:pt x="1352" y="997"/>
                  <a:pt x="1393" y="914"/>
                </a:cubicBezTo>
                <a:cubicBezTo>
                  <a:pt x="1406" y="859"/>
                  <a:pt x="1456" y="755"/>
                  <a:pt x="1511" y="737"/>
                </a:cubicBezTo>
                <a:cubicBezTo>
                  <a:pt x="1606" y="664"/>
                  <a:pt x="1676" y="668"/>
                  <a:pt x="1799" y="660"/>
                </a:cubicBezTo>
                <a:cubicBezTo>
                  <a:pt x="1990" y="671"/>
                  <a:pt x="2047" y="675"/>
                  <a:pt x="2265" y="669"/>
                </a:cubicBezTo>
                <a:cubicBezTo>
                  <a:pt x="2348" y="641"/>
                  <a:pt x="2289" y="669"/>
                  <a:pt x="2342" y="626"/>
                </a:cubicBezTo>
                <a:cubicBezTo>
                  <a:pt x="2371" y="602"/>
                  <a:pt x="2406" y="592"/>
                  <a:pt x="2435" y="567"/>
                </a:cubicBezTo>
                <a:cubicBezTo>
                  <a:pt x="2470" y="537"/>
                  <a:pt x="2515" y="471"/>
                  <a:pt x="2545" y="432"/>
                </a:cubicBezTo>
                <a:cubicBezTo>
                  <a:pt x="2553" y="406"/>
                  <a:pt x="2562" y="381"/>
                  <a:pt x="2570" y="355"/>
                </a:cubicBezTo>
                <a:cubicBezTo>
                  <a:pt x="2564" y="257"/>
                  <a:pt x="2566" y="159"/>
                  <a:pt x="2477" y="101"/>
                </a:cubicBezTo>
                <a:cubicBezTo>
                  <a:pt x="2455" y="69"/>
                  <a:pt x="2441" y="68"/>
                  <a:pt x="2409" y="50"/>
                </a:cubicBezTo>
                <a:cubicBezTo>
                  <a:pt x="2342" y="13"/>
                  <a:pt x="2359" y="18"/>
                  <a:pt x="2282" y="0"/>
                </a:cubicBezTo>
                <a:cubicBezTo>
                  <a:pt x="2191" y="5"/>
                  <a:pt x="2114" y="5"/>
                  <a:pt x="2028" y="25"/>
                </a:cubicBezTo>
                <a:cubicBezTo>
                  <a:pt x="1972" y="81"/>
                  <a:pt x="2033" y="27"/>
                  <a:pt x="1977" y="59"/>
                </a:cubicBezTo>
                <a:cubicBezTo>
                  <a:pt x="1940" y="80"/>
                  <a:pt x="1906" y="110"/>
                  <a:pt x="1867" y="127"/>
                </a:cubicBezTo>
                <a:cubicBezTo>
                  <a:pt x="1736" y="185"/>
                  <a:pt x="1582" y="180"/>
                  <a:pt x="1444" y="186"/>
                </a:cubicBezTo>
                <a:cubicBezTo>
                  <a:pt x="1306" y="204"/>
                  <a:pt x="1167" y="188"/>
                  <a:pt x="1029" y="178"/>
                </a:cubicBezTo>
                <a:cubicBezTo>
                  <a:pt x="796" y="182"/>
                  <a:pt x="637" y="184"/>
                  <a:pt x="427" y="203"/>
                </a:cubicBezTo>
                <a:cubicBezTo>
                  <a:pt x="390" y="215"/>
                  <a:pt x="354" y="225"/>
                  <a:pt x="317" y="237"/>
                </a:cubicBezTo>
                <a:cubicBezTo>
                  <a:pt x="309" y="240"/>
                  <a:pt x="292" y="245"/>
                  <a:pt x="292" y="245"/>
                </a:cubicBezTo>
                <a:cubicBezTo>
                  <a:pt x="259" y="278"/>
                  <a:pt x="224" y="279"/>
                  <a:pt x="190" y="313"/>
                </a:cubicBezTo>
                <a:cubicBezTo>
                  <a:pt x="158" y="345"/>
                  <a:pt x="175" y="332"/>
                  <a:pt x="139" y="355"/>
                </a:cubicBezTo>
                <a:cubicBezTo>
                  <a:pt x="104" y="408"/>
                  <a:pt x="73" y="463"/>
                  <a:pt x="38" y="516"/>
                </a:cubicBezTo>
                <a:cubicBezTo>
                  <a:pt x="0" y="573"/>
                  <a:pt x="47" y="524"/>
                  <a:pt x="21" y="550"/>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21" name=""/>
          <p:cNvSpPr/>
          <p:nvPr/>
        </p:nvSpPr>
        <p:spPr>
          <a:xfrm>
            <a:off x="152280" y="580536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d,3) , (e,9) , (q,16) }</a:t>
            </a:r>
            <a:endParaRPr b="0" lang="en-US" sz="2800" spc="-1" strike="noStrike">
              <a:solidFill>
                <a:srgbClr val="000000"/>
              </a:solidFill>
              <a:latin typeface="Arial"/>
            </a:endParaRPr>
          </a:p>
        </p:txBody>
      </p:sp>
      <p:sp>
        <p:nvSpPr>
          <p:cNvPr id="10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2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24" name=""/>
          <p:cNvSpPr/>
          <p:nvPr/>
        </p:nvSpPr>
        <p:spPr>
          <a:xfrm>
            <a:off x="2840040" y="2938320"/>
            <a:ext cx="71748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34" name=""/>
          <p:cNvCxnSpPr>
            <a:stCxn id="1022" idx="5"/>
            <a:endCxn id="10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35" name=""/>
          <p:cNvCxnSpPr>
            <a:stCxn id="1026" idx="5"/>
            <a:endCxn id="10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36" name=""/>
          <p:cNvCxnSpPr>
            <a:stCxn id="1030" idx="3"/>
            <a:endCxn id="10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37" name=""/>
          <p:cNvCxnSpPr>
            <a:stCxn id="1030" idx="2"/>
            <a:endCxn id="10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38" name=""/>
          <p:cNvCxnSpPr>
            <a:stCxn id="1029" idx="4"/>
            <a:endCxn id="10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39" name=""/>
          <p:cNvCxnSpPr>
            <a:stCxn id="1029" idx="5"/>
            <a:endCxn id="10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40" name=""/>
          <p:cNvCxnSpPr>
            <a:stCxn id="1033" idx="0"/>
            <a:endCxn id="10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41" name=""/>
          <p:cNvCxnSpPr>
            <a:stCxn id="1032" idx="0"/>
            <a:endCxn id="102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42" name=""/>
          <p:cNvCxnSpPr>
            <a:stCxn id="10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43" name=""/>
          <p:cNvCxnSpPr>
            <a:stCxn id="1024" idx="1"/>
            <a:endCxn id="1025" idx="5"/>
          </p:cNvCxnSpPr>
          <p:nvPr/>
        </p:nvCxnSpPr>
        <p:spPr>
          <a:xfrm flipH="1" flipV="1">
            <a:off x="1947240" y="2453400"/>
            <a:ext cx="997560" cy="575640"/>
          </a:xfrm>
          <a:prstGeom prst="straightConnector1">
            <a:avLst/>
          </a:prstGeom>
          <a:ln w="9360">
            <a:solidFill>
              <a:srgbClr val="000000"/>
            </a:solidFill>
            <a:miter/>
            <a:tailEnd len="med" type="triangle" w="med"/>
          </a:ln>
        </p:spPr>
      </p:cxnSp>
      <p:cxnSp>
        <p:nvCxnSpPr>
          <p:cNvPr id="1044" name=""/>
          <p:cNvCxnSpPr>
            <a:endCxn id="10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45" name=""/>
          <p:cNvCxnSpPr>
            <a:stCxn id="1028" idx="2"/>
            <a:endCxn id="10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046" name=""/>
          <p:cNvCxnSpPr>
            <a:stCxn id="1024" idx="7"/>
            <a:endCxn id="1028" idx="3"/>
          </p:cNvCxnSpPr>
          <p:nvPr/>
        </p:nvCxnSpPr>
        <p:spPr>
          <a:xfrm flipV="1">
            <a:off x="3452400" y="2379240"/>
            <a:ext cx="1213560" cy="650160"/>
          </a:xfrm>
          <a:prstGeom prst="straightConnector1">
            <a:avLst/>
          </a:prstGeom>
          <a:ln w="9360">
            <a:solidFill>
              <a:srgbClr val="000000"/>
            </a:solidFill>
            <a:miter/>
            <a:tailEnd len="med" type="triangle" w="med"/>
          </a:ln>
        </p:spPr>
      </p:cxnSp>
      <p:cxnSp>
        <p:nvCxnSpPr>
          <p:cNvPr id="1047" name=""/>
          <p:cNvCxnSpPr>
            <a:stCxn id="1024" idx="6"/>
            <a:endCxn id="1029" idx="2"/>
          </p:cNvCxnSpPr>
          <p:nvPr/>
        </p:nvCxnSpPr>
        <p:spPr>
          <a:xfrm flipV="1">
            <a:off x="3576240" y="3013920"/>
            <a:ext cx="1987920" cy="299160"/>
          </a:xfrm>
          <a:prstGeom prst="straightConnector1">
            <a:avLst/>
          </a:prstGeom>
          <a:ln w="9360">
            <a:solidFill>
              <a:srgbClr val="000000"/>
            </a:solidFill>
            <a:miter/>
            <a:tailEnd len="med" type="triangle" w="med"/>
          </a:ln>
        </p:spPr>
      </p:cxnSp>
      <p:cxnSp>
        <p:nvCxnSpPr>
          <p:cNvPr id="1048" name=""/>
          <p:cNvCxnSpPr>
            <a:stCxn id="1032" idx="1"/>
            <a:endCxn id="10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049" name=""/>
          <p:cNvCxnSpPr>
            <a:stCxn id="1022" idx="6"/>
            <a:endCxn id="10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0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66" name=""/>
          <p:cNvCxnSpPr>
            <a:stCxn id="1027" idx="6"/>
            <a:endCxn id="10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0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1"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3"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F06494-C4EB-419C-B75E-8D8940CC9A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07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7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7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79"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8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8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8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8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8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85"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8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8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88" name=""/>
          <p:cNvCxnSpPr>
            <a:stCxn id="1076" idx="5"/>
            <a:endCxn id="108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89" name=""/>
          <p:cNvCxnSpPr>
            <a:stCxn id="1080" idx="5"/>
            <a:endCxn id="108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90" name=""/>
          <p:cNvCxnSpPr>
            <a:stCxn id="1084" idx="3"/>
            <a:endCxn id="108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91" name=""/>
          <p:cNvCxnSpPr>
            <a:stCxn id="1084" idx="2"/>
            <a:endCxn id="108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92" name=""/>
          <p:cNvCxnSpPr>
            <a:stCxn id="1083" idx="4"/>
            <a:endCxn id="108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93" name=""/>
          <p:cNvCxnSpPr>
            <a:stCxn id="1083" idx="5"/>
            <a:endCxn id="108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94" name=""/>
          <p:cNvCxnSpPr>
            <a:stCxn id="1087" idx="0"/>
            <a:endCxn id="108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95" name=""/>
          <p:cNvCxnSpPr>
            <a:stCxn id="1086" idx="0"/>
            <a:endCxn id="107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96" name=""/>
          <p:cNvCxnSpPr>
            <a:stCxn id="107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97" name=""/>
          <p:cNvCxnSpPr>
            <a:stCxn id="1078" idx="1"/>
            <a:endCxn id="1079"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098" name=""/>
          <p:cNvCxnSpPr>
            <a:endCxn id="1085"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99" name=""/>
          <p:cNvCxnSpPr>
            <a:stCxn id="1082" idx="2"/>
            <a:endCxn id="1085"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00" name=""/>
          <p:cNvCxnSpPr>
            <a:stCxn id="1078" idx="7"/>
            <a:endCxn id="108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01" name=""/>
          <p:cNvCxnSpPr>
            <a:stCxn id="1078" idx="6"/>
            <a:endCxn id="108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02" name=""/>
          <p:cNvCxnSpPr>
            <a:stCxn id="1086" idx="1"/>
            <a:endCxn id="108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03" name=""/>
          <p:cNvCxnSpPr>
            <a:stCxn id="1076" idx="6"/>
            <a:endCxn id="108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0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0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0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1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1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20" name=""/>
          <p:cNvCxnSpPr>
            <a:stCxn id="1081" idx="6"/>
            <a:endCxn id="108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2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2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2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2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C764237-890E-4193-B6D5-168480E51B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3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13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3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3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35"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3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3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3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3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4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4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4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14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144" name=""/>
          <p:cNvCxnSpPr>
            <a:stCxn id="1132" idx="5"/>
            <a:endCxn id="113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145" name=""/>
          <p:cNvCxnSpPr>
            <a:stCxn id="1136" idx="5"/>
            <a:endCxn id="113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146" name=""/>
          <p:cNvCxnSpPr>
            <a:stCxn id="1140" idx="3"/>
            <a:endCxn id="113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147" name=""/>
          <p:cNvCxnSpPr>
            <a:stCxn id="1140" idx="2"/>
            <a:endCxn id="113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148" name=""/>
          <p:cNvCxnSpPr>
            <a:stCxn id="1139" idx="4"/>
            <a:endCxn id="114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149" name=""/>
          <p:cNvCxnSpPr>
            <a:stCxn id="1139" idx="5"/>
            <a:endCxn id="114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150" name=""/>
          <p:cNvCxnSpPr>
            <a:stCxn id="1143" idx="0"/>
            <a:endCxn id="114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151" name=""/>
          <p:cNvCxnSpPr>
            <a:stCxn id="1142" idx="0"/>
            <a:endCxn id="113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152" name=""/>
          <p:cNvCxnSpPr>
            <a:stCxn id="113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153" name=""/>
          <p:cNvCxnSpPr>
            <a:stCxn id="1134" idx="1"/>
            <a:endCxn id="1135"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154" name=""/>
          <p:cNvCxnSpPr>
            <a:endCxn id="114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155" name=""/>
          <p:cNvCxnSpPr>
            <a:stCxn id="1138" idx="2"/>
            <a:endCxn id="114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56" name=""/>
          <p:cNvCxnSpPr>
            <a:stCxn id="1134" idx="7"/>
            <a:endCxn id="113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57" name=""/>
          <p:cNvCxnSpPr>
            <a:stCxn id="1134" idx="6"/>
            <a:endCxn id="113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58" name=""/>
          <p:cNvCxnSpPr>
            <a:stCxn id="1142" idx="1"/>
            <a:endCxn id="113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59" name=""/>
          <p:cNvCxnSpPr>
            <a:stCxn id="1132" idx="6"/>
            <a:endCxn id="113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6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6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6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6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7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7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7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76" name=""/>
          <p:cNvCxnSpPr>
            <a:stCxn id="1137" idx="6"/>
            <a:endCxn id="114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7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7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8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2"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8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6" name=""/>
          <p:cNvSpPr/>
          <p:nvPr/>
        </p:nvSpPr>
        <p:spPr>
          <a:xfrm rot="20750400">
            <a:off x="2896560" y="3733560"/>
            <a:ext cx="5867640" cy="230364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
            </a:r>
            <a:r>
              <a:rPr b="0" lang="en-US" sz="2400" spc="-1" strike="noStrike">
                <a:solidFill>
                  <a:srgbClr val="000000"/>
                </a:solidFill>
                <a:latin typeface="Arial"/>
              </a:rPr>
              <a:t> realized that getting to </a:t>
            </a:r>
            <a:r>
              <a:rPr b="1" i="1" lang="en-US" sz="2400" spc="-1" strike="noStrike">
                <a:solidFill>
                  <a:srgbClr val="000000"/>
                </a:solidFill>
                <a:latin typeface="Arial"/>
              </a:rPr>
              <a:t>e</a:t>
            </a:r>
            <a:r>
              <a:rPr b="0" lang="en-US" sz="2400" spc="-1" strike="noStrike">
                <a:solidFill>
                  <a:srgbClr val="000000"/>
                </a:solidFill>
                <a:latin typeface="Arial"/>
              </a:rPr>
              <a:t> via </a:t>
            </a:r>
            <a:r>
              <a:rPr b="1" i="1" lang="en-US" sz="2400" spc="-1" strike="noStrike">
                <a:solidFill>
                  <a:srgbClr val="000000"/>
                </a:solidFill>
                <a:latin typeface="Arial"/>
              </a:rPr>
              <a:t>d</a:t>
            </a:r>
            <a:r>
              <a:rPr b="0" lang="en-US" sz="2400" spc="-1" strike="noStrike">
                <a:solidFill>
                  <a:srgbClr val="000000"/>
                </a:solidFill>
                <a:latin typeface="Arial"/>
              </a:rPr>
              <a:t> was better than the previously best-known way to get to </a:t>
            </a:r>
            <a:r>
              <a:rPr b="1" i="1" lang="en-US" sz="2400" spc="-1" strike="noStrike">
                <a:solidFill>
                  <a:srgbClr val="000000"/>
                </a:solidFill>
                <a:latin typeface="Arial"/>
              </a:rPr>
              <a:t>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e</a:t>
            </a:r>
            <a:r>
              <a:rPr b="0" lang="en-US" sz="2400" spc="-1" strike="noStrike">
                <a:solidFill>
                  <a:srgbClr val="000000"/>
                </a:solidFill>
                <a:latin typeface="Arial"/>
              </a:rPr>
              <a:t>’s priority was 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AF635ED-B309-490D-9D7F-01F07668BA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2340000" y="843120"/>
            <a:ext cx="4329000" cy="4911480"/>
          </a:xfrm>
          <a:custGeom>
            <a:avLst/>
            <a:gdLst/>
            <a:ahLst/>
            <a:rect l="l" t="t" r="r" b="b"/>
            <a:pathLst>
              <a:path w="2727" h="3094">
                <a:moveTo>
                  <a:pt x="8" y="325"/>
                </a:moveTo>
                <a:cubicBezTo>
                  <a:pt x="17" y="384"/>
                  <a:pt x="20" y="432"/>
                  <a:pt x="42" y="485"/>
                </a:cubicBezTo>
                <a:cubicBezTo>
                  <a:pt x="47" y="497"/>
                  <a:pt x="50" y="510"/>
                  <a:pt x="59" y="519"/>
                </a:cubicBezTo>
                <a:cubicBezTo>
                  <a:pt x="73" y="533"/>
                  <a:pt x="110" y="553"/>
                  <a:pt x="110" y="553"/>
                </a:cubicBezTo>
                <a:cubicBezTo>
                  <a:pt x="139" y="598"/>
                  <a:pt x="210" y="646"/>
                  <a:pt x="262" y="663"/>
                </a:cubicBezTo>
                <a:cubicBezTo>
                  <a:pt x="306" y="692"/>
                  <a:pt x="388" y="743"/>
                  <a:pt x="440" y="757"/>
                </a:cubicBezTo>
                <a:cubicBezTo>
                  <a:pt x="466" y="773"/>
                  <a:pt x="489" y="778"/>
                  <a:pt x="517" y="790"/>
                </a:cubicBezTo>
                <a:cubicBezTo>
                  <a:pt x="556" y="806"/>
                  <a:pt x="588" y="836"/>
                  <a:pt x="627" y="850"/>
                </a:cubicBezTo>
                <a:cubicBezTo>
                  <a:pt x="657" y="861"/>
                  <a:pt x="660" y="853"/>
                  <a:pt x="686" y="867"/>
                </a:cubicBezTo>
                <a:cubicBezTo>
                  <a:pt x="749" y="900"/>
                  <a:pt x="819" y="923"/>
                  <a:pt x="881" y="960"/>
                </a:cubicBezTo>
                <a:cubicBezTo>
                  <a:pt x="930" y="990"/>
                  <a:pt x="977" y="1022"/>
                  <a:pt x="1025" y="1053"/>
                </a:cubicBezTo>
                <a:cubicBezTo>
                  <a:pt x="1031" y="1061"/>
                  <a:pt x="1035" y="1071"/>
                  <a:pt x="1042" y="1078"/>
                </a:cubicBezTo>
                <a:cubicBezTo>
                  <a:pt x="1049" y="1085"/>
                  <a:pt x="1060" y="1087"/>
                  <a:pt x="1067" y="1095"/>
                </a:cubicBezTo>
                <a:cubicBezTo>
                  <a:pt x="1080" y="1110"/>
                  <a:pt x="1101" y="1146"/>
                  <a:pt x="1101" y="1146"/>
                </a:cubicBezTo>
                <a:cubicBezTo>
                  <a:pt x="1117" y="1205"/>
                  <a:pt x="1133" y="1263"/>
                  <a:pt x="1143" y="1324"/>
                </a:cubicBezTo>
                <a:cubicBezTo>
                  <a:pt x="1138" y="1421"/>
                  <a:pt x="1145" y="1516"/>
                  <a:pt x="1101" y="1604"/>
                </a:cubicBezTo>
                <a:cubicBezTo>
                  <a:pt x="1090" y="1648"/>
                  <a:pt x="1084" y="1693"/>
                  <a:pt x="1059" y="1731"/>
                </a:cubicBezTo>
                <a:cubicBezTo>
                  <a:pt x="1048" y="1781"/>
                  <a:pt x="1029" y="1828"/>
                  <a:pt x="1008" y="1875"/>
                </a:cubicBezTo>
                <a:cubicBezTo>
                  <a:pt x="998" y="1898"/>
                  <a:pt x="974" y="1942"/>
                  <a:pt x="974" y="1942"/>
                </a:cubicBezTo>
                <a:cubicBezTo>
                  <a:pt x="949" y="2049"/>
                  <a:pt x="989" y="1903"/>
                  <a:pt x="940" y="2002"/>
                </a:cubicBezTo>
                <a:cubicBezTo>
                  <a:pt x="934" y="2015"/>
                  <a:pt x="938" y="2031"/>
                  <a:pt x="932" y="2044"/>
                </a:cubicBezTo>
                <a:cubicBezTo>
                  <a:pt x="924" y="2063"/>
                  <a:pt x="905" y="2076"/>
                  <a:pt x="898" y="2095"/>
                </a:cubicBezTo>
                <a:cubicBezTo>
                  <a:pt x="868" y="2179"/>
                  <a:pt x="845" y="2269"/>
                  <a:pt x="805" y="2349"/>
                </a:cubicBezTo>
                <a:cubicBezTo>
                  <a:pt x="802" y="2363"/>
                  <a:pt x="801" y="2378"/>
                  <a:pt x="796" y="2391"/>
                </a:cubicBezTo>
                <a:cubicBezTo>
                  <a:pt x="792" y="2401"/>
                  <a:pt x="783" y="2407"/>
                  <a:pt x="779" y="2417"/>
                </a:cubicBezTo>
                <a:cubicBezTo>
                  <a:pt x="748" y="2501"/>
                  <a:pt x="794" y="2424"/>
                  <a:pt x="754" y="2485"/>
                </a:cubicBezTo>
                <a:cubicBezTo>
                  <a:pt x="744" y="2531"/>
                  <a:pt x="727" y="2576"/>
                  <a:pt x="711" y="2620"/>
                </a:cubicBezTo>
                <a:cubicBezTo>
                  <a:pt x="717" y="2738"/>
                  <a:pt x="708" y="2815"/>
                  <a:pt x="771" y="2908"/>
                </a:cubicBezTo>
                <a:cubicBezTo>
                  <a:pt x="786" y="2955"/>
                  <a:pt x="817" y="2972"/>
                  <a:pt x="855" y="2993"/>
                </a:cubicBezTo>
                <a:cubicBezTo>
                  <a:pt x="911" y="3025"/>
                  <a:pt x="927" y="3037"/>
                  <a:pt x="991" y="3052"/>
                </a:cubicBezTo>
                <a:cubicBezTo>
                  <a:pt x="1022" y="3067"/>
                  <a:pt x="1053" y="3079"/>
                  <a:pt x="1084" y="3094"/>
                </a:cubicBezTo>
                <a:cubicBezTo>
                  <a:pt x="1174" y="3091"/>
                  <a:pt x="1265" y="3091"/>
                  <a:pt x="1355" y="3086"/>
                </a:cubicBezTo>
                <a:cubicBezTo>
                  <a:pt x="1404" y="3083"/>
                  <a:pt x="1521" y="2967"/>
                  <a:pt x="1550" y="2925"/>
                </a:cubicBezTo>
                <a:cubicBezTo>
                  <a:pt x="1563" y="2885"/>
                  <a:pt x="1578" y="2841"/>
                  <a:pt x="1601" y="2806"/>
                </a:cubicBezTo>
                <a:cubicBezTo>
                  <a:pt x="1621" y="2701"/>
                  <a:pt x="1620" y="2696"/>
                  <a:pt x="1626" y="2544"/>
                </a:cubicBezTo>
                <a:cubicBezTo>
                  <a:pt x="1621" y="2451"/>
                  <a:pt x="1626" y="2416"/>
                  <a:pt x="1609" y="2341"/>
                </a:cubicBezTo>
                <a:cubicBezTo>
                  <a:pt x="1601" y="2303"/>
                  <a:pt x="1584" y="2267"/>
                  <a:pt x="1575" y="2230"/>
                </a:cubicBezTo>
                <a:cubicBezTo>
                  <a:pt x="1557" y="2157"/>
                  <a:pt x="1542" y="2082"/>
                  <a:pt x="1499" y="2019"/>
                </a:cubicBezTo>
                <a:cubicBezTo>
                  <a:pt x="1489" y="1965"/>
                  <a:pt x="1475" y="1912"/>
                  <a:pt x="1465" y="1858"/>
                </a:cubicBezTo>
                <a:cubicBezTo>
                  <a:pt x="1468" y="1824"/>
                  <a:pt x="1469" y="1790"/>
                  <a:pt x="1474" y="1756"/>
                </a:cubicBezTo>
                <a:cubicBezTo>
                  <a:pt x="1489" y="1647"/>
                  <a:pt x="1620" y="1630"/>
                  <a:pt x="1702" y="1604"/>
                </a:cubicBezTo>
                <a:cubicBezTo>
                  <a:pt x="1753" y="1607"/>
                  <a:pt x="1804" y="1607"/>
                  <a:pt x="1855" y="1612"/>
                </a:cubicBezTo>
                <a:cubicBezTo>
                  <a:pt x="1932" y="1619"/>
                  <a:pt x="2009" y="1653"/>
                  <a:pt x="2084" y="1671"/>
                </a:cubicBezTo>
                <a:cubicBezTo>
                  <a:pt x="2149" y="1687"/>
                  <a:pt x="2214" y="1702"/>
                  <a:pt x="2278" y="1722"/>
                </a:cubicBezTo>
                <a:cubicBezTo>
                  <a:pt x="2321" y="1719"/>
                  <a:pt x="2363" y="1718"/>
                  <a:pt x="2406" y="1714"/>
                </a:cubicBezTo>
                <a:cubicBezTo>
                  <a:pt x="2518" y="1702"/>
                  <a:pt x="2582" y="1599"/>
                  <a:pt x="2651" y="1527"/>
                </a:cubicBezTo>
                <a:cubicBezTo>
                  <a:pt x="2675" y="1467"/>
                  <a:pt x="2702" y="1412"/>
                  <a:pt x="2719" y="1349"/>
                </a:cubicBezTo>
                <a:cubicBezTo>
                  <a:pt x="2715" y="1253"/>
                  <a:pt x="2727" y="1154"/>
                  <a:pt x="2702" y="1061"/>
                </a:cubicBezTo>
                <a:cubicBezTo>
                  <a:pt x="2681" y="983"/>
                  <a:pt x="2640" y="912"/>
                  <a:pt x="2600" y="841"/>
                </a:cubicBezTo>
                <a:cubicBezTo>
                  <a:pt x="2588" y="820"/>
                  <a:pt x="2573" y="782"/>
                  <a:pt x="2558" y="765"/>
                </a:cubicBezTo>
                <a:cubicBezTo>
                  <a:pt x="2549" y="754"/>
                  <a:pt x="2533" y="750"/>
                  <a:pt x="2524" y="740"/>
                </a:cubicBezTo>
                <a:cubicBezTo>
                  <a:pt x="2457" y="667"/>
                  <a:pt x="2400" y="584"/>
                  <a:pt x="2304" y="545"/>
                </a:cubicBezTo>
                <a:cubicBezTo>
                  <a:pt x="2280" y="508"/>
                  <a:pt x="2253" y="496"/>
                  <a:pt x="2211" y="485"/>
                </a:cubicBezTo>
                <a:cubicBezTo>
                  <a:pt x="2181" y="466"/>
                  <a:pt x="2161" y="452"/>
                  <a:pt x="2126" y="443"/>
                </a:cubicBezTo>
                <a:cubicBezTo>
                  <a:pt x="2056" y="396"/>
                  <a:pt x="1969" y="359"/>
                  <a:pt x="1889" y="333"/>
                </a:cubicBezTo>
                <a:cubicBezTo>
                  <a:pt x="1841" y="302"/>
                  <a:pt x="1791" y="292"/>
                  <a:pt x="1736" y="282"/>
                </a:cubicBezTo>
                <a:cubicBezTo>
                  <a:pt x="1682" y="260"/>
                  <a:pt x="1632" y="248"/>
                  <a:pt x="1575" y="240"/>
                </a:cubicBezTo>
                <a:cubicBezTo>
                  <a:pt x="1545" y="229"/>
                  <a:pt x="1513" y="222"/>
                  <a:pt x="1482" y="214"/>
                </a:cubicBezTo>
                <a:cubicBezTo>
                  <a:pt x="1429" y="178"/>
                  <a:pt x="1489" y="214"/>
                  <a:pt x="1398" y="189"/>
                </a:cubicBezTo>
                <a:cubicBezTo>
                  <a:pt x="1386" y="186"/>
                  <a:pt x="1376" y="176"/>
                  <a:pt x="1364" y="172"/>
                </a:cubicBezTo>
                <a:cubicBezTo>
                  <a:pt x="1299" y="148"/>
                  <a:pt x="1227" y="129"/>
                  <a:pt x="1160" y="113"/>
                </a:cubicBezTo>
                <a:cubicBezTo>
                  <a:pt x="1005" y="36"/>
                  <a:pt x="733" y="12"/>
                  <a:pt x="567" y="3"/>
                </a:cubicBezTo>
                <a:cubicBezTo>
                  <a:pt x="478" y="7"/>
                  <a:pt x="376" y="0"/>
                  <a:pt x="288" y="28"/>
                </a:cubicBezTo>
                <a:cubicBezTo>
                  <a:pt x="259" y="47"/>
                  <a:pt x="236" y="53"/>
                  <a:pt x="203" y="62"/>
                </a:cubicBezTo>
                <a:cubicBezTo>
                  <a:pt x="195" y="70"/>
                  <a:pt x="188" y="80"/>
                  <a:pt x="178" y="87"/>
                </a:cubicBezTo>
                <a:cubicBezTo>
                  <a:pt x="170" y="92"/>
                  <a:pt x="159" y="90"/>
                  <a:pt x="152" y="96"/>
                </a:cubicBezTo>
                <a:cubicBezTo>
                  <a:pt x="95" y="141"/>
                  <a:pt x="175" y="107"/>
                  <a:pt x="110" y="130"/>
                </a:cubicBezTo>
                <a:cubicBezTo>
                  <a:pt x="102" y="156"/>
                  <a:pt x="89" y="183"/>
                  <a:pt x="76" y="206"/>
                </a:cubicBezTo>
                <a:cubicBezTo>
                  <a:pt x="66" y="224"/>
                  <a:pt x="42" y="257"/>
                  <a:pt x="42" y="257"/>
                </a:cubicBezTo>
                <a:cubicBezTo>
                  <a:pt x="23" y="314"/>
                  <a:pt x="0" y="366"/>
                  <a:pt x="0" y="426"/>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8"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e,5) , (a,6) , (c,11) , (q,16) }</a:t>
            </a:r>
            <a:endParaRPr b="0" lang="en-US" sz="2800" spc="-1" strike="noStrike">
              <a:solidFill>
                <a:srgbClr val="000000"/>
              </a:solidFill>
              <a:latin typeface="Arial"/>
            </a:endParaRPr>
          </a:p>
        </p:txBody>
      </p:sp>
      <p:sp>
        <p:nvSpPr>
          <p:cNvPr id="118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9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9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9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93"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9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9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6" name=""/>
          <p:cNvSpPr/>
          <p:nvPr/>
        </p:nvSpPr>
        <p:spPr>
          <a:xfrm>
            <a:off x="5564160" y="263988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9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9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9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0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01" name=""/>
          <p:cNvCxnSpPr>
            <a:stCxn id="1189" idx="5"/>
            <a:endCxn id="1193"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02" name=""/>
          <p:cNvCxnSpPr>
            <a:stCxn id="1193" idx="5"/>
            <a:endCxn id="1194"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03" name=""/>
          <p:cNvCxnSpPr>
            <a:stCxn id="1197" idx="3"/>
            <a:endCxn id="119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04" name=""/>
          <p:cNvCxnSpPr>
            <a:stCxn id="1197" idx="2"/>
            <a:endCxn id="1193"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05" name=""/>
          <p:cNvCxnSpPr>
            <a:stCxn id="1196" idx="4"/>
            <a:endCxn id="1197" idx="7"/>
          </p:cNvCxnSpPr>
          <p:nvPr/>
        </p:nvCxnSpPr>
        <p:spPr>
          <a:xfrm flipH="1">
            <a:off x="5601600" y="3406320"/>
            <a:ext cx="321480" cy="391320"/>
          </a:xfrm>
          <a:prstGeom prst="straightConnector1">
            <a:avLst/>
          </a:prstGeom>
          <a:ln w="9360">
            <a:solidFill>
              <a:srgbClr val="000000"/>
            </a:solidFill>
            <a:miter/>
            <a:tailEnd len="med" type="triangle" w="med"/>
          </a:ln>
        </p:spPr>
      </p:cxnSp>
      <p:cxnSp>
        <p:nvCxnSpPr>
          <p:cNvPr id="1206" name=""/>
          <p:cNvCxnSpPr>
            <a:stCxn id="1196" idx="5"/>
            <a:endCxn id="1200" idx="1"/>
          </p:cNvCxnSpPr>
          <p:nvPr/>
        </p:nvCxnSpPr>
        <p:spPr>
          <a:xfrm>
            <a:off x="6175080" y="3297240"/>
            <a:ext cx="711720" cy="1249920"/>
          </a:xfrm>
          <a:prstGeom prst="straightConnector1">
            <a:avLst/>
          </a:prstGeom>
          <a:ln w="9360">
            <a:solidFill>
              <a:srgbClr val="000000"/>
            </a:solidFill>
            <a:miter/>
            <a:tailEnd len="med" type="triangle" w="med"/>
          </a:ln>
        </p:spPr>
      </p:cxnSp>
      <p:cxnSp>
        <p:nvCxnSpPr>
          <p:cNvPr id="1207" name=""/>
          <p:cNvCxnSpPr>
            <a:stCxn id="1200" idx="0"/>
            <a:endCxn id="119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08" name=""/>
          <p:cNvCxnSpPr>
            <a:stCxn id="1199" idx="0"/>
            <a:endCxn id="119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09" name=""/>
          <p:cNvCxnSpPr>
            <a:stCxn id="118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10" name=""/>
          <p:cNvCxnSpPr>
            <a:stCxn id="1191" idx="1"/>
            <a:endCxn id="119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11" name=""/>
          <p:cNvCxnSpPr>
            <a:endCxn id="119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212" name=""/>
          <p:cNvCxnSpPr>
            <a:stCxn id="1195" idx="2"/>
            <a:endCxn id="119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213" name=""/>
          <p:cNvCxnSpPr>
            <a:stCxn id="1191" idx="7"/>
            <a:endCxn id="119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14" name=""/>
          <p:cNvCxnSpPr>
            <a:stCxn id="1191" idx="6"/>
            <a:endCxn id="1196" idx="2"/>
          </p:cNvCxnSpPr>
          <p:nvPr/>
        </p:nvCxnSpPr>
        <p:spPr>
          <a:xfrm flipV="1">
            <a:off x="3557160" y="3013920"/>
            <a:ext cx="1987920" cy="299160"/>
          </a:xfrm>
          <a:prstGeom prst="straightConnector1">
            <a:avLst/>
          </a:prstGeom>
          <a:ln w="9360">
            <a:solidFill>
              <a:srgbClr val="000000"/>
            </a:solidFill>
            <a:miter/>
            <a:tailEnd len="med" type="triangle" w="med"/>
          </a:ln>
        </p:spPr>
      </p:cxnSp>
      <p:cxnSp>
        <p:nvCxnSpPr>
          <p:cNvPr id="1215" name=""/>
          <p:cNvCxnSpPr>
            <a:stCxn id="1199" idx="1"/>
            <a:endCxn id="119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16" name=""/>
          <p:cNvCxnSpPr>
            <a:stCxn id="1189" idx="6"/>
            <a:endCxn id="1196" idx="3"/>
          </p:cNvCxnSpPr>
          <p:nvPr/>
        </p:nvCxnSpPr>
        <p:spPr>
          <a:xfrm flipV="1">
            <a:off x="1477800" y="3296880"/>
            <a:ext cx="4191840" cy="691200"/>
          </a:xfrm>
          <a:prstGeom prst="curvedConnector2">
            <a:avLst/>
          </a:prstGeom>
          <a:ln w="9360">
            <a:solidFill>
              <a:srgbClr val="000000"/>
            </a:solidFill>
            <a:miter/>
            <a:tailEnd len="med" type="triangle" w="med"/>
          </a:ln>
        </p:spPr>
      </p:cxnSp>
      <p:sp>
        <p:nvSpPr>
          <p:cNvPr id="121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1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2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2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2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2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3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3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33" name=""/>
          <p:cNvCxnSpPr>
            <a:stCxn id="1194" idx="6"/>
            <a:endCxn id="120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3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5"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3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3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8"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9"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40"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1"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2"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3"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4882D5-D369-4F46-9B3A-DBF3B84087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2454120" y="1019160"/>
            <a:ext cx="5384880" cy="4564080"/>
          </a:xfrm>
          <a:custGeom>
            <a:avLst/>
            <a:gdLst/>
            <a:ahLst/>
            <a:rect l="l" t="t" r="r" b="b"/>
            <a:pathLst>
              <a:path w="3392" h="2875">
                <a:moveTo>
                  <a:pt x="597" y="44"/>
                </a:moveTo>
                <a:cubicBezTo>
                  <a:pt x="523" y="34"/>
                  <a:pt x="451" y="20"/>
                  <a:pt x="377" y="10"/>
                </a:cubicBezTo>
                <a:cubicBezTo>
                  <a:pt x="300" y="14"/>
                  <a:pt x="181" y="0"/>
                  <a:pt x="106" y="53"/>
                </a:cubicBezTo>
                <a:cubicBezTo>
                  <a:pt x="79" y="72"/>
                  <a:pt x="61" y="105"/>
                  <a:pt x="38" y="129"/>
                </a:cubicBezTo>
                <a:cubicBezTo>
                  <a:pt x="29" y="157"/>
                  <a:pt x="14" y="178"/>
                  <a:pt x="4" y="205"/>
                </a:cubicBezTo>
                <a:cubicBezTo>
                  <a:pt x="9" y="273"/>
                  <a:pt x="0" y="342"/>
                  <a:pt x="38" y="400"/>
                </a:cubicBezTo>
                <a:cubicBezTo>
                  <a:pt x="67" y="491"/>
                  <a:pt x="147" y="560"/>
                  <a:pt x="224" y="612"/>
                </a:cubicBezTo>
                <a:cubicBezTo>
                  <a:pt x="259" y="636"/>
                  <a:pt x="284" y="666"/>
                  <a:pt x="326" y="679"/>
                </a:cubicBezTo>
                <a:cubicBezTo>
                  <a:pt x="343" y="690"/>
                  <a:pt x="366" y="696"/>
                  <a:pt x="377" y="713"/>
                </a:cubicBezTo>
                <a:cubicBezTo>
                  <a:pt x="383" y="722"/>
                  <a:pt x="386" y="732"/>
                  <a:pt x="394" y="739"/>
                </a:cubicBezTo>
                <a:cubicBezTo>
                  <a:pt x="401" y="745"/>
                  <a:pt x="411" y="744"/>
                  <a:pt x="419" y="747"/>
                </a:cubicBezTo>
                <a:cubicBezTo>
                  <a:pt x="467" y="821"/>
                  <a:pt x="403" y="735"/>
                  <a:pt x="462" y="781"/>
                </a:cubicBezTo>
                <a:cubicBezTo>
                  <a:pt x="470" y="787"/>
                  <a:pt x="471" y="799"/>
                  <a:pt x="478" y="806"/>
                </a:cubicBezTo>
                <a:cubicBezTo>
                  <a:pt x="502" y="828"/>
                  <a:pt x="529" y="846"/>
                  <a:pt x="555" y="866"/>
                </a:cubicBezTo>
                <a:cubicBezTo>
                  <a:pt x="571" y="879"/>
                  <a:pt x="589" y="889"/>
                  <a:pt x="606" y="900"/>
                </a:cubicBezTo>
                <a:cubicBezTo>
                  <a:pt x="614" y="906"/>
                  <a:pt x="631" y="917"/>
                  <a:pt x="631" y="917"/>
                </a:cubicBezTo>
                <a:cubicBezTo>
                  <a:pt x="652" y="947"/>
                  <a:pt x="736" y="1047"/>
                  <a:pt x="775" y="1061"/>
                </a:cubicBezTo>
                <a:cubicBezTo>
                  <a:pt x="800" y="1096"/>
                  <a:pt x="813" y="1113"/>
                  <a:pt x="834" y="1145"/>
                </a:cubicBezTo>
                <a:cubicBezTo>
                  <a:pt x="840" y="1154"/>
                  <a:pt x="845" y="1162"/>
                  <a:pt x="851" y="1171"/>
                </a:cubicBezTo>
                <a:cubicBezTo>
                  <a:pt x="857" y="1179"/>
                  <a:pt x="868" y="1196"/>
                  <a:pt x="868" y="1196"/>
                </a:cubicBezTo>
                <a:cubicBezTo>
                  <a:pt x="877" y="1231"/>
                  <a:pt x="891" y="1263"/>
                  <a:pt x="902" y="1298"/>
                </a:cubicBezTo>
                <a:cubicBezTo>
                  <a:pt x="917" y="1438"/>
                  <a:pt x="919" y="1533"/>
                  <a:pt x="910" y="1687"/>
                </a:cubicBezTo>
                <a:cubicBezTo>
                  <a:pt x="907" y="1732"/>
                  <a:pt x="891" y="1781"/>
                  <a:pt x="877" y="1823"/>
                </a:cubicBezTo>
                <a:cubicBezTo>
                  <a:pt x="858" y="1881"/>
                  <a:pt x="850" y="1943"/>
                  <a:pt x="834" y="2001"/>
                </a:cubicBezTo>
                <a:cubicBezTo>
                  <a:pt x="812" y="2078"/>
                  <a:pt x="791" y="2154"/>
                  <a:pt x="766" y="2230"/>
                </a:cubicBezTo>
                <a:cubicBezTo>
                  <a:pt x="758" y="2255"/>
                  <a:pt x="749" y="2281"/>
                  <a:pt x="741" y="2306"/>
                </a:cubicBezTo>
                <a:cubicBezTo>
                  <a:pt x="738" y="2314"/>
                  <a:pt x="733" y="2331"/>
                  <a:pt x="733" y="2331"/>
                </a:cubicBezTo>
                <a:cubicBezTo>
                  <a:pt x="706" y="2558"/>
                  <a:pt x="740" y="2781"/>
                  <a:pt x="987" y="2839"/>
                </a:cubicBezTo>
                <a:cubicBezTo>
                  <a:pt x="1058" y="2875"/>
                  <a:pt x="1136" y="2868"/>
                  <a:pt x="1215" y="2873"/>
                </a:cubicBezTo>
                <a:cubicBezTo>
                  <a:pt x="1546" y="2869"/>
                  <a:pt x="1842" y="2857"/>
                  <a:pt x="2164" y="2839"/>
                </a:cubicBezTo>
                <a:cubicBezTo>
                  <a:pt x="2384" y="2771"/>
                  <a:pt x="2623" y="2780"/>
                  <a:pt x="2850" y="2772"/>
                </a:cubicBezTo>
                <a:cubicBezTo>
                  <a:pt x="2964" y="2755"/>
                  <a:pt x="3062" y="2745"/>
                  <a:pt x="3164" y="2695"/>
                </a:cubicBezTo>
                <a:cubicBezTo>
                  <a:pt x="3199" y="2678"/>
                  <a:pt x="3234" y="2672"/>
                  <a:pt x="3265" y="2645"/>
                </a:cubicBezTo>
                <a:cubicBezTo>
                  <a:pt x="3303" y="2611"/>
                  <a:pt x="3324" y="2577"/>
                  <a:pt x="3358" y="2543"/>
                </a:cubicBezTo>
                <a:cubicBezTo>
                  <a:pt x="3369" y="2512"/>
                  <a:pt x="3384" y="2491"/>
                  <a:pt x="3392" y="2458"/>
                </a:cubicBezTo>
                <a:cubicBezTo>
                  <a:pt x="3387" y="2391"/>
                  <a:pt x="3390" y="2297"/>
                  <a:pt x="3350" y="2238"/>
                </a:cubicBezTo>
                <a:cubicBezTo>
                  <a:pt x="3333" y="2185"/>
                  <a:pt x="3302" y="2149"/>
                  <a:pt x="3257" y="2119"/>
                </a:cubicBezTo>
                <a:cubicBezTo>
                  <a:pt x="3205" y="2042"/>
                  <a:pt x="3277" y="2137"/>
                  <a:pt x="3214" y="2086"/>
                </a:cubicBezTo>
                <a:cubicBezTo>
                  <a:pt x="3160" y="2042"/>
                  <a:pt x="3238" y="2072"/>
                  <a:pt x="3172" y="2052"/>
                </a:cubicBezTo>
                <a:cubicBezTo>
                  <a:pt x="3113" y="2013"/>
                  <a:pt x="3062" y="1971"/>
                  <a:pt x="2994" y="1950"/>
                </a:cubicBezTo>
                <a:cubicBezTo>
                  <a:pt x="2968" y="1933"/>
                  <a:pt x="2945" y="1930"/>
                  <a:pt x="2918" y="1916"/>
                </a:cubicBezTo>
                <a:cubicBezTo>
                  <a:pt x="2884" y="1898"/>
                  <a:pt x="2853" y="1885"/>
                  <a:pt x="2816" y="1874"/>
                </a:cubicBezTo>
                <a:cubicBezTo>
                  <a:pt x="2755" y="1833"/>
                  <a:pt x="2675" y="1820"/>
                  <a:pt x="2605" y="1798"/>
                </a:cubicBezTo>
                <a:cubicBezTo>
                  <a:pt x="2575" y="1778"/>
                  <a:pt x="2545" y="1775"/>
                  <a:pt x="2511" y="1764"/>
                </a:cubicBezTo>
                <a:cubicBezTo>
                  <a:pt x="2444" y="1742"/>
                  <a:pt x="2376" y="1722"/>
                  <a:pt x="2308" y="1704"/>
                </a:cubicBezTo>
                <a:cubicBezTo>
                  <a:pt x="2275" y="1682"/>
                  <a:pt x="2253" y="1680"/>
                  <a:pt x="2215" y="1670"/>
                </a:cubicBezTo>
                <a:cubicBezTo>
                  <a:pt x="2198" y="1665"/>
                  <a:pt x="2164" y="1654"/>
                  <a:pt x="2164" y="1654"/>
                </a:cubicBezTo>
                <a:cubicBezTo>
                  <a:pt x="2113" y="1620"/>
                  <a:pt x="2062" y="1594"/>
                  <a:pt x="2012" y="1560"/>
                </a:cubicBezTo>
                <a:cubicBezTo>
                  <a:pt x="2003" y="1554"/>
                  <a:pt x="1995" y="1549"/>
                  <a:pt x="1986" y="1543"/>
                </a:cubicBezTo>
                <a:cubicBezTo>
                  <a:pt x="1978" y="1537"/>
                  <a:pt x="1961" y="1526"/>
                  <a:pt x="1961" y="1526"/>
                </a:cubicBezTo>
                <a:cubicBezTo>
                  <a:pt x="1914" y="1456"/>
                  <a:pt x="1978" y="1544"/>
                  <a:pt x="1918" y="1484"/>
                </a:cubicBezTo>
                <a:cubicBezTo>
                  <a:pt x="1892" y="1458"/>
                  <a:pt x="1889" y="1414"/>
                  <a:pt x="1868" y="1382"/>
                </a:cubicBezTo>
                <a:cubicBezTo>
                  <a:pt x="1848" y="1273"/>
                  <a:pt x="1875" y="1035"/>
                  <a:pt x="1910" y="925"/>
                </a:cubicBezTo>
                <a:cubicBezTo>
                  <a:pt x="1916" y="886"/>
                  <a:pt x="1923" y="852"/>
                  <a:pt x="1935" y="815"/>
                </a:cubicBezTo>
                <a:cubicBezTo>
                  <a:pt x="1953" y="662"/>
                  <a:pt x="2037" y="422"/>
                  <a:pt x="1893" y="324"/>
                </a:cubicBezTo>
                <a:cubicBezTo>
                  <a:pt x="1835" y="235"/>
                  <a:pt x="1683" y="162"/>
                  <a:pt x="1580" y="146"/>
                </a:cubicBezTo>
                <a:cubicBezTo>
                  <a:pt x="1505" y="121"/>
                  <a:pt x="1547" y="131"/>
                  <a:pt x="1453" y="120"/>
                </a:cubicBezTo>
                <a:cubicBezTo>
                  <a:pt x="1306" y="75"/>
                  <a:pt x="1138" y="89"/>
                  <a:pt x="987" y="78"/>
                </a:cubicBezTo>
                <a:cubicBezTo>
                  <a:pt x="856" y="69"/>
                  <a:pt x="729" y="44"/>
                  <a:pt x="597" y="44"/>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6),(h,6),(c,11),(r,14),(q,16) }</a:t>
            </a:r>
            <a:endParaRPr b="0" lang="en-US" sz="2800" spc="-1" strike="noStrike">
              <a:solidFill>
                <a:srgbClr val="000000"/>
              </a:solidFill>
              <a:latin typeface="Arial"/>
            </a:endParaRPr>
          </a:p>
        </p:txBody>
      </p:sp>
      <p:sp>
        <p:nvSpPr>
          <p:cNvPr id="124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24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24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249"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25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25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25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25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5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55" name=""/>
          <p:cNvSpPr/>
          <p:nvPr/>
        </p:nvSpPr>
        <p:spPr>
          <a:xfrm>
            <a:off x="2625840" y="1141560"/>
            <a:ext cx="7156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5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5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58" name=""/>
          <p:cNvCxnSpPr>
            <a:stCxn id="1246" idx="5"/>
            <a:endCxn id="125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59" name=""/>
          <p:cNvCxnSpPr>
            <a:stCxn id="1250" idx="5"/>
            <a:endCxn id="125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60" name=""/>
          <p:cNvCxnSpPr>
            <a:stCxn id="1254" idx="3"/>
            <a:endCxn id="125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61" name=""/>
          <p:cNvCxnSpPr>
            <a:stCxn id="1254" idx="2"/>
            <a:endCxn id="125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62" name=""/>
          <p:cNvCxnSpPr>
            <a:stCxn id="1253" idx="4"/>
            <a:endCxn id="125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263" name=""/>
          <p:cNvCxnSpPr>
            <a:stCxn id="1253" idx="5"/>
            <a:endCxn id="125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264" name=""/>
          <p:cNvCxnSpPr>
            <a:stCxn id="1257" idx="0"/>
            <a:endCxn id="125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65" name=""/>
          <p:cNvCxnSpPr>
            <a:stCxn id="1256" idx="0"/>
            <a:endCxn id="124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66" name=""/>
          <p:cNvCxnSpPr>
            <a:stCxn id="124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67" name=""/>
          <p:cNvCxnSpPr>
            <a:stCxn id="1248" idx="1"/>
            <a:endCxn id="1249"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68" name=""/>
          <p:cNvCxnSpPr>
            <a:endCxn id="1255" idx="2"/>
          </p:cNvCxnSpPr>
          <p:nvPr/>
        </p:nvCxnSpPr>
        <p:spPr>
          <a:xfrm flipV="1">
            <a:off x="1961640" y="1515600"/>
            <a:ext cx="645480" cy="410400"/>
          </a:xfrm>
          <a:prstGeom prst="straightConnector1">
            <a:avLst/>
          </a:prstGeom>
          <a:ln w="9360">
            <a:solidFill>
              <a:srgbClr val="000000"/>
            </a:solidFill>
            <a:miter/>
            <a:tailEnd len="med" type="triangle" w="med"/>
          </a:ln>
        </p:spPr>
      </p:cxnSp>
      <p:cxnSp>
        <p:nvCxnSpPr>
          <p:cNvPr id="1269" name=""/>
          <p:cNvCxnSpPr>
            <a:stCxn id="1252" idx="2"/>
            <a:endCxn id="1255" idx="6"/>
          </p:cNvCxnSpPr>
          <p:nvPr/>
        </p:nvCxnSpPr>
        <p:spPr>
          <a:xfrm flipH="1" flipV="1">
            <a:off x="3360240" y="1515240"/>
            <a:ext cx="1200960" cy="600840"/>
          </a:xfrm>
          <a:prstGeom prst="straightConnector1">
            <a:avLst/>
          </a:prstGeom>
          <a:ln w="9360">
            <a:solidFill>
              <a:srgbClr val="000000"/>
            </a:solidFill>
            <a:miter/>
            <a:tailEnd len="med" type="triangle" w="med"/>
          </a:ln>
        </p:spPr>
      </p:cxnSp>
      <p:cxnSp>
        <p:nvCxnSpPr>
          <p:cNvPr id="1270" name=""/>
          <p:cNvCxnSpPr>
            <a:stCxn id="1248" idx="7"/>
            <a:endCxn id="125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71" name=""/>
          <p:cNvCxnSpPr>
            <a:stCxn id="1248" idx="6"/>
            <a:endCxn id="125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272" name=""/>
          <p:cNvCxnSpPr>
            <a:stCxn id="1256" idx="1"/>
            <a:endCxn id="125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73" name=""/>
          <p:cNvCxnSpPr>
            <a:stCxn id="1246" idx="6"/>
            <a:endCxn id="125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27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7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7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7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8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8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90" name=""/>
          <p:cNvCxnSpPr>
            <a:stCxn id="1251" idx="6"/>
            <a:endCxn id="125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9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9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9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9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9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0"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1"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2"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1CF204-A613-46E8-82FC-EAC364BD5C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3478320" y="1359000"/>
            <a:ext cx="4281480" cy="4359240"/>
          </a:xfrm>
          <a:custGeom>
            <a:avLst/>
            <a:gdLst/>
            <a:ahLst/>
            <a:rect l="l" t="t" r="r" b="b"/>
            <a:pathLst>
              <a:path w="2697" h="2746">
                <a:moveTo>
                  <a:pt x="604" y="381"/>
                </a:moveTo>
                <a:cubicBezTo>
                  <a:pt x="574" y="426"/>
                  <a:pt x="554" y="469"/>
                  <a:pt x="528" y="516"/>
                </a:cubicBezTo>
                <a:cubicBezTo>
                  <a:pt x="506" y="554"/>
                  <a:pt x="494" y="553"/>
                  <a:pt x="477" y="609"/>
                </a:cubicBezTo>
                <a:cubicBezTo>
                  <a:pt x="458" y="670"/>
                  <a:pt x="437" y="734"/>
                  <a:pt x="401" y="787"/>
                </a:cubicBezTo>
                <a:cubicBezTo>
                  <a:pt x="388" y="829"/>
                  <a:pt x="374" y="869"/>
                  <a:pt x="350" y="906"/>
                </a:cubicBezTo>
                <a:cubicBezTo>
                  <a:pt x="336" y="982"/>
                  <a:pt x="288" y="1037"/>
                  <a:pt x="265" y="1109"/>
                </a:cubicBezTo>
                <a:cubicBezTo>
                  <a:pt x="246" y="1170"/>
                  <a:pt x="259" y="1145"/>
                  <a:pt x="232" y="1185"/>
                </a:cubicBezTo>
                <a:cubicBezTo>
                  <a:pt x="218" y="1237"/>
                  <a:pt x="196" y="1286"/>
                  <a:pt x="181" y="1338"/>
                </a:cubicBezTo>
                <a:cubicBezTo>
                  <a:pt x="140" y="1484"/>
                  <a:pt x="94" y="1629"/>
                  <a:pt x="62" y="1778"/>
                </a:cubicBezTo>
                <a:cubicBezTo>
                  <a:pt x="53" y="1876"/>
                  <a:pt x="36" y="1979"/>
                  <a:pt x="11" y="2075"/>
                </a:cubicBezTo>
                <a:cubicBezTo>
                  <a:pt x="8" y="2117"/>
                  <a:pt x="3" y="2160"/>
                  <a:pt x="3" y="2202"/>
                </a:cubicBezTo>
                <a:cubicBezTo>
                  <a:pt x="3" y="2270"/>
                  <a:pt x="0" y="2506"/>
                  <a:pt x="88" y="2566"/>
                </a:cubicBezTo>
                <a:cubicBezTo>
                  <a:pt x="122" y="2589"/>
                  <a:pt x="155" y="2611"/>
                  <a:pt x="189" y="2634"/>
                </a:cubicBezTo>
                <a:cubicBezTo>
                  <a:pt x="208" y="2647"/>
                  <a:pt x="234" y="2645"/>
                  <a:pt x="257" y="2651"/>
                </a:cubicBezTo>
                <a:cubicBezTo>
                  <a:pt x="397" y="2746"/>
                  <a:pt x="612" y="2664"/>
                  <a:pt x="774" y="2634"/>
                </a:cubicBezTo>
                <a:cubicBezTo>
                  <a:pt x="853" y="2595"/>
                  <a:pt x="789" y="2621"/>
                  <a:pt x="952" y="2608"/>
                </a:cubicBezTo>
                <a:cubicBezTo>
                  <a:pt x="1029" y="2602"/>
                  <a:pt x="1103" y="2589"/>
                  <a:pt x="1180" y="2583"/>
                </a:cubicBezTo>
                <a:cubicBezTo>
                  <a:pt x="1262" y="2586"/>
                  <a:pt x="1344" y="2588"/>
                  <a:pt x="1426" y="2592"/>
                </a:cubicBezTo>
                <a:cubicBezTo>
                  <a:pt x="1539" y="2597"/>
                  <a:pt x="1765" y="2608"/>
                  <a:pt x="1765" y="2608"/>
                </a:cubicBezTo>
                <a:cubicBezTo>
                  <a:pt x="1926" y="2604"/>
                  <a:pt x="2066" y="2597"/>
                  <a:pt x="2222" y="2583"/>
                </a:cubicBezTo>
                <a:cubicBezTo>
                  <a:pt x="2275" y="2573"/>
                  <a:pt x="2321" y="2564"/>
                  <a:pt x="2375" y="2558"/>
                </a:cubicBezTo>
                <a:cubicBezTo>
                  <a:pt x="2404" y="2550"/>
                  <a:pt x="2431" y="2542"/>
                  <a:pt x="2459" y="2532"/>
                </a:cubicBezTo>
                <a:cubicBezTo>
                  <a:pt x="2513" y="2492"/>
                  <a:pt x="2555" y="2462"/>
                  <a:pt x="2603" y="2414"/>
                </a:cubicBezTo>
                <a:cubicBezTo>
                  <a:pt x="2625" y="2392"/>
                  <a:pt x="2636" y="2355"/>
                  <a:pt x="2654" y="2329"/>
                </a:cubicBezTo>
                <a:cubicBezTo>
                  <a:pt x="2683" y="2220"/>
                  <a:pt x="2642" y="2361"/>
                  <a:pt x="2680" y="2270"/>
                </a:cubicBezTo>
                <a:cubicBezTo>
                  <a:pt x="2688" y="2251"/>
                  <a:pt x="2690" y="2230"/>
                  <a:pt x="2697" y="2210"/>
                </a:cubicBezTo>
                <a:cubicBezTo>
                  <a:pt x="2691" y="2140"/>
                  <a:pt x="2694" y="2075"/>
                  <a:pt x="2654" y="2016"/>
                </a:cubicBezTo>
                <a:cubicBezTo>
                  <a:pt x="2640" y="1956"/>
                  <a:pt x="2656" y="2006"/>
                  <a:pt x="2620" y="1948"/>
                </a:cubicBezTo>
                <a:cubicBezTo>
                  <a:pt x="2599" y="1916"/>
                  <a:pt x="2581" y="1883"/>
                  <a:pt x="2553" y="1855"/>
                </a:cubicBezTo>
                <a:cubicBezTo>
                  <a:pt x="2488" y="1790"/>
                  <a:pt x="2402" y="1762"/>
                  <a:pt x="2324" y="1719"/>
                </a:cubicBezTo>
                <a:cubicBezTo>
                  <a:pt x="2267" y="1688"/>
                  <a:pt x="2218" y="1641"/>
                  <a:pt x="2154" y="1626"/>
                </a:cubicBezTo>
                <a:cubicBezTo>
                  <a:pt x="2122" y="1610"/>
                  <a:pt x="2094" y="1587"/>
                  <a:pt x="2061" y="1575"/>
                </a:cubicBezTo>
                <a:cubicBezTo>
                  <a:pt x="2017" y="1559"/>
                  <a:pt x="2028" y="1576"/>
                  <a:pt x="1993" y="1558"/>
                </a:cubicBezTo>
                <a:cubicBezTo>
                  <a:pt x="1911" y="1516"/>
                  <a:pt x="1811" y="1491"/>
                  <a:pt x="1722" y="1465"/>
                </a:cubicBezTo>
                <a:cubicBezTo>
                  <a:pt x="1652" y="1445"/>
                  <a:pt x="1590" y="1406"/>
                  <a:pt x="1519" y="1389"/>
                </a:cubicBezTo>
                <a:cubicBezTo>
                  <a:pt x="1491" y="1370"/>
                  <a:pt x="1465" y="1368"/>
                  <a:pt x="1434" y="1355"/>
                </a:cubicBezTo>
                <a:cubicBezTo>
                  <a:pt x="1396" y="1339"/>
                  <a:pt x="1363" y="1316"/>
                  <a:pt x="1324" y="1304"/>
                </a:cubicBezTo>
                <a:cubicBezTo>
                  <a:pt x="1282" y="1275"/>
                  <a:pt x="1231" y="1265"/>
                  <a:pt x="1189" y="1236"/>
                </a:cubicBezTo>
                <a:cubicBezTo>
                  <a:pt x="1146" y="1172"/>
                  <a:pt x="1146" y="1082"/>
                  <a:pt x="1138" y="1008"/>
                </a:cubicBezTo>
                <a:cubicBezTo>
                  <a:pt x="1152" y="901"/>
                  <a:pt x="1165" y="782"/>
                  <a:pt x="1214" y="686"/>
                </a:cubicBezTo>
                <a:cubicBezTo>
                  <a:pt x="1234" y="646"/>
                  <a:pt x="1236" y="600"/>
                  <a:pt x="1257" y="559"/>
                </a:cubicBezTo>
                <a:cubicBezTo>
                  <a:pt x="1275" y="484"/>
                  <a:pt x="1303" y="413"/>
                  <a:pt x="1316" y="338"/>
                </a:cubicBezTo>
                <a:cubicBezTo>
                  <a:pt x="1313" y="293"/>
                  <a:pt x="1312" y="248"/>
                  <a:pt x="1307" y="203"/>
                </a:cubicBezTo>
                <a:cubicBezTo>
                  <a:pt x="1299" y="128"/>
                  <a:pt x="1215" y="89"/>
                  <a:pt x="1155" y="59"/>
                </a:cubicBezTo>
                <a:cubicBezTo>
                  <a:pt x="1120" y="41"/>
                  <a:pt x="1084" y="26"/>
                  <a:pt x="1045" y="16"/>
                </a:cubicBezTo>
                <a:cubicBezTo>
                  <a:pt x="1023" y="10"/>
                  <a:pt x="977" y="0"/>
                  <a:pt x="977" y="0"/>
                </a:cubicBezTo>
                <a:cubicBezTo>
                  <a:pt x="921" y="3"/>
                  <a:pt x="864" y="3"/>
                  <a:pt x="808" y="8"/>
                </a:cubicBezTo>
                <a:cubicBezTo>
                  <a:pt x="753" y="13"/>
                  <a:pt x="714" y="64"/>
                  <a:pt x="672" y="93"/>
                </a:cubicBezTo>
                <a:cubicBezTo>
                  <a:pt x="617" y="202"/>
                  <a:pt x="694" y="58"/>
                  <a:pt x="630" y="152"/>
                </a:cubicBezTo>
                <a:cubicBezTo>
                  <a:pt x="625" y="159"/>
                  <a:pt x="625" y="169"/>
                  <a:pt x="621" y="177"/>
                </a:cubicBezTo>
                <a:cubicBezTo>
                  <a:pt x="611" y="195"/>
                  <a:pt x="587" y="228"/>
                  <a:pt x="587" y="228"/>
                </a:cubicBezTo>
                <a:cubicBezTo>
                  <a:pt x="549" y="352"/>
                  <a:pt x="494" y="478"/>
                  <a:pt x="494" y="609"/>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4"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h,6),(c,11),(r,14),(q,16) }</a:t>
            </a:r>
            <a:endParaRPr b="0" lang="en-US" sz="2800" spc="-1" strike="noStrike">
              <a:solidFill>
                <a:srgbClr val="000000"/>
              </a:solidFill>
              <a:latin typeface="Arial"/>
            </a:endParaRPr>
          </a:p>
        </p:txBody>
      </p:sp>
      <p:sp>
        <p:nvSpPr>
          <p:cNvPr id="1305"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06"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07"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08"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09"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10"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11"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12"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13" name=""/>
          <p:cNvSpPr/>
          <p:nvPr/>
        </p:nvSpPr>
        <p:spPr>
          <a:xfrm>
            <a:off x="4991040" y="3687840"/>
            <a:ext cx="71604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14"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15"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16"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17" name=""/>
          <p:cNvCxnSpPr>
            <a:stCxn id="1305" idx="5"/>
            <a:endCxn id="1309"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18" name=""/>
          <p:cNvCxnSpPr>
            <a:stCxn id="1309" idx="5"/>
            <a:endCxn id="1310"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319" name=""/>
          <p:cNvCxnSpPr>
            <a:stCxn id="1313" idx="3"/>
            <a:endCxn id="1310" idx="7"/>
          </p:cNvCxnSpPr>
          <p:nvPr/>
        </p:nvCxnSpPr>
        <p:spPr>
          <a:xfrm flipH="1">
            <a:off x="4384080" y="4346280"/>
            <a:ext cx="711720" cy="424440"/>
          </a:xfrm>
          <a:prstGeom prst="straightConnector1">
            <a:avLst/>
          </a:prstGeom>
          <a:ln w="9360">
            <a:solidFill>
              <a:srgbClr val="000000"/>
            </a:solidFill>
            <a:miter/>
            <a:tailEnd len="med" type="triangle" w="med"/>
          </a:ln>
        </p:spPr>
      </p:cxnSp>
      <p:cxnSp>
        <p:nvCxnSpPr>
          <p:cNvPr id="1320" name=""/>
          <p:cNvCxnSpPr>
            <a:stCxn id="1313" idx="2"/>
            <a:endCxn id="1309" idx="6"/>
          </p:cNvCxnSpPr>
          <p:nvPr/>
        </p:nvCxnSpPr>
        <p:spPr>
          <a:xfrm flipH="1">
            <a:off x="2768400" y="4062240"/>
            <a:ext cx="2203920" cy="750240"/>
          </a:xfrm>
          <a:prstGeom prst="straightConnector1">
            <a:avLst/>
          </a:prstGeom>
          <a:ln w="9360">
            <a:solidFill>
              <a:srgbClr val="000000"/>
            </a:solidFill>
            <a:miter/>
            <a:tailEnd len="med" type="triangle" w="med"/>
          </a:ln>
        </p:spPr>
      </p:cxnSp>
      <p:cxnSp>
        <p:nvCxnSpPr>
          <p:cNvPr id="1321" name=""/>
          <p:cNvCxnSpPr>
            <a:stCxn id="1312" idx="4"/>
            <a:endCxn id="1313" idx="7"/>
          </p:cNvCxnSpPr>
          <p:nvPr/>
        </p:nvCxnSpPr>
        <p:spPr>
          <a:xfrm flipH="1">
            <a:off x="5601600" y="3387240"/>
            <a:ext cx="321480" cy="391320"/>
          </a:xfrm>
          <a:prstGeom prst="straightConnector1">
            <a:avLst/>
          </a:prstGeom>
          <a:ln w="9360">
            <a:solidFill>
              <a:srgbClr val="000000"/>
            </a:solidFill>
            <a:miter/>
            <a:tailEnd len="med" type="triangle" w="med"/>
          </a:ln>
        </p:spPr>
      </p:cxnSp>
      <p:cxnSp>
        <p:nvCxnSpPr>
          <p:cNvPr id="1322" name=""/>
          <p:cNvCxnSpPr>
            <a:stCxn id="1312" idx="5"/>
            <a:endCxn id="1316"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23" name=""/>
          <p:cNvCxnSpPr>
            <a:stCxn id="1316" idx="0"/>
            <a:endCxn id="1315"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24" name=""/>
          <p:cNvCxnSpPr>
            <a:stCxn id="1315" idx="0"/>
            <a:endCxn id="1306"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25" name=""/>
          <p:cNvCxnSpPr>
            <a:stCxn id="1305"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26" name=""/>
          <p:cNvCxnSpPr>
            <a:stCxn id="1307" idx="1"/>
            <a:endCxn id="1308"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27" name=""/>
          <p:cNvCxnSpPr>
            <a:endCxn id="1314"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28" name=""/>
          <p:cNvCxnSpPr>
            <a:stCxn id="1311" idx="2"/>
            <a:endCxn id="1314"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29" name=""/>
          <p:cNvCxnSpPr>
            <a:stCxn id="1307" idx="7"/>
            <a:endCxn id="1311"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30" name=""/>
          <p:cNvCxnSpPr>
            <a:stCxn id="1307" idx="6"/>
            <a:endCxn id="1312"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31" name=""/>
          <p:cNvCxnSpPr>
            <a:stCxn id="1315" idx="1"/>
            <a:endCxn id="1311"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32" name=""/>
          <p:cNvCxnSpPr>
            <a:stCxn id="1305" idx="6"/>
            <a:endCxn id="1312"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33"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4"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5"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6"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37"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8"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9"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0"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1"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42"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3"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4"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5"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346"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47"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8"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349" name=""/>
          <p:cNvCxnSpPr>
            <a:stCxn id="1310" idx="6"/>
            <a:endCxn id="1316"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350"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51"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352"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353"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4"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5"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356"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7"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8"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9"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0"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1"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65AD32-DBCB-42CA-A7D9-8BCBDD71FC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3"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364"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65"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66"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67"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68"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69"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70"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71"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72"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73"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74"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75"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76" name=""/>
          <p:cNvCxnSpPr>
            <a:stCxn id="1364" idx="5"/>
            <a:endCxn id="1368"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77" name=""/>
          <p:cNvCxnSpPr>
            <a:stCxn id="1368" idx="5"/>
            <a:endCxn id="1369"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378" name=""/>
          <p:cNvCxnSpPr>
            <a:stCxn id="1372" idx="3"/>
            <a:endCxn id="1369"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379" name=""/>
          <p:cNvCxnSpPr>
            <a:stCxn id="1372" idx="2"/>
            <a:endCxn id="1368"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380" name=""/>
          <p:cNvCxnSpPr>
            <a:stCxn id="1371" idx="4"/>
            <a:endCxn id="1372"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381" name=""/>
          <p:cNvCxnSpPr>
            <a:stCxn id="1371" idx="5"/>
            <a:endCxn id="1375"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82" name=""/>
          <p:cNvCxnSpPr>
            <a:stCxn id="1375" idx="0"/>
            <a:endCxn id="1374"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83" name=""/>
          <p:cNvCxnSpPr>
            <a:stCxn id="1374" idx="0"/>
            <a:endCxn id="1365"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84" name=""/>
          <p:cNvCxnSpPr>
            <a:stCxn id="1364"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85" name=""/>
          <p:cNvCxnSpPr>
            <a:stCxn id="1366" idx="1"/>
            <a:endCxn id="1367"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86" name=""/>
          <p:cNvCxnSpPr>
            <a:endCxn id="1373"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87" name=""/>
          <p:cNvCxnSpPr>
            <a:stCxn id="1370" idx="2"/>
            <a:endCxn id="1373"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88" name=""/>
          <p:cNvCxnSpPr>
            <a:stCxn id="1366" idx="7"/>
            <a:endCxn id="1370"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89" name=""/>
          <p:cNvCxnSpPr>
            <a:stCxn id="1366" idx="6"/>
            <a:endCxn id="1371"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90" name=""/>
          <p:cNvCxnSpPr>
            <a:stCxn id="1374" idx="1"/>
            <a:endCxn id="1370"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91" name=""/>
          <p:cNvCxnSpPr>
            <a:stCxn id="1364" idx="6"/>
            <a:endCxn id="1371"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92"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3"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4"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5"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96"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7"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8"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9"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0"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01"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2"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3"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4"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05"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06"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07"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08" name=""/>
          <p:cNvCxnSpPr>
            <a:stCxn id="1369" idx="6"/>
            <a:endCxn id="1375"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09"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10"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11"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12"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3"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4"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5"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6"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7"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8"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9"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0"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3FE3527-AFEB-4C69-A865-CCC05D1509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42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2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2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2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2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28"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2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3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3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3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3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3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35" name=""/>
          <p:cNvCxnSpPr>
            <a:stCxn id="1423" idx="5"/>
            <a:endCxn id="142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36" name=""/>
          <p:cNvCxnSpPr>
            <a:stCxn id="1427" idx="5"/>
            <a:endCxn id="1428"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437" name=""/>
          <p:cNvCxnSpPr>
            <a:stCxn id="1431" idx="3"/>
            <a:endCxn id="1428"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438" name=""/>
          <p:cNvCxnSpPr>
            <a:stCxn id="1431" idx="2"/>
            <a:endCxn id="142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39" name=""/>
          <p:cNvCxnSpPr>
            <a:stCxn id="1430" idx="4"/>
            <a:endCxn id="143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440" name=""/>
          <p:cNvCxnSpPr>
            <a:stCxn id="1430" idx="5"/>
            <a:endCxn id="143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441" name=""/>
          <p:cNvCxnSpPr>
            <a:stCxn id="1434" idx="0"/>
            <a:endCxn id="143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442" name=""/>
          <p:cNvCxnSpPr>
            <a:stCxn id="1433" idx="0"/>
            <a:endCxn id="142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443" name=""/>
          <p:cNvCxnSpPr>
            <a:stCxn id="142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444" name=""/>
          <p:cNvCxnSpPr>
            <a:stCxn id="1425" idx="1"/>
            <a:endCxn id="142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445" name=""/>
          <p:cNvCxnSpPr>
            <a:endCxn id="143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446" name=""/>
          <p:cNvCxnSpPr>
            <a:stCxn id="1429" idx="2"/>
            <a:endCxn id="143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447" name=""/>
          <p:cNvCxnSpPr>
            <a:stCxn id="1425" idx="7"/>
            <a:endCxn id="142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448" name=""/>
          <p:cNvCxnSpPr>
            <a:stCxn id="1425" idx="6"/>
            <a:endCxn id="143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449" name=""/>
          <p:cNvCxnSpPr>
            <a:stCxn id="1433" idx="1"/>
            <a:endCxn id="142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450" name=""/>
          <p:cNvCxnSpPr>
            <a:stCxn id="1423" idx="6"/>
            <a:endCxn id="143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45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5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5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6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6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6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67" name=""/>
          <p:cNvCxnSpPr>
            <a:stCxn id="1428" idx="6"/>
            <a:endCxn id="1434"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6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7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7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8"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9"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0" name=""/>
          <p:cNvSpPr/>
          <p:nvPr/>
        </p:nvSpPr>
        <p:spPr>
          <a:xfrm rot="21366000">
            <a:off x="281520" y="431640"/>
            <a:ext cx="6995880" cy="212832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t>
            </a:r>
            <a:r>
              <a:rPr b="0" lang="en-US" sz="2400" spc="-1" strike="noStrike">
                <a:solidFill>
                  <a:srgbClr val="000000"/>
                </a:solidFill>
                <a:latin typeface="Arial"/>
              </a:rPr>
              <a:t> found a new way to get to </a:t>
            </a:r>
            <a:r>
              <a:rPr b="1" i="1" lang="en-US" sz="2400" spc="-1" strike="noStrike">
                <a:solidFill>
                  <a:srgbClr val="000000"/>
                </a:solidFill>
                <a:latin typeface="Arial"/>
              </a:rPr>
              <a:t>p</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was more costly than the best known way</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p</a:t>
            </a:r>
            <a:r>
              <a:rPr b="0" lang="en-US" sz="2400" spc="-1" strike="noStrike">
                <a:solidFill>
                  <a:srgbClr val="000000"/>
                </a:solidFill>
                <a:latin typeface="Arial"/>
              </a:rPr>
              <a:t>’s priority was un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25176BE-AD4D-4888-B67C-440E70B7FF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4289400" y="1501920"/>
            <a:ext cx="3522600" cy="3917880"/>
          </a:xfrm>
          <a:custGeom>
            <a:avLst/>
            <a:gdLst/>
            <a:ahLst/>
            <a:rect l="l" t="t" r="r" b="b"/>
            <a:pathLst>
              <a:path w="2219" h="2468">
                <a:moveTo>
                  <a:pt x="51" y="299"/>
                </a:moveTo>
                <a:cubicBezTo>
                  <a:pt x="44" y="355"/>
                  <a:pt x="27" y="398"/>
                  <a:pt x="17" y="452"/>
                </a:cubicBezTo>
                <a:cubicBezTo>
                  <a:pt x="11" y="483"/>
                  <a:pt x="0" y="545"/>
                  <a:pt x="0" y="545"/>
                </a:cubicBezTo>
                <a:cubicBezTo>
                  <a:pt x="3" y="596"/>
                  <a:pt x="4" y="646"/>
                  <a:pt x="9" y="697"/>
                </a:cubicBezTo>
                <a:cubicBezTo>
                  <a:pt x="13" y="734"/>
                  <a:pt x="40" y="771"/>
                  <a:pt x="59" y="799"/>
                </a:cubicBezTo>
                <a:cubicBezTo>
                  <a:pt x="103" y="865"/>
                  <a:pt x="154" y="923"/>
                  <a:pt x="220" y="968"/>
                </a:cubicBezTo>
                <a:cubicBezTo>
                  <a:pt x="245" y="1007"/>
                  <a:pt x="255" y="991"/>
                  <a:pt x="288" y="1019"/>
                </a:cubicBezTo>
                <a:cubicBezTo>
                  <a:pt x="330" y="1054"/>
                  <a:pt x="295" y="1039"/>
                  <a:pt x="339" y="1053"/>
                </a:cubicBezTo>
                <a:cubicBezTo>
                  <a:pt x="379" y="1080"/>
                  <a:pt x="428" y="1097"/>
                  <a:pt x="474" y="1112"/>
                </a:cubicBezTo>
                <a:cubicBezTo>
                  <a:pt x="483" y="1118"/>
                  <a:pt x="491" y="1124"/>
                  <a:pt x="500" y="1129"/>
                </a:cubicBezTo>
                <a:cubicBezTo>
                  <a:pt x="508" y="1133"/>
                  <a:pt x="517" y="1134"/>
                  <a:pt x="525" y="1138"/>
                </a:cubicBezTo>
                <a:cubicBezTo>
                  <a:pt x="588" y="1174"/>
                  <a:pt x="642" y="1217"/>
                  <a:pt x="712" y="1239"/>
                </a:cubicBezTo>
                <a:cubicBezTo>
                  <a:pt x="770" y="1278"/>
                  <a:pt x="743" y="1266"/>
                  <a:pt x="788" y="1282"/>
                </a:cubicBezTo>
                <a:cubicBezTo>
                  <a:pt x="796" y="1290"/>
                  <a:pt x="803" y="1300"/>
                  <a:pt x="813" y="1307"/>
                </a:cubicBezTo>
                <a:cubicBezTo>
                  <a:pt x="821" y="1312"/>
                  <a:pt x="832" y="1310"/>
                  <a:pt x="839" y="1316"/>
                </a:cubicBezTo>
                <a:cubicBezTo>
                  <a:pt x="847" y="1322"/>
                  <a:pt x="849" y="1334"/>
                  <a:pt x="856" y="1341"/>
                </a:cubicBezTo>
                <a:cubicBezTo>
                  <a:pt x="863" y="1348"/>
                  <a:pt x="873" y="1352"/>
                  <a:pt x="881" y="1358"/>
                </a:cubicBezTo>
                <a:cubicBezTo>
                  <a:pt x="899" y="1385"/>
                  <a:pt x="924" y="1435"/>
                  <a:pt x="949" y="1460"/>
                </a:cubicBezTo>
                <a:cubicBezTo>
                  <a:pt x="977" y="1488"/>
                  <a:pt x="1012" y="1524"/>
                  <a:pt x="1025" y="1561"/>
                </a:cubicBezTo>
                <a:cubicBezTo>
                  <a:pt x="1037" y="1596"/>
                  <a:pt x="1055" y="1632"/>
                  <a:pt x="1076" y="1663"/>
                </a:cubicBezTo>
                <a:cubicBezTo>
                  <a:pt x="1097" y="1727"/>
                  <a:pt x="1146" y="1789"/>
                  <a:pt x="1186" y="1841"/>
                </a:cubicBezTo>
                <a:cubicBezTo>
                  <a:pt x="1252" y="1927"/>
                  <a:pt x="1303" y="2028"/>
                  <a:pt x="1381" y="2103"/>
                </a:cubicBezTo>
                <a:cubicBezTo>
                  <a:pt x="1394" y="2145"/>
                  <a:pt x="1435" y="2183"/>
                  <a:pt x="1466" y="2214"/>
                </a:cubicBezTo>
                <a:cubicBezTo>
                  <a:pt x="1484" y="2270"/>
                  <a:pt x="1459" y="2210"/>
                  <a:pt x="1499" y="2256"/>
                </a:cubicBezTo>
                <a:cubicBezTo>
                  <a:pt x="1541" y="2305"/>
                  <a:pt x="1517" y="2300"/>
                  <a:pt x="1559" y="2332"/>
                </a:cubicBezTo>
                <a:cubicBezTo>
                  <a:pt x="1575" y="2344"/>
                  <a:pt x="1610" y="2366"/>
                  <a:pt x="1610" y="2366"/>
                </a:cubicBezTo>
                <a:cubicBezTo>
                  <a:pt x="1637" y="2408"/>
                  <a:pt x="1611" y="2379"/>
                  <a:pt x="1652" y="2400"/>
                </a:cubicBezTo>
                <a:cubicBezTo>
                  <a:pt x="1775" y="2463"/>
                  <a:pt x="1749" y="2455"/>
                  <a:pt x="1898" y="2468"/>
                </a:cubicBezTo>
                <a:cubicBezTo>
                  <a:pt x="1980" y="2462"/>
                  <a:pt x="2028" y="2456"/>
                  <a:pt x="2101" y="2434"/>
                </a:cubicBezTo>
                <a:cubicBezTo>
                  <a:pt x="2109" y="2425"/>
                  <a:pt x="2117" y="2416"/>
                  <a:pt x="2126" y="2408"/>
                </a:cubicBezTo>
                <a:cubicBezTo>
                  <a:pt x="2134" y="2401"/>
                  <a:pt x="2146" y="2400"/>
                  <a:pt x="2152" y="2391"/>
                </a:cubicBezTo>
                <a:cubicBezTo>
                  <a:pt x="2164" y="2374"/>
                  <a:pt x="2161" y="2351"/>
                  <a:pt x="2169" y="2332"/>
                </a:cubicBezTo>
                <a:cubicBezTo>
                  <a:pt x="2182" y="2302"/>
                  <a:pt x="2200" y="2278"/>
                  <a:pt x="2211" y="2247"/>
                </a:cubicBezTo>
                <a:cubicBezTo>
                  <a:pt x="2207" y="2174"/>
                  <a:pt x="2219" y="2096"/>
                  <a:pt x="2194" y="2027"/>
                </a:cubicBezTo>
                <a:cubicBezTo>
                  <a:pt x="2162" y="1941"/>
                  <a:pt x="2077" y="1869"/>
                  <a:pt x="1991" y="1841"/>
                </a:cubicBezTo>
                <a:cubicBezTo>
                  <a:pt x="1949" y="1813"/>
                  <a:pt x="1905" y="1794"/>
                  <a:pt x="1855" y="1782"/>
                </a:cubicBezTo>
                <a:cubicBezTo>
                  <a:pt x="1808" y="1750"/>
                  <a:pt x="1749" y="1748"/>
                  <a:pt x="1694" y="1739"/>
                </a:cubicBezTo>
                <a:cubicBezTo>
                  <a:pt x="1632" y="1729"/>
                  <a:pt x="1570" y="1711"/>
                  <a:pt x="1508" y="1697"/>
                </a:cubicBezTo>
                <a:cubicBezTo>
                  <a:pt x="1472" y="1674"/>
                  <a:pt x="1415" y="1656"/>
                  <a:pt x="1372" y="1646"/>
                </a:cubicBezTo>
                <a:cubicBezTo>
                  <a:pt x="1333" y="1607"/>
                  <a:pt x="1357" y="1628"/>
                  <a:pt x="1296" y="1587"/>
                </a:cubicBezTo>
                <a:cubicBezTo>
                  <a:pt x="1276" y="1574"/>
                  <a:pt x="1265" y="1549"/>
                  <a:pt x="1245" y="1536"/>
                </a:cubicBezTo>
                <a:cubicBezTo>
                  <a:pt x="1228" y="1525"/>
                  <a:pt x="1194" y="1502"/>
                  <a:pt x="1194" y="1502"/>
                </a:cubicBezTo>
                <a:cubicBezTo>
                  <a:pt x="1172" y="1468"/>
                  <a:pt x="1137" y="1458"/>
                  <a:pt x="1101" y="1434"/>
                </a:cubicBezTo>
                <a:cubicBezTo>
                  <a:pt x="1042" y="1394"/>
                  <a:pt x="982" y="1355"/>
                  <a:pt x="923" y="1316"/>
                </a:cubicBezTo>
                <a:cubicBezTo>
                  <a:pt x="895" y="1297"/>
                  <a:pt x="852" y="1242"/>
                  <a:pt x="830" y="1214"/>
                </a:cubicBezTo>
                <a:cubicBezTo>
                  <a:pt x="817" y="1198"/>
                  <a:pt x="807" y="1180"/>
                  <a:pt x="796" y="1163"/>
                </a:cubicBezTo>
                <a:cubicBezTo>
                  <a:pt x="790" y="1155"/>
                  <a:pt x="779" y="1138"/>
                  <a:pt x="779" y="1138"/>
                </a:cubicBezTo>
                <a:cubicBezTo>
                  <a:pt x="770" y="1109"/>
                  <a:pt x="762" y="1087"/>
                  <a:pt x="746" y="1062"/>
                </a:cubicBezTo>
                <a:cubicBezTo>
                  <a:pt x="735" y="952"/>
                  <a:pt x="734" y="821"/>
                  <a:pt x="771" y="714"/>
                </a:cubicBezTo>
                <a:cubicBezTo>
                  <a:pt x="783" y="638"/>
                  <a:pt x="801" y="562"/>
                  <a:pt x="813" y="486"/>
                </a:cubicBezTo>
                <a:cubicBezTo>
                  <a:pt x="822" y="349"/>
                  <a:pt x="828" y="361"/>
                  <a:pt x="813" y="240"/>
                </a:cubicBezTo>
                <a:cubicBezTo>
                  <a:pt x="812" y="235"/>
                  <a:pt x="802" y="188"/>
                  <a:pt x="796" y="181"/>
                </a:cubicBezTo>
                <a:cubicBezTo>
                  <a:pt x="790" y="173"/>
                  <a:pt x="779" y="171"/>
                  <a:pt x="771" y="164"/>
                </a:cubicBezTo>
                <a:cubicBezTo>
                  <a:pt x="715" y="116"/>
                  <a:pt x="665" y="70"/>
                  <a:pt x="593" y="45"/>
                </a:cubicBezTo>
                <a:cubicBezTo>
                  <a:pt x="462" y="0"/>
                  <a:pt x="594" y="46"/>
                  <a:pt x="517" y="20"/>
                </a:cubicBezTo>
                <a:cubicBezTo>
                  <a:pt x="500" y="14"/>
                  <a:pt x="466" y="3"/>
                  <a:pt x="466" y="3"/>
                </a:cubicBezTo>
                <a:cubicBezTo>
                  <a:pt x="410" y="6"/>
                  <a:pt x="353" y="6"/>
                  <a:pt x="297" y="11"/>
                </a:cubicBezTo>
                <a:cubicBezTo>
                  <a:pt x="270" y="13"/>
                  <a:pt x="246" y="37"/>
                  <a:pt x="220" y="45"/>
                </a:cubicBezTo>
                <a:cubicBezTo>
                  <a:pt x="190" y="65"/>
                  <a:pt x="191" y="84"/>
                  <a:pt x="161" y="104"/>
                </a:cubicBezTo>
                <a:cubicBezTo>
                  <a:pt x="123" y="161"/>
                  <a:pt x="97" y="226"/>
                  <a:pt x="59" y="282"/>
                </a:cubicBezTo>
                <a:cubicBezTo>
                  <a:pt x="50" y="311"/>
                  <a:pt x="51" y="317"/>
                  <a:pt x="51" y="29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c,11),(r,13) }</a:t>
            </a:r>
            <a:endParaRPr b="0" lang="en-US" sz="2800" spc="-1" strike="noStrike">
              <a:solidFill>
                <a:srgbClr val="000000"/>
              </a:solidFill>
              <a:latin typeface="Arial"/>
            </a:endParaRPr>
          </a:p>
        </p:txBody>
      </p:sp>
      <p:sp>
        <p:nvSpPr>
          <p:cNvPr id="14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89" name=""/>
          <p:cNvSpPr/>
          <p:nvPr/>
        </p:nvSpPr>
        <p:spPr>
          <a:xfrm>
            <a:off x="4560840" y="174132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95" name=""/>
          <p:cNvCxnSpPr>
            <a:stCxn id="1483" idx="5"/>
            <a:endCxn id="14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96" name=""/>
          <p:cNvCxnSpPr>
            <a:stCxn id="1487" idx="5"/>
            <a:endCxn id="14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497" name=""/>
          <p:cNvCxnSpPr>
            <a:stCxn id="1491" idx="3"/>
            <a:endCxn id="14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498" name=""/>
          <p:cNvCxnSpPr>
            <a:stCxn id="1491" idx="2"/>
            <a:endCxn id="14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99" name=""/>
          <p:cNvCxnSpPr>
            <a:stCxn id="1490" idx="4"/>
            <a:endCxn id="14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00" name=""/>
          <p:cNvCxnSpPr>
            <a:stCxn id="1490" idx="5"/>
            <a:endCxn id="14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501" name=""/>
          <p:cNvCxnSpPr>
            <a:stCxn id="1494" idx="0"/>
            <a:endCxn id="14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502" name=""/>
          <p:cNvCxnSpPr>
            <a:stCxn id="1493" idx="0"/>
            <a:endCxn id="14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03" name=""/>
          <p:cNvCxnSpPr>
            <a:stCxn id="14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04" name=""/>
          <p:cNvCxnSpPr>
            <a:stCxn id="1485" idx="1"/>
            <a:endCxn id="14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05" name=""/>
          <p:cNvCxnSpPr>
            <a:endCxn id="14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06" name=""/>
          <p:cNvCxnSpPr>
            <a:stCxn id="1489" idx="2"/>
            <a:endCxn id="1492" idx="6"/>
          </p:cNvCxnSpPr>
          <p:nvPr/>
        </p:nvCxnSpPr>
        <p:spPr>
          <a:xfrm flipH="1" flipV="1">
            <a:off x="3341160" y="1515240"/>
            <a:ext cx="1200960" cy="600840"/>
          </a:xfrm>
          <a:prstGeom prst="straightConnector1">
            <a:avLst/>
          </a:prstGeom>
          <a:ln w="9360">
            <a:solidFill>
              <a:srgbClr val="000000"/>
            </a:solidFill>
            <a:miter/>
            <a:tailEnd len="med" type="triangle" w="med"/>
          </a:ln>
        </p:spPr>
      </p:cxnSp>
      <p:cxnSp>
        <p:nvCxnSpPr>
          <p:cNvPr id="1507" name=""/>
          <p:cNvCxnSpPr>
            <a:stCxn id="1485" idx="7"/>
            <a:endCxn id="1489" idx="3"/>
          </p:cNvCxnSpPr>
          <p:nvPr/>
        </p:nvCxnSpPr>
        <p:spPr>
          <a:xfrm flipV="1">
            <a:off x="3452400" y="2398320"/>
            <a:ext cx="1213560" cy="650160"/>
          </a:xfrm>
          <a:prstGeom prst="straightConnector1">
            <a:avLst/>
          </a:prstGeom>
          <a:ln w="9360">
            <a:solidFill>
              <a:srgbClr val="000000"/>
            </a:solidFill>
            <a:miter/>
            <a:tailEnd len="med" type="triangle" w="med"/>
          </a:ln>
        </p:spPr>
      </p:cxnSp>
      <p:cxnSp>
        <p:nvCxnSpPr>
          <p:cNvPr id="1508" name=""/>
          <p:cNvCxnSpPr>
            <a:stCxn id="1485" idx="6"/>
            <a:endCxn id="14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09" name=""/>
          <p:cNvCxnSpPr>
            <a:stCxn id="1493" idx="1"/>
            <a:endCxn id="1489" idx="6"/>
          </p:cNvCxnSpPr>
          <p:nvPr/>
        </p:nvCxnSpPr>
        <p:spPr>
          <a:xfrm flipV="1" rot="16200000">
            <a:off x="5693040" y="1718280"/>
            <a:ext cx="1083240" cy="1878840"/>
          </a:xfrm>
          <a:prstGeom prst="curvedConnector2">
            <a:avLst/>
          </a:prstGeom>
          <a:ln w="9360">
            <a:solidFill>
              <a:srgbClr val="000000"/>
            </a:solidFill>
            <a:miter/>
            <a:tailEnd len="med" type="triangle" w="med"/>
          </a:ln>
        </p:spPr>
      </p:cxnSp>
      <p:cxnSp>
        <p:nvCxnSpPr>
          <p:cNvPr id="1510" name=""/>
          <p:cNvCxnSpPr>
            <a:stCxn id="1483" idx="6"/>
            <a:endCxn id="14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27" name=""/>
          <p:cNvCxnSpPr>
            <a:stCxn id="1488" idx="6"/>
            <a:endCxn id="14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5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291ED4-06F4-491D-82A2-00285972A9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6562800" y="4235400"/>
            <a:ext cx="1384200" cy="1263600"/>
          </a:xfrm>
          <a:custGeom>
            <a:avLst/>
            <a:gdLst/>
            <a:ahLst/>
            <a:rect l="l" t="t" r="r" b="b"/>
            <a:pathLst>
              <a:path w="872" h="796">
                <a:moveTo>
                  <a:pt x="152" y="0"/>
                </a:moveTo>
                <a:cubicBezTo>
                  <a:pt x="141" y="35"/>
                  <a:pt x="131" y="48"/>
                  <a:pt x="101" y="68"/>
                </a:cubicBezTo>
                <a:cubicBezTo>
                  <a:pt x="90" y="102"/>
                  <a:pt x="72" y="124"/>
                  <a:pt x="50" y="153"/>
                </a:cubicBezTo>
                <a:cubicBezTo>
                  <a:pt x="30" y="215"/>
                  <a:pt x="57" y="139"/>
                  <a:pt x="25" y="204"/>
                </a:cubicBezTo>
                <a:cubicBezTo>
                  <a:pt x="12" y="230"/>
                  <a:pt x="9" y="261"/>
                  <a:pt x="0" y="288"/>
                </a:cubicBezTo>
                <a:cubicBezTo>
                  <a:pt x="5" y="369"/>
                  <a:pt x="9" y="420"/>
                  <a:pt x="34" y="492"/>
                </a:cubicBezTo>
                <a:cubicBezTo>
                  <a:pt x="58" y="667"/>
                  <a:pt x="153" y="772"/>
                  <a:pt x="330" y="796"/>
                </a:cubicBezTo>
                <a:cubicBezTo>
                  <a:pt x="398" y="793"/>
                  <a:pt x="466" y="795"/>
                  <a:pt x="533" y="788"/>
                </a:cubicBezTo>
                <a:cubicBezTo>
                  <a:pt x="568" y="784"/>
                  <a:pt x="635" y="763"/>
                  <a:pt x="635" y="763"/>
                </a:cubicBezTo>
                <a:cubicBezTo>
                  <a:pt x="684" y="739"/>
                  <a:pt x="734" y="726"/>
                  <a:pt x="779" y="695"/>
                </a:cubicBezTo>
                <a:cubicBezTo>
                  <a:pt x="790" y="678"/>
                  <a:pt x="802" y="661"/>
                  <a:pt x="813" y="644"/>
                </a:cubicBezTo>
                <a:cubicBezTo>
                  <a:pt x="819" y="636"/>
                  <a:pt x="830" y="619"/>
                  <a:pt x="830" y="619"/>
                </a:cubicBezTo>
                <a:cubicBezTo>
                  <a:pt x="833" y="608"/>
                  <a:pt x="834" y="596"/>
                  <a:pt x="838" y="585"/>
                </a:cubicBezTo>
                <a:cubicBezTo>
                  <a:pt x="842" y="575"/>
                  <a:pt x="851" y="569"/>
                  <a:pt x="855" y="559"/>
                </a:cubicBezTo>
                <a:cubicBezTo>
                  <a:pt x="863" y="537"/>
                  <a:pt x="872" y="492"/>
                  <a:pt x="872" y="492"/>
                </a:cubicBezTo>
                <a:cubicBezTo>
                  <a:pt x="868" y="436"/>
                  <a:pt x="865" y="359"/>
                  <a:pt x="838" y="305"/>
                </a:cubicBezTo>
                <a:cubicBezTo>
                  <a:pt x="785" y="200"/>
                  <a:pt x="647" y="95"/>
                  <a:pt x="533" y="68"/>
                </a:cubicBezTo>
                <a:cubicBezTo>
                  <a:pt x="468" y="36"/>
                  <a:pt x="437" y="21"/>
                  <a:pt x="364" y="9"/>
                </a:cubicBezTo>
                <a:cubicBezTo>
                  <a:pt x="313" y="12"/>
                  <a:pt x="262" y="12"/>
                  <a:pt x="211" y="17"/>
                </a:cubicBezTo>
                <a:cubicBezTo>
                  <a:pt x="193" y="19"/>
                  <a:pt x="154" y="36"/>
                  <a:pt x="152" y="34"/>
                </a:cubicBezTo>
                <a:cubicBezTo>
                  <a:pt x="144" y="26"/>
                  <a:pt x="152" y="11"/>
                  <a:pt x="152" y="0"/>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r,13) }</a:t>
            </a:r>
            <a:endParaRPr b="0" lang="en-US" sz="2800" spc="-1" strike="noStrike">
              <a:solidFill>
                <a:srgbClr val="000000"/>
              </a:solidFill>
              <a:latin typeface="Arial"/>
            </a:endParaRPr>
          </a:p>
        </p:txBody>
      </p:sp>
      <p:sp>
        <p:nvSpPr>
          <p:cNvPr id="154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54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54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54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54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54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54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54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55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55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55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553" name=""/>
          <p:cNvSpPr/>
          <p:nvPr/>
        </p:nvSpPr>
        <p:spPr>
          <a:xfrm>
            <a:off x="6781680" y="443700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554" name=""/>
          <p:cNvCxnSpPr>
            <a:stCxn id="1542" idx="5"/>
            <a:endCxn id="154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555" name=""/>
          <p:cNvCxnSpPr>
            <a:stCxn id="1546" idx="5"/>
            <a:endCxn id="154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556" name=""/>
          <p:cNvCxnSpPr>
            <a:stCxn id="1550" idx="3"/>
            <a:endCxn id="154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557" name=""/>
          <p:cNvCxnSpPr>
            <a:stCxn id="1550" idx="2"/>
            <a:endCxn id="154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558" name=""/>
          <p:cNvCxnSpPr>
            <a:stCxn id="1549" idx="4"/>
            <a:endCxn id="155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59" name=""/>
          <p:cNvCxnSpPr>
            <a:stCxn id="1549" idx="5"/>
            <a:endCxn id="1553" idx="1"/>
          </p:cNvCxnSpPr>
          <p:nvPr/>
        </p:nvCxnSpPr>
        <p:spPr>
          <a:xfrm>
            <a:off x="6175080" y="3277800"/>
            <a:ext cx="711720" cy="1250280"/>
          </a:xfrm>
          <a:prstGeom prst="straightConnector1">
            <a:avLst/>
          </a:prstGeom>
          <a:ln w="9360">
            <a:solidFill>
              <a:srgbClr val="000000"/>
            </a:solidFill>
            <a:miter/>
            <a:tailEnd len="med" type="triangle" w="med"/>
          </a:ln>
        </p:spPr>
      </p:cxnSp>
      <p:cxnSp>
        <p:nvCxnSpPr>
          <p:cNvPr id="1560" name=""/>
          <p:cNvCxnSpPr>
            <a:stCxn id="1553" idx="0"/>
            <a:endCxn id="1552" idx="4"/>
          </p:cNvCxnSpPr>
          <p:nvPr/>
        </p:nvCxnSpPr>
        <p:spPr>
          <a:xfrm flipV="1">
            <a:off x="7140600" y="3836880"/>
            <a:ext cx="288000" cy="581400"/>
          </a:xfrm>
          <a:prstGeom prst="straightConnector1">
            <a:avLst/>
          </a:prstGeom>
          <a:ln w="9360">
            <a:solidFill>
              <a:srgbClr val="000000"/>
            </a:solidFill>
            <a:miter/>
            <a:tailEnd len="med" type="triangle" w="med"/>
          </a:ln>
        </p:spPr>
      </p:cxnSp>
      <p:cxnSp>
        <p:nvCxnSpPr>
          <p:cNvPr id="1561" name=""/>
          <p:cNvCxnSpPr>
            <a:stCxn id="1552" idx="0"/>
            <a:endCxn id="154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62" name=""/>
          <p:cNvCxnSpPr>
            <a:stCxn id="154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63" name=""/>
          <p:cNvCxnSpPr>
            <a:stCxn id="1544" idx="1"/>
            <a:endCxn id="154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64" name=""/>
          <p:cNvCxnSpPr>
            <a:endCxn id="155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65" name=""/>
          <p:cNvCxnSpPr>
            <a:stCxn id="1548" idx="2"/>
            <a:endCxn id="155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566" name=""/>
          <p:cNvCxnSpPr>
            <a:stCxn id="1544" idx="7"/>
            <a:endCxn id="154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567" name=""/>
          <p:cNvCxnSpPr>
            <a:stCxn id="1544" idx="6"/>
            <a:endCxn id="154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68" name=""/>
          <p:cNvCxnSpPr>
            <a:stCxn id="1552" idx="1"/>
            <a:endCxn id="154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569" name=""/>
          <p:cNvCxnSpPr>
            <a:stCxn id="1542" idx="6"/>
            <a:endCxn id="154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7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7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7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7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8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8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8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86" name=""/>
          <p:cNvCxnSpPr>
            <a:stCxn id="1547" idx="6"/>
            <a:endCxn id="1553" idx="2"/>
          </p:cNvCxnSpPr>
          <p:nvPr/>
        </p:nvCxnSpPr>
        <p:spPr>
          <a:xfrm flipV="1">
            <a:off x="4489560" y="4811400"/>
            <a:ext cx="2273760" cy="224640"/>
          </a:xfrm>
          <a:prstGeom prst="straightConnector1">
            <a:avLst/>
          </a:prstGeom>
          <a:ln w="9360">
            <a:solidFill>
              <a:srgbClr val="000000"/>
            </a:solidFill>
            <a:miter/>
            <a:tailEnd len="med" type="triangle" w="med"/>
          </a:ln>
        </p:spPr>
      </p:cxnSp>
      <p:sp>
        <p:nvSpPr>
          <p:cNvPr id="158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8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9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11B29E-B24B-48E1-B25A-955C0FE10B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79"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80" name=""/>
          <p:cNvGrpSpPr/>
          <p:nvPr/>
        </p:nvGrpSpPr>
        <p:grpSpPr>
          <a:xfrm>
            <a:off x="2133720" y="1143000"/>
            <a:ext cx="4419000" cy="2361960"/>
            <a:chOff x="2133720" y="1143000"/>
            <a:chExt cx="4419000" cy="2361960"/>
          </a:xfrm>
        </p:grpSpPr>
        <p:sp>
          <p:nvSpPr>
            <p:cNvPr id="81"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82"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83"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4"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5"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6"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8"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9"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0"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2"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 name=""/>
            <p:cNvCxnSpPr>
              <a:stCxn id="81" idx="5"/>
              <a:endCxn id="85"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94" name=""/>
            <p:cNvCxnSpPr>
              <a:stCxn id="85" idx="5"/>
              <a:endCxn id="86"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95" name=""/>
            <p:cNvCxnSpPr>
              <a:stCxn id="89" idx="3"/>
              <a:endCxn id="86"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96" name=""/>
            <p:cNvCxnSpPr>
              <a:stCxn id="89" idx="2"/>
              <a:endCxn id="85"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97" name=""/>
            <p:cNvCxnSpPr>
              <a:stCxn id="88" idx="4"/>
              <a:endCxn id="89"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98" name=""/>
            <p:cNvCxnSpPr>
              <a:stCxn id="88" idx="5"/>
              <a:endCxn id="92"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99" name=""/>
            <p:cNvCxnSpPr>
              <a:stCxn id="92" idx="0"/>
              <a:endCxn id="91"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00" name=""/>
            <p:cNvCxnSpPr>
              <a:stCxn id="91" idx="0"/>
              <a:endCxn id="82"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01" name=""/>
            <p:cNvCxnSpPr>
              <a:stCxn id="81"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02" name=""/>
            <p:cNvCxnSpPr>
              <a:stCxn id="83" idx="1"/>
              <a:endCxn id="84"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03" name=""/>
            <p:cNvCxnSpPr>
              <a:endCxn id="90"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04" name=""/>
            <p:cNvCxnSpPr>
              <a:stCxn id="87" idx="2"/>
              <a:endCxn id="90"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05" name=""/>
            <p:cNvCxnSpPr>
              <a:stCxn id="83" idx="7"/>
              <a:endCxn id="87"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06" name=""/>
            <p:cNvCxnSpPr>
              <a:stCxn id="83" idx="6"/>
              <a:endCxn id="88"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07" name=""/>
            <p:cNvCxnSpPr>
              <a:stCxn id="91" idx="1"/>
              <a:endCxn id="87"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08" name=""/>
            <p:cNvCxnSpPr>
              <a:stCxn id="81" idx="6"/>
              <a:endCxn id="88"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29FF84CD-B80C-4F7E-A381-9F6645E746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6851520" y="2851200"/>
            <a:ext cx="1312920" cy="1244520"/>
          </a:xfrm>
          <a:custGeom>
            <a:avLst/>
            <a:gdLst/>
            <a:ahLst/>
            <a:rect l="l" t="t" r="r" b="b"/>
            <a:pathLst>
              <a:path w="827" h="784">
                <a:moveTo>
                  <a:pt x="309" y="0"/>
                </a:moveTo>
                <a:cubicBezTo>
                  <a:pt x="278" y="23"/>
                  <a:pt x="259" y="31"/>
                  <a:pt x="224" y="42"/>
                </a:cubicBezTo>
                <a:cubicBezTo>
                  <a:pt x="216" y="48"/>
                  <a:pt x="208" y="55"/>
                  <a:pt x="199" y="59"/>
                </a:cubicBezTo>
                <a:cubicBezTo>
                  <a:pt x="188" y="64"/>
                  <a:pt x="175" y="62"/>
                  <a:pt x="165" y="68"/>
                </a:cubicBezTo>
                <a:cubicBezTo>
                  <a:pt x="115" y="95"/>
                  <a:pt x="95" y="121"/>
                  <a:pt x="55" y="161"/>
                </a:cubicBezTo>
                <a:cubicBezTo>
                  <a:pt x="36" y="180"/>
                  <a:pt x="28" y="222"/>
                  <a:pt x="12" y="245"/>
                </a:cubicBezTo>
                <a:cubicBezTo>
                  <a:pt x="1" y="336"/>
                  <a:pt x="0" y="313"/>
                  <a:pt x="12" y="423"/>
                </a:cubicBezTo>
                <a:cubicBezTo>
                  <a:pt x="18" y="480"/>
                  <a:pt x="16" y="451"/>
                  <a:pt x="38" y="491"/>
                </a:cubicBezTo>
                <a:cubicBezTo>
                  <a:pt x="47" y="507"/>
                  <a:pt x="70" y="562"/>
                  <a:pt x="89" y="584"/>
                </a:cubicBezTo>
                <a:cubicBezTo>
                  <a:pt x="116" y="614"/>
                  <a:pt x="140" y="647"/>
                  <a:pt x="173" y="669"/>
                </a:cubicBezTo>
                <a:cubicBezTo>
                  <a:pt x="287" y="744"/>
                  <a:pt x="414" y="754"/>
                  <a:pt x="546" y="779"/>
                </a:cubicBezTo>
                <a:cubicBezTo>
                  <a:pt x="705" y="771"/>
                  <a:pt x="665" y="784"/>
                  <a:pt x="758" y="737"/>
                </a:cubicBezTo>
                <a:cubicBezTo>
                  <a:pt x="777" y="675"/>
                  <a:pt x="749" y="750"/>
                  <a:pt x="792" y="686"/>
                </a:cubicBezTo>
                <a:cubicBezTo>
                  <a:pt x="811" y="658"/>
                  <a:pt x="814" y="608"/>
                  <a:pt x="826" y="576"/>
                </a:cubicBezTo>
                <a:cubicBezTo>
                  <a:pt x="823" y="519"/>
                  <a:pt x="827" y="462"/>
                  <a:pt x="817" y="406"/>
                </a:cubicBezTo>
                <a:cubicBezTo>
                  <a:pt x="809" y="360"/>
                  <a:pt x="762" y="312"/>
                  <a:pt x="741" y="271"/>
                </a:cubicBezTo>
                <a:cubicBezTo>
                  <a:pt x="720" y="230"/>
                  <a:pt x="693" y="215"/>
                  <a:pt x="656" y="178"/>
                </a:cubicBezTo>
                <a:cubicBezTo>
                  <a:pt x="542" y="64"/>
                  <a:pt x="360" y="51"/>
                  <a:pt x="207" y="51"/>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0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f,18) }</a:t>
            </a:r>
            <a:endParaRPr b="0" lang="en-US" sz="2800" spc="-1" strike="noStrike">
              <a:solidFill>
                <a:srgbClr val="000000"/>
              </a:solidFill>
              <a:latin typeface="Arial"/>
            </a:endParaRPr>
          </a:p>
        </p:txBody>
      </p:sp>
      <p:sp>
        <p:nvSpPr>
          <p:cNvPr id="160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02"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0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0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0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0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0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0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0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1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11" name=""/>
          <p:cNvSpPr/>
          <p:nvPr/>
        </p:nvSpPr>
        <p:spPr>
          <a:xfrm>
            <a:off x="7068960" y="308916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1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13" name=""/>
          <p:cNvCxnSpPr>
            <a:stCxn id="1601" idx="5"/>
            <a:endCxn id="160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14" name=""/>
          <p:cNvCxnSpPr>
            <a:stCxn id="1605" idx="5"/>
            <a:endCxn id="160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15" name=""/>
          <p:cNvCxnSpPr>
            <a:stCxn id="1609" idx="3"/>
            <a:endCxn id="160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16" name=""/>
          <p:cNvCxnSpPr>
            <a:stCxn id="1609" idx="2"/>
            <a:endCxn id="160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17" name=""/>
          <p:cNvCxnSpPr>
            <a:stCxn id="1608" idx="4"/>
            <a:endCxn id="160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18" name=""/>
          <p:cNvCxnSpPr>
            <a:stCxn id="1608" idx="5"/>
            <a:endCxn id="161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19" name=""/>
          <p:cNvCxnSpPr>
            <a:stCxn id="1612" idx="0"/>
            <a:endCxn id="1611" idx="4"/>
          </p:cNvCxnSpPr>
          <p:nvPr/>
        </p:nvCxnSpPr>
        <p:spPr>
          <a:xfrm flipV="1">
            <a:off x="7140600" y="3855960"/>
            <a:ext cx="288000" cy="581400"/>
          </a:xfrm>
          <a:prstGeom prst="straightConnector1">
            <a:avLst/>
          </a:prstGeom>
          <a:ln w="9360">
            <a:solidFill>
              <a:srgbClr val="000000"/>
            </a:solidFill>
            <a:miter/>
            <a:tailEnd len="med" type="triangle" w="med"/>
          </a:ln>
        </p:spPr>
      </p:cxnSp>
      <p:cxnSp>
        <p:nvCxnSpPr>
          <p:cNvPr id="1620" name=""/>
          <p:cNvCxnSpPr>
            <a:stCxn id="1611" idx="0"/>
            <a:endCxn id="1602" idx="4"/>
          </p:cNvCxnSpPr>
          <p:nvPr/>
        </p:nvCxnSpPr>
        <p:spPr>
          <a:xfrm flipV="1">
            <a:off x="7427880" y="1815480"/>
            <a:ext cx="216720" cy="1254600"/>
          </a:xfrm>
          <a:prstGeom prst="straightConnector1">
            <a:avLst/>
          </a:prstGeom>
          <a:ln w="9360">
            <a:solidFill>
              <a:srgbClr val="000000"/>
            </a:solidFill>
            <a:miter/>
            <a:tailEnd len="med" type="triangle" w="med"/>
          </a:ln>
        </p:spPr>
      </p:cxnSp>
      <p:cxnSp>
        <p:nvCxnSpPr>
          <p:cNvPr id="1621" name=""/>
          <p:cNvCxnSpPr>
            <a:stCxn id="160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22" name=""/>
          <p:cNvCxnSpPr>
            <a:stCxn id="1603" idx="1"/>
            <a:endCxn id="160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23" name=""/>
          <p:cNvCxnSpPr>
            <a:endCxn id="161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24" name=""/>
          <p:cNvCxnSpPr>
            <a:stCxn id="1607" idx="2"/>
            <a:endCxn id="161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25" name=""/>
          <p:cNvCxnSpPr>
            <a:stCxn id="1603" idx="7"/>
            <a:endCxn id="160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26" name=""/>
          <p:cNvCxnSpPr>
            <a:stCxn id="1603" idx="6"/>
            <a:endCxn id="160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27" name=""/>
          <p:cNvCxnSpPr>
            <a:stCxn id="1611" idx="1"/>
            <a:endCxn id="1607" idx="6"/>
          </p:cNvCxnSpPr>
          <p:nvPr/>
        </p:nvCxnSpPr>
        <p:spPr>
          <a:xfrm flipV="1" rot="16200000">
            <a:off x="5693040" y="1698480"/>
            <a:ext cx="1064520" cy="1897920"/>
          </a:xfrm>
          <a:prstGeom prst="curvedConnector2">
            <a:avLst/>
          </a:prstGeom>
          <a:ln w="9360">
            <a:solidFill>
              <a:srgbClr val="000000"/>
            </a:solidFill>
            <a:miter/>
            <a:tailEnd len="med" type="triangle" w="med"/>
          </a:ln>
        </p:spPr>
      </p:cxnSp>
      <p:cxnSp>
        <p:nvCxnSpPr>
          <p:cNvPr id="1628" name=""/>
          <p:cNvCxnSpPr>
            <a:stCxn id="1601" idx="6"/>
            <a:endCxn id="160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2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3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3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64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4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645" name=""/>
          <p:cNvCxnSpPr>
            <a:stCxn id="1606" idx="6"/>
            <a:endCxn id="161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64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64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64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8241C02-A73E-4954-B6F1-31546EE8A3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6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66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62"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6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6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6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6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6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6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6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7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71"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7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73" name=""/>
          <p:cNvCxnSpPr>
            <a:stCxn id="1661" idx="5"/>
            <a:endCxn id="166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74" name=""/>
          <p:cNvCxnSpPr>
            <a:stCxn id="1665" idx="5"/>
            <a:endCxn id="166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75" name=""/>
          <p:cNvCxnSpPr>
            <a:stCxn id="1669" idx="3"/>
            <a:endCxn id="166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76" name=""/>
          <p:cNvCxnSpPr>
            <a:stCxn id="1669" idx="2"/>
            <a:endCxn id="166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77" name=""/>
          <p:cNvCxnSpPr>
            <a:stCxn id="1668" idx="4"/>
            <a:endCxn id="166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78" name=""/>
          <p:cNvCxnSpPr>
            <a:stCxn id="1668" idx="5"/>
            <a:endCxn id="167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79" name=""/>
          <p:cNvCxnSpPr>
            <a:stCxn id="1672" idx="0"/>
            <a:endCxn id="1671"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680" name=""/>
          <p:cNvCxnSpPr>
            <a:stCxn id="1671" idx="0"/>
            <a:endCxn id="1662"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681" name=""/>
          <p:cNvCxnSpPr>
            <a:stCxn id="166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82" name=""/>
          <p:cNvCxnSpPr>
            <a:stCxn id="1663" idx="1"/>
            <a:endCxn id="166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83" name=""/>
          <p:cNvCxnSpPr>
            <a:endCxn id="167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84" name=""/>
          <p:cNvCxnSpPr>
            <a:stCxn id="1667" idx="2"/>
            <a:endCxn id="167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85" name=""/>
          <p:cNvCxnSpPr>
            <a:stCxn id="1663" idx="7"/>
            <a:endCxn id="166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86" name=""/>
          <p:cNvCxnSpPr>
            <a:stCxn id="1663" idx="6"/>
            <a:endCxn id="166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87" name=""/>
          <p:cNvCxnSpPr>
            <a:stCxn id="1671" idx="1"/>
            <a:endCxn id="1667"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688" name=""/>
          <p:cNvCxnSpPr>
            <a:stCxn id="1661" idx="6"/>
            <a:endCxn id="166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8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9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9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0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0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05" name=""/>
          <p:cNvCxnSpPr>
            <a:stCxn id="1666" idx="6"/>
            <a:endCxn id="167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0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0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0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9"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C04E0C-C141-4D7E-9995-8C4CFEA938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2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7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23"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2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34" name=""/>
          <p:cNvCxnSpPr>
            <a:stCxn id="1722" idx="5"/>
            <a:endCxn id="17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35" name=""/>
          <p:cNvCxnSpPr>
            <a:stCxn id="1726" idx="5"/>
            <a:endCxn id="17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36" name=""/>
          <p:cNvCxnSpPr>
            <a:stCxn id="1730" idx="3"/>
            <a:endCxn id="17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37" name=""/>
          <p:cNvCxnSpPr>
            <a:stCxn id="1730" idx="2"/>
            <a:endCxn id="17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38" name=""/>
          <p:cNvCxnSpPr>
            <a:stCxn id="1729" idx="4"/>
            <a:endCxn id="17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739" name=""/>
          <p:cNvCxnSpPr>
            <a:stCxn id="1729" idx="5"/>
            <a:endCxn id="17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740" name=""/>
          <p:cNvCxnSpPr>
            <a:stCxn id="1733" idx="0"/>
            <a:endCxn id="17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741" name=""/>
          <p:cNvCxnSpPr>
            <a:stCxn id="1732" idx="0"/>
            <a:endCxn id="1723"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742" name=""/>
          <p:cNvCxnSpPr>
            <a:stCxn id="17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743" name=""/>
          <p:cNvCxnSpPr>
            <a:stCxn id="1724" idx="1"/>
            <a:endCxn id="172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744" name=""/>
          <p:cNvCxnSpPr>
            <a:endCxn id="17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745" name=""/>
          <p:cNvCxnSpPr>
            <a:stCxn id="1728" idx="2"/>
            <a:endCxn id="17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746" name=""/>
          <p:cNvCxnSpPr>
            <a:stCxn id="1724" idx="7"/>
            <a:endCxn id="172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747" name=""/>
          <p:cNvCxnSpPr>
            <a:stCxn id="1724" idx="6"/>
            <a:endCxn id="172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748" name=""/>
          <p:cNvCxnSpPr>
            <a:stCxn id="1732" idx="1"/>
            <a:endCxn id="17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749" name=""/>
          <p:cNvCxnSpPr>
            <a:stCxn id="1722" idx="6"/>
            <a:endCxn id="17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7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7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7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66" name=""/>
          <p:cNvCxnSpPr>
            <a:stCxn id="1727" idx="6"/>
            <a:endCxn id="17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9"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0"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1" name=""/>
          <p:cNvSpPr/>
          <p:nvPr/>
        </p:nvSpPr>
        <p:spPr>
          <a:xfrm rot="21366000">
            <a:off x="237600" y="43344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Is “terminate as soon as you discover the goal” the right stopping criter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C9A8DC7-8D48-4426-9225-A687548E93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endParaRPr b="0" lang="en-US" sz="2800" spc="-1" strike="noStrike">
              <a:solidFill>
                <a:srgbClr val="000000"/>
              </a:solidFill>
              <a:latin typeface="Arial"/>
            </a:endParaRPr>
          </a:p>
        </p:txBody>
      </p:sp>
      <p:sp>
        <p:nvSpPr>
          <p:cNvPr id="17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8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95" name=""/>
          <p:cNvCxnSpPr>
            <a:stCxn id="1783" idx="5"/>
            <a:endCxn id="17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96" name=""/>
          <p:cNvCxnSpPr>
            <a:stCxn id="1787" idx="5"/>
            <a:endCxn id="17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97" name=""/>
          <p:cNvCxnSpPr>
            <a:stCxn id="1791" idx="3"/>
            <a:endCxn id="17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98" name=""/>
          <p:cNvCxnSpPr>
            <a:stCxn id="1791" idx="2"/>
            <a:endCxn id="17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99" name=""/>
          <p:cNvCxnSpPr>
            <a:stCxn id="1790" idx="4"/>
            <a:endCxn id="17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800" name=""/>
          <p:cNvCxnSpPr>
            <a:stCxn id="1790" idx="5"/>
            <a:endCxn id="17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801" name=""/>
          <p:cNvCxnSpPr>
            <a:stCxn id="1794" idx="0"/>
            <a:endCxn id="17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802" name=""/>
          <p:cNvCxnSpPr>
            <a:stCxn id="1793" idx="0"/>
            <a:endCxn id="17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803" name=""/>
          <p:cNvCxnSpPr>
            <a:stCxn id="17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804" name=""/>
          <p:cNvCxnSpPr>
            <a:stCxn id="1785" idx="1"/>
            <a:endCxn id="17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805" name=""/>
          <p:cNvCxnSpPr>
            <a:endCxn id="17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806" name=""/>
          <p:cNvCxnSpPr>
            <a:stCxn id="1789" idx="2"/>
            <a:endCxn id="179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807" name=""/>
          <p:cNvCxnSpPr>
            <a:stCxn id="1785" idx="7"/>
            <a:endCxn id="178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808" name=""/>
          <p:cNvCxnSpPr>
            <a:stCxn id="1785" idx="6"/>
            <a:endCxn id="17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809" name=""/>
          <p:cNvCxnSpPr>
            <a:stCxn id="1793" idx="1"/>
            <a:endCxn id="178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810" name=""/>
          <p:cNvCxnSpPr>
            <a:stCxn id="1783" idx="6"/>
            <a:endCxn id="17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8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8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8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8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827" name=""/>
          <p:cNvCxnSpPr>
            <a:stCxn id="1788" idx="6"/>
            <a:endCxn id="17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8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8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terminates</a:t>
            </a:r>
            <a:endParaRPr b="0" lang="en-US" sz="4400" spc="-1" strike="noStrike">
              <a:solidFill>
                <a:srgbClr val="000000"/>
              </a:solidFill>
              <a:latin typeface="Arial"/>
            </a:endParaRPr>
          </a:p>
        </p:txBody>
      </p:sp>
      <p:sp>
        <p:nvSpPr>
          <p:cNvPr id="18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0"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1"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2" name=""/>
          <p:cNvSpPr/>
          <p:nvPr/>
        </p:nvSpPr>
        <p:spPr>
          <a:xfrm rot="21366000">
            <a:off x="394920" y="266688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only once the goal is popped from the priority queue. Else we may miss a shorter path.</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EB0D2E5-79C9-4466-9E8D-10D5243981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sp>
        <p:nvSpPr>
          <p:cNvPr id="1844" name="PlaceHolder 2"/>
          <p:cNvSpPr>
            <a:spLocks noGrp="1"/>
          </p:cNvSpPr>
          <p:nvPr>
            <p:ph/>
          </p:nvPr>
        </p:nvSpPr>
        <p:spPr>
          <a:xfrm>
            <a:off x="152280" y="837720"/>
            <a:ext cx="8839440" cy="2590920"/>
          </a:xfrm>
          <a:prstGeom prst="rect">
            <a:avLst/>
          </a:prstGeom>
          <a:noFill/>
          <a:ln w="0">
            <a:noFill/>
          </a:ln>
        </p:spPr>
        <p:txBody>
          <a:bodyPr lIns="90000" rIns="90000" tIns="46800" bIns="46800" anchor="t">
            <a:normAutofit/>
          </a:bodyPr>
          <a:p>
            <a:pPr marL="403200" indent="-403200">
              <a:spcBef>
                <a:spcPts val="1199"/>
              </a:spcBef>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Completeness</a:t>
            </a:r>
            <a:r>
              <a:rPr b="0" lang="en-US" sz="2400" spc="-1" strike="noStrike">
                <a:solidFill>
                  <a:srgbClr val="000000"/>
                </a:solidFill>
                <a:latin typeface="Arial"/>
              </a:rPr>
              <a:t>: is the algorithm guaranteed to find a solution if a </a:t>
            </a:r>
            <a:r>
              <a:rPr b="0" lang="en-US" sz="2400" spc="-1" strike="noStrike">
                <a:solidFill>
                  <a:srgbClr val="000000"/>
                </a:solidFill>
                <a:latin typeface="Arial"/>
              </a:rPr>
              <a:t>	</a:t>
            </a:r>
            <a:r>
              <a:rPr b="0" lang="en-US" sz="2400" spc="-1" strike="noStrike">
                <a:solidFill>
                  <a:srgbClr val="000000"/>
                </a:solidFill>
                <a:latin typeface="Arial"/>
              </a:rPr>
              <a:t>solution exists?</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Guaranteed to find </a:t>
            </a:r>
            <a:r>
              <a:rPr b="0" lang="en-US" sz="2400" spc="-1" strike="noStrike">
                <a:solidFill>
                  <a:srgbClr val="cc3300"/>
                </a:solidFill>
                <a:latin typeface="Arial"/>
              </a:rPr>
              <a:t>optimal?</a:t>
            </a:r>
            <a:r>
              <a:rPr b="0" lang="en-US" sz="2400" spc="-1" strike="noStrike">
                <a:solidFill>
                  <a:srgbClr val="000000"/>
                </a:solidFill>
                <a:latin typeface="Arial"/>
              </a:rPr>
              <a:t> (will it find the least cost path?)</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Algorithmic </a:t>
            </a:r>
            <a:r>
              <a:rPr b="0" lang="en-US" sz="2400" spc="-1" strike="noStrike">
                <a:solidFill>
                  <a:srgbClr val="cc3300"/>
                </a:solidFill>
                <a:latin typeface="Arial"/>
              </a:rPr>
              <a:t>time complexity</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Space complexity</a:t>
            </a:r>
            <a:r>
              <a:rPr b="0" lang="en-US" sz="2400" spc="-1" strike="noStrike">
                <a:solidFill>
                  <a:srgbClr val="000000"/>
                </a:solidFill>
                <a:latin typeface="Arial"/>
              </a:rPr>
              <a:t> (memory use)</a:t>
            </a:r>
            <a:endParaRPr b="0" lang="en-US" sz="2400" spc="-1" strike="noStrike">
              <a:solidFill>
                <a:srgbClr val="000000"/>
              </a:solidFill>
              <a:latin typeface="Arial"/>
            </a:endParaRPr>
          </a:p>
          <a:p>
            <a:pPr marL="403200" indent="0">
              <a:spcBef>
                <a:spcPts val="1199"/>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Variables:</a:t>
            </a:r>
            <a:endParaRPr b="0" lang="en-US" sz="2400" spc="-1" strike="noStrike">
              <a:solidFill>
                <a:srgbClr val="000000"/>
              </a:solidFill>
              <a:latin typeface="Arial"/>
            </a:endParaRPr>
          </a:p>
        </p:txBody>
      </p:sp>
      <p:graphicFrame>
        <p:nvGraphicFramePr>
          <p:cNvPr id="1845" name=""/>
          <p:cNvGraphicFramePr/>
          <p:nvPr/>
        </p:nvGraphicFramePr>
        <p:xfrm>
          <a:off x="457200" y="3370320"/>
          <a:ext cx="8305560" cy="2116080"/>
        </p:xfrm>
        <a:graphic>
          <a:graphicData uri="http://schemas.openxmlformats.org/drawingml/2006/table">
            <a:tbl>
              <a:tblPr/>
              <a:tblGrid>
                <a:gridCol w="1348920"/>
                <a:gridCol w="695664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tes in the proble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branching factor (the average number of successors) (</a:t>
                      </a:r>
                      <a:r>
                        <a:rPr b="0" i="1" lang="en-US" sz="2400" spc="-1" strike="noStrike">
                          <a:solidFill>
                            <a:srgbClr val="000000"/>
                          </a:solidFill>
                          <a:latin typeface="Arial"/>
                        </a:rPr>
                        <a:t>B</a:t>
                      </a:r>
                      <a:r>
                        <a:rPr b="0" lang="en-US" sz="2400" spc="-1" strike="noStrike">
                          <a:solidFill>
                            <a:srgbClr val="000000"/>
                          </a:solidFill>
                          <a:latin typeface="Arial"/>
                        </a:rPr>
                        <a:t>&g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ngth of the path from start to goal with the shortest number of ste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6" name=""/>
          <p:cNvSpPr/>
          <p:nvPr/>
        </p:nvSpPr>
        <p:spPr>
          <a:xfrm>
            <a:off x="1447920" y="5791320"/>
            <a:ext cx="5790960" cy="609480"/>
          </a:xfrm>
          <a:prstGeom prst="rect">
            <a:avLst/>
          </a:prstGeom>
          <a:noFill/>
          <a:ln w="0">
            <a:noFill/>
          </a:ln>
        </p:spPr>
        <p:style>
          <a:lnRef idx="0"/>
          <a:fillRef idx="0"/>
          <a:effectRef idx="0"/>
          <a:fontRef idx="minor"/>
        </p:style>
        <p:txBody>
          <a:bodyPr lIns="90000" rIns="90000" tIns="46800" bIns="46800" anchor="t">
            <a:normAutofit/>
          </a:bodyPr>
          <a:p>
            <a:pPr marL="403200" indent="-403200">
              <a:spcBef>
                <a:spcPts val="1199"/>
              </a:spcBef>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i="1" lang="en-US" sz="2400" spc="-1" strike="noStrike">
                <a:solidFill>
                  <a:srgbClr val="ff0000"/>
                </a:solidFill>
                <a:latin typeface="Arial"/>
              </a:rPr>
              <a:t>How would we judge our algorith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1BFDDC-44D8-4553-96D5-D6BCA0BDC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48"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9"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og(Q) * 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16A2F43-6283-4E34-819D-9097BBCD2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51"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2"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987337A-0CE4-4D26-ACD9-A86C4572F9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earch Tree Representation</a:t>
            </a:r>
            <a:endParaRPr b="0" lang="en-US" sz="4400" spc="-1" strike="noStrike">
              <a:solidFill>
                <a:srgbClr val="009900"/>
              </a:solidFill>
              <a:latin typeface="Arial"/>
            </a:endParaRPr>
          </a:p>
        </p:txBody>
      </p:sp>
      <p:pic>
        <p:nvPicPr>
          <p:cNvPr id="1854" name="" descr=""/>
          <p:cNvPicPr/>
          <p:nvPr/>
        </p:nvPicPr>
        <p:blipFill>
          <a:blip r:embed="rId1"/>
          <a:stretch/>
        </p:blipFill>
        <p:spPr>
          <a:xfrm>
            <a:off x="2057400" y="3276720"/>
            <a:ext cx="5149800" cy="2744640"/>
          </a:xfrm>
          <a:prstGeom prst="rect">
            <a:avLst/>
          </a:prstGeom>
          <a:ln w="0">
            <a:noFill/>
          </a:ln>
        </p:spPr>
      </p:pic>
      <p:grpSp>
        <p:nvGrpSpPr>
          <p:cNvPr id="1855" name=""/>
          <p:cNvGrpSpPr/>
          <p:nvPr/>
        </p:nvGrpSpPr>
        <p:grpSpPr>
          <a:xfrm>
            <a:off x="2133720" y="1143000"/>
            <a:ext cx="4266720" cy="1981080"/>
            <a:chOff x="2133720" y="1143000"/>
            <a:chExt cx="4266720" cy="1981080"/>
          </a:xfrm>
        </p:grpSpPr>
        <p:sp>
          <p:nvSpPr>
            <p:cNvPr id="1856" name=""/>
            <p:cNvSpPr/>
            <p:nvPr/>
          </p:nvSpPr>
          <p:spPr>
            <a:xfrm>
              <a:off x="213372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857" name=""/>
            <p:cNvSpPr/>
            <p:nvPr/>
          </p:nvSpPr>
          <p:spPr>
            <a:xfrm>
              <a:off x="597816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858" name=""/>
            <p:cNvSpPr/>
            <p:nvPr/>
          </p:nvSpPr>
          <p:spPr>
            <a:xfrm>
              <a:off x="335880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59" name=""/>
            <p:cNvSpPr/>
            <p:nvPr/>
          </p:nvSpPr>
          <p:spPr>
            <a:xfrm>
              <a:off x="247140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60" name=""/>
            <p:cNvSpPr/>
            <p:nvPr/>
          </p:nvSpPr>
          <p:spPr>
            <a:xfrm>
              <a:off x="289404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61" name=""/>
            <p:cNvSpPr/>
            <p:nvPr/>
          </p:nvSpPr>
          <p:spPr>
            <a:xfrm>
              <a:off x="390816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62" name=""/>
            <p:cNvSpPr/>
            <p:nvPr/>
          </p:nvSpPr>
          <p:spPr>
            <a:xfrm>
              <a:off x="437292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63" name=""/>
            <p:cNvSpPr/>
            <p:nvPr/>
          </p:nvSpPr>
          <p:spPr>
            <a:xfrm>
              <a:off x="496404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64" name=""/>
            <p:cNvSpPr/>
            <p:nvPr/>
          </p:nvSpPr>
          <p:spPr>
            <a:xfrm>
              <a:off x="462636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65" name=""/>
            <p:cNvSpPr/>
            <p:nvPr/>
          </p:nvSpPr>
          <p:spPr>
            <a:xfrm>
              <a:off x="323208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66" name=""/>
            <p:cNvSpPr/>
            <p:nvPr/>
          </p:nvSpPr>
          <p:spPr>
            <a:xfrm>
              <a:off x="585144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67" name=""/>
            <p:cNvSpPr/>
            <p:nvPr/>
          </p:nvSpPr>
          <p:spPr>
            <a:xfrm>
              <a:off x="568260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868" name=""/>
            <p:cNvCxnSpPr>
              <a:stCxn id="1856" idx="5"/>
              <a:endCxn id="1860" idx="2"/>
            </p:cNvCxnSpPr>
            <p:nvPr/>
          </p:nvCxnSpPr>
          <p:spPr>
            <a:xfrm>
              <a:off x="2494440" y="2595600"/>
              <a:ext cx="400320" cy="255240"/>
            </a:xfrm>
            <a:prstGeom prst="straightConnector1">
              <a:avLst/>
            </a:prstGeom>
            <a:ln w="9360">
              <a:solidFill>
                <a:srgbClr val="000000"/>
              </a:solidFill>
              <a:miter/>
              <a:tailEnd len="med" type="triangle" w="med"/>
            </a:ln>
          </p:spPr>
        </p:cxnSp>
        <p:cxnSp>
          <p:nvCxnSpPr>
            <p:cNvPr id="1869" name=""/>
            <p:cNvCxnSpPr>
              <a:stCxn id="1860" idx="5"/>
              <a:endCxn id="1861" idx="2"/>
            </p:cNvCxnSpPr>
            <p:nvPr/>
          </p:nvCxnSpPr>
          <p:spPr>
            <a:xfrm flipV="1">
              <a:off x="3255120" y="2952360"/>
              <a:ext cx="653760" cy="19080"/>
            </a:xfrm>
            <a:prstGeom prst="straightConnector1">
              <a:avLst/>
            </a:prstGeom>
            <a:ln w="9360">
              <a:solidFill>
                <a:srgbClr val="000000"/>
              </a:solidFill>
              <a:miter/>
              <a:tailEnd len="med" type="triangle" w="med"/>
            </a:ln>
          </p:spPr>
        </p:cxnSp>
        <p:cxnSp>
          <p:nvCxnSpPr>
            <p:cNvPr id="1870" name=""/>
            <p:cNvCxnSpPr>
              <a:stCxn id="1864" idx="3"/>
              <a:endCxn id="1861" idx="7"/>
            </p:cNvCxnSpPr>
            <p:nvPr/>
          </p:nvCxnSpPr>
          <p:spPr>
            <a:xfrm flipH="1">
              <a:off x="4268160" y="2629800"/>
              <a:ext cx="419400" cy="202680"/>
            </a:xfrm>
            <a:prstGeom prst="straightConnector1">
              <a:avLst/>
            </a:prstGeom>
            <a:ln w="9360">
              <a:solidFill>
                <a:srgbClr val="000000"/>
              </a:solidFill>
              <a:miter/>
              <a:tailEnd len="med" type="triangle" w="med"/>
            </a:ln>
          </p:spPr>
        </p:cxnSp>
        <p:cxnSp>
          <p:nvCxnSpPr>
            <p:cNvPr id="1871" name=""/>
            <p:cNvCxnSpPr>
              <a:stCxn id="1864" idx="2"/>
              <a:endCxn id="1860" idx="6"/>
            </p:cNvCxnSpPr>
            <p:nvPr/>
          </p:nvCxnSpPr>
          <p:spPr>
            <a:xfrm flipH="1">
              <a:off x="3315960" y="2509200"/>
              <a:ext cx="1310400" cy="342000"/>
            </a:xfrm>
            <a:prstGeom prst="straightConnector1">
              <a:avLst/>
            </a:prstGeom>
            <a:ln w="9360">
              <a:solidFill>
                <a:srgbClr val="000000"/>
              </a:solidFill>
              <a:miter/>
              <a:tailEnd len="med" type="triangle" w="med"/>
            </a:ln>
          </p:spPr>
        </p:cxnSp>
        <p:cxnSp>
          <p:nvCxnSpPr>
            <p:cNvPr id="1872" name=""/>
            <p:cNvCxnSpPr>
              <a:stCxn id="1863" idx="4"/>
              <a:endCxn id="1864" idx="7"/>
            </p:cNvCxnSpPr>
            <p:nvPr/>
          </p:nvCxnSpPr>
          <p:spPr>
            <a:xfrm flipH="1">
              <a:off x="4986360" y="2201400"/>
              <a:ext cx="189000" cy="186840"/>
            </a:xfrm>
            <a:prstGeom prst="straightConnector1">
              <a:avLst/>
            </a:prstGeom>
            <a:ln w="9360">
              <a:solidFill>
                <a:srgbClr val="000000"/>
              </a:solidFill>
              <a:miter/>
              <a:tailEnd len="med" type="triangle" w="med"/>
            </a:ln>
          </p:spPr>
        </p:cxnSp>
        <p:cxnSp>
          <p:nvCxnSpPr>
            <p:cNvPr id="1873" name=""/>
            <p:cNvCxnSpPr>
              <a:stCxn id="1863" idx="5"/>
              <a:endCxn id="1867" idx="1"/>
            </p:cNvCxnSpPr>
            <p:nvPr/>
          </p:nvCxnSpPr>
          <p:spPr>
            <a:xfrm>
              <a:off x="5324760" y="2151720"/>
              <a:ext cx="419400" cy="578520"/>
            </a:xfrm>
            <a:prstGeom prst="straightConnector1">
              <a:avLst/>
            </a:prstGeom>
            <a:ln w="9360">
              <a:solidFill>
                <a:srgbClr val="000000"/>
              </a:solidFill>
              <a:miter/>
              <a:tailEnd len="med" type="triangle" w="med"/>
            </a:ln>
          </p:spPr>
        </p:cxnSp>
        <p:cxnSp>
          <p:nvCxnSpPr>
            <p:cNvPr id="1874" name=""/>
            <p:cNvCxnSpPr>
              <a:stCxn id="1867" idx="0"/>
              <a:endCxn id="1866" idx="4"/>
            </p:cNvCxnSpPr>
            <p:nvPr/>
          </p:nvCxnSpPr>
          <p:spPr>
            <a:xfrm flipV="1">
              <a:off x="5893560" y="2406600"/>
              <a:ext cx="169560" cy="273240"/>
            </a:xfrm>
            <a:prstGeom prst="straightConnector1">
              <a:avLst/>
            </a:prstGeom>
            <a:ln w="9360">
              <a:solidFill>
                <a:srgbClr val="000000"/>
              </a:solidFill>
              <a:miter/>
              <a:tailEnd len="med" type="triangle" w="med"/>
            </a:ln>
          </p:spPr>
        </p:cxnSp>
        <p:cxnSp>
          <p:nvCxnSpPr>
            <p:cNvPr id="1875" name=""/>
            <p:cNvCxnSpPr>
              <a:stCxn id="1866" idx="0"/>
              <a:endCxn id="1857" idx="4"/>
            </p:cNvCxnSpPr>
            <p:nvPr/>
          </p:nvCxnSpPr>
          <p:spPr>
            <a:xfrm flipV="1">
              <a:off x="6062760" y="1484280"/>
              <a:ext cx="127440" cy="581040"/>
            </a:xfrm>
            <a:prstGeom prst="straightConnector1">
              <a:avLst/>
            </a:prstGeom>
            <a:ln w="9360">
              <a:solidFill>
                <a:srgbClr val="000000"/>
              </a:solidFill>
              <a:miter/>
              <a:tailEnd len="med" type="triangle" w="med"/>
            </a:ln>
          </p:spPr>
        </p:cxnSp>
        <p:cxnSp>
          <p:nvCxnSpPr>
            <p:cNvPr id="1876" name=""/>
            <p:cNvCxnSpPr>
              <a:stCxn id="1856" idx="7"/>
            </p:cNvCxnSpPr>
            <p:nvPr/>
          </p:nvCxnSpPr>
          <p:spPr>
            <a:xfrm flipV="1">
              <a:off x="2494440" y="2166840"/>
              <a:ext cx="864720" cy="186840"/>
            </a:xfrm>
            <a:prstGeom prst="straightConnector1">
              <a:avLst/>
            </a:prstGeom>
            <a:ln w="9360">
              <a:solidFill>
                <a:srgbClr val="000000"/>
              </a:solidFill>
              <a:miter/>
              <a:tailEnd len="med" type="triangle" w="med"/>
            </a:ln>
          </p:spPr>
        </p:cxnSp>
        <p:cxnSp>
          <p:nvCxnSpPr>
            <p:cNvPr id="1877" name=""/>
            <p:cNvCxnSpPr>
              <a:stCxn id="1858" idx="1"/>
              <a:endCxn id="1859" idx="5"/>
            </p:cNvCxnSpPr>
            <p:nvPr/>
          </p:nvCxnSpPr>
          <p:spPr>
            <a:xfrm flipH="1" flipV="1">
              <a:off x="2831760" y="1775880"/>
              <a:ext cx="588600" cy="270720"/>
            </a:xfrm>
            <a:prstGeom prst="straightConnector1">
              <a:avLst/>
            </a:prstGeom>
            <a:ln w="9360">
              <a:solidFill>
                <a:srgbClr val="000000"/>
              </a:solidFill>
              <a:miter/>
              <a:tailEnd len="med" type="triangle" w="med"/>
            </a:ln>
          </p:spPr>
        </p:cxnSp>
        <p:cxnSp>
          <p:nvCxnSpPr>
            <p:cNvPr id="1878" name=""/>
            <p:cNvCxnSpPr>
              <a:endCxn id="1865" idx="2"/>
            </p:cNvCxnSpPr>
            <p:nvPr/>
          </p:nvCxnSpPr>
          <p:spPr>
            <a:xfrm flipV="1">
              <a:off x="2851560" y="1347120"/>
              <a:ext cx="380880" cy="186840"/>
            </a:xfrm>
            <a:prstGeom prst="straightConnector1">
              <a:avLst/>
            </a:prstGeom>
            <a:ln w="9360">
              <a:solidFill>
                <a:srgbClr val="000000"/>
              </a:solidFill>
              <a:miter/>
              <a:tailEnd len="med" type="triangle" w="med"/>
            </a:ln>
          </p:spPr>
        </p:cxnSp>
        <p:cxnSp>
          <p:nvCxnSpPr>
            <p:cNvPr id="1879" name=""/>
            <p:cNvCxnSpPr>
              <a:stCxn id="1862" idx="2"/>
              <a:endCxn id="1865" idx="6"/>
            </p:cNvCxnSpPr>
            <p:nvPr/>
          </p:nvCxnSpPr>
          <p:spPr>
            <a:xfrm flipH="1" flipV="1">
              <a:off x="3654360" y="1347840"/>
              <a:ext cx="718560" cy="273240"/>
            </a:xfrm>
            <a:prstGeom prst="straightConnector1">
              <a:avLst/>
            </a:prstGeom>
            <a:ln w="9360">
              <a:solidFill>
                <a:srgbClr val="000000"/>
              </a:solidFill>
              <a:miter/>
              <a:tailEnd len="med" type="triangle" w="med"/>
            </a:ln>
          </p:spPr>
        </p:cxnSp>
        <p:cxnSp>
          <p:nvCxnSpPr>
            <p:cNvPr id="1880" name=""/>
            <p:cNvCxnSpPr>
              <a:stCxn id="1858" idx="7"/>
              <a:endCxn id="1862" idx="3"/>
            </p:cNvCxnSpPr>
            <p:nvPr/>
          </p:nvCxnSpPr>
          <p:spPr>
            <a:xfrm flipV="1">
              <a:off x="3719160" y="1741320"/>
              <a:ext cx="715320" cy="304920"/>
            </a:xfrm>
            <a:prstGeom prst="straightConnector1">
              <a:avLst/>
            </a:prstGeom>
            <a:ln w="9360">
              <a:solidFill>
                <a:srgbClr val="000000"/>
              </a:solidFill>
              <a:miter/>
              <a:tailEnd len="med" type="triangle" w="med"/>
            </a:ln>
          </p:spPr>
        </p:cxnSp>
        <p:cxnSp>
          <p:nvCxnSpPr>
            <p:cNvPr id="1881" name=""/>
            <p:cNvCxnSpPr>
              <a:stCxn id="1858" idx="6"/>
              <a:endCxn id="1863" idx="2"/>
            </p:cNvCxnSpPr>
            <p:nvPr/>
          </p:nvCxnSpPr>
          <p:spPr>
            <a:xfrm flipV="1">
              <a:off x="3781080" y="2030040"/>
              <a:ext cx="1183320" cy="137160"/>
            </a:xfrm>
            <a:prstGeom prst="straightConnector1">
              <a:avLst/>
            </a:prstGeom>
            <a:ln w="9360">
              <a:solidFill>
                <a:srgbClr val="000000"/>
              </a:solidFill>
              <a:miter/>
              <a:tailEnd len="med" type="triangle" w="med"/>
            </a:ln>
          </p:spPr>
        </p:cxnSp>
        <p:cxnSp>
          <p:nvCxnSpPr>
            <p:cNvPr id="1882" name=""/>
            <p:cNvCxnSpPr>
              <a:stCxn id="1866" idx="1"/>
              <a:endCxn id="1862" idx="6"/>
            </p:cNvCxnSpPr>
            <p:nvPr/>
          </p:nvCxnSpPr>
          <p:spPr>
            <a:xfrm flipV="1" rot="16200000">
              <a:off x="5106600" y="1308600"/>
              <a:ext cx="494640" cy="1118160"/>
            </a:xfrm>
            <a:prstGeom prst="curvedConnector2">
              <a:avLst/>
            </a:prstGeom>
            <a:ln w="9360">
              <a:solidFill>
                <a:srgbClr val="000000"/>
              </a:solidFill>
              <a:miter/>
              <a:tailEnd len="med" type="triangle" w="med"/>
            </a:ln>
          </p:spPr>
        </p:cxnSp>
        <p:cxnSp>
          <p:nvCxnSpPr>
            <p:cNvPr id="1883" name=""/>
            <p:cNvCxnSpPr>
              <a:stCxn id="1856" idx="6"/>
              <a:endCxn id="1863" idx="3"/>
            </p:cNvCxnSpPr>
            <p:nvPr/>
          </p:nvCxnSpPr>
          <p:spPr>
            <a:xfrm flipV="1">
              <a:off x="2555640" y="2151360"/>
              <a:ext cx="2470680" cy="323640"/>
            </a:xfrm>
            <a:prstGeom prst="curvedConnector2">
              <a:avLst/>
            </a:prstGeom>
            <a:ln w="9360">
              <a:solidFill>
                <a:srgbClr val="000000"/>
              </a:solidFill>
              <a:miter/>
              <a:tailEnd len="med" type="triangle" w="med"/>
            </a:ln>
          </p:spPr>
        </p:cxnSp>
      </p:grpSp>
      <p:sp>
        <p:nvSpPr>
          <p:cNvPr id="1884" name=""/>
          <p:cNvSpPr/>
          <p:nvPr/>
        </p:nvSpPr>
        <p:spPr>
          <a:xfrm rot="20622000">
            <a:off x="4570560" y="5105520"/>
            <a:ext cx="4267080" cy="8254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order do we go through the search tree with BF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C83A676-5967-4895-B155-38940D63F7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epth First Search</a:t>
            </a:r>
            <a:endParaRPr b="0" lang="en-US" sz="4400" spc="-1" strike="noStrike">
              <a:solidFill>
                <a:srgbClr val="009900"/>
              </a:solidFill>
              <a:latin typeface="Arial"/>
            </a:endParaRPr>
          </a:p>
        </p:txBody>
      </p:sp>
      <p:sp>
        <p:nvSpPr>
          <p:cNvPr id="1886"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ternative to BFS.  Always expand from the most-recently-expanded node, if it has any untried successors.  Else backup to the previous node on the current path.</a:t>
            </a:r>
            <a:endParaRPr b="0" lang="en-US" sz="2400" spc="-1" strike="noStrike">
              <a:solidFill>
                <a:srgbClr val="000000"/>
              </a:solidFill>
              <a:latin typeface="Arial"/>
            </a:endParaRPr>
          </a:p>
        </p:txBody>
      </p:sp>
      <p:grpSp>
        <p:nvGrpSpPr>
          <p:cNvPr id="1887" name=""/>
          <p:cNvGrpSpPr/>
          <p:nvPr/>
        </p:nvGrpSpPr>
        <p:grpSpPr>
          <a:xfrm>
            <a:off x="1219320" y="1143000"/>
            <a:ext cx="6629040" cy="3657240"/>
            <a:chOff x="1219320" y="1143000"/>
            <a:chExt cx="6629040" cy="3657240"/>
          </a:xfrm>
        </p:grpSpPr>
        <p:sp>
          <p:nvSpPr>
            <p:cNvPr id="1888" name=""/>
            <p:cNvSpPr/>
            <p:nvPr/>
          </p:nvSpPr>
          <p:spPr>
            <a:xfrm>
              <a:off x="1219320" y="328716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89" name=""/>
            <p:cNvSpPr/>
            <p:nvPr/>
          </p:nvSpPr>
          <p:spPr>
            <a:xfrm>
              <a:off x="7192080" y="1143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890" name=""/>
            <p:cNvSpPr/>
            <p:nvPr/>
          </p:nvSpPr>
          <p:spPr>
            <a:xfrm>
              <a:off x="3122640" y="2719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91" name=""/>
            <p:cNvSpPr/>
            <p:nvPr/>
          </p:nvSpPr>
          <p:spPr>
            <a:xfrm>
              <a:off x="1744200" y="1773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92" name=""/>
            <p:cNvSpPr/>
            <p:nvPr/>
          </p:nvSpPr>
          <p:spPr>
            <a:xfrm>
              <a:off x="240048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93" name=""/>
            <p:cNvSpPr/>
            <p:nvPr/>
          </p:nvSpPr>
          <p:spPr>
            <a:xfrm>
              <a:off x="3975840" y="416988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94" name=""/>
            <p:cNvSpPr/>
            <p:nvPr/>
          </p:nvSpPr>
          <p:spPr>
            <a:xfrm>
              <a:off x="4698000" y="1710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95" name=""/>
            <p:cNvSpPr/>
            <p:nvPr/>
          </p:nvSpPr>
          <p:spPr>
            <a:xfrm>
              <a:off x="5616720" y="246708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96" name=""/>
            <p:cNvSpPr/>
            <p:nvPr/>
          </p:nvSpPr>
          <p:spPr>
            <a:xfrm>
              <a:off x="5091840" y="33498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97" name=""/>
            <p:cNvSpPr/>
            <p:nvPr/>
          </p:nvSpPr>
          <p:spPr>
            <a:xfrm>
              <a:off x="2925720" y="1206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98" name=""/>
            <p:cNvSpPr/>
            <p:nvPr/>
          </p:nvSpPr>
          <p:spPr>
            <a:xfrm>
              <a:off x="6995160" y="2845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99" name=""/>
            <p:cNvSpPr/>
            <p:nvPr/>
          </p:nvSpPr>
          <p:spPr>
            <a:xfrm>
              <a:off x="673272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00" name=""/>
            <p:cNvCxnSpPr>
              <a:stCxn id="1888" idx="5"/>
              <a:endCxn id="1892" idx="2"/>
            </p:cNvCxnSpPr>
            <p:nvPr/>
          </p:nvCxnSpPr>
          <p:spPr>
            <a:xfrm>
              <a:off x="1779840" y="3825360"/>
              <a:ext cx="621000" cy="470520"/>
            </a:xfrm>
            <a:prstGeom prst="straightConnector1">
              <a:avLst/>
            </a:prstGeom>
            <a:ln w="9360">
              <a:solidFill>
                <a:srgbClr val="000000"/>
              </a:solidFill>
              <a:miter/>
              <a:tailEnd len="med" type="triangle" w="med"/>
            </a:ln>
          </p:spPr>
        </p:cxnSp>
        <p:cxnSp>
          <p:nvCxnSpPr>
            <p:cNvPr id="1901" name=""/>
            <p:cNvCxnSpPr>
              <a:stCxn id="1892" idx="5"/>
              <a:endCxn id="1893" idx="2"/>
            </p:cNvCxnSpPr>
            <p:nvPr/>
          </p:nvCxnSpPr>
          <p:spPr>
            <a:xfrm flipV="1">
              <a:off x="2961360" y="4484160"/>
              <a:ext cx="1015200" cy="34920"/>
            </a:xfrm>
            <a:prstGeom prst="straightConnector1">
              <a:avLst/>
            </a:prstGeom>
            <a:ln w="9360">
              <a:solidFill>
                <a:srgbClr val="000000"/>
              </a:solidFill>
              <a:miter/>
              <a:tailEnd len="med" type="triangle" w="med"/>
            </a:ln>
          </p:spPr>
        </p:cxnSp>
        <p:cxnSp>
          <p:nvCxnSpPr>
            <p:cNvPr id="1902" name=""/>
            <p:cNvCxnSpPr>
              <a:stCxn id="1896" idx="3"/>
              <a:endCxn id="1893" idx="7"/>
            </p:cNvCxnSpPr>
            <p:nvPr/>
          </p:nvCxnSpPr>
          <p:spPr>
            <a:xfrm flipH="1">
              <a:off x="4536360" y="3888360"/>
              <a:ext cx="651600" cy="373680"/>
            </a:xfrm>
            <a:prstGeom prst="straightConnector1">
              <a:avLst/>
            </a:prstGeom>
            <a:ln w="9360">
              <a:solidFill>
                <a:srgbClr val="000000"/>
              </a:solidFill>
              <a:miter/>
              <a:tailEnd len="med" type="triangle" w="med"/>
            </a:ln>
          </p:spPr>
        </p:cxnSp>
        <p:cxnSp>
          <p:nvCxnSpPr>
            <p:cNvPr id="1903" name=""/>
            <p:cNvCxnSpPr>
              <a:stCxn id="1896" idx="2"/>
              <a:endCxn id="1892" idx="6"/>
            </p:cNvCxnSpPr>
            <p:nvPr/>
          </p:nvCxnSpPr>
          <p:spPr>
            <a:xfrm flipH="1">
              <a:off x="3056400" y="3665160"/>
              <a:ext cx="2035440" cy="631080"/>
            </a:xfrm>
            <a:prstGeom prst="straightConnector1">
              <a:avLst/>
            </a:prstGeom>
            <a:ln w="9360">
              <a:solidFill>
                <a:srgbClr val="000000"/>
              </a:solidFill>
              <a:miter/>
              <a:tailEnd len="med" type="triangle" w="med"/>
            </a:ln>
          </p:spPr>
        </p:cxnSp>
        <p:cxnSp>
          <p:nvCxnSpPr>
            <p:cNvPr id="1904" name=""/>
            <p:cNvCxnSpPr>
              <a:stCxn id="1895" idx="4"/>
              <a:endCxn id="1896" idx="7"/>
            </p:cNvCxnSpPr>
            <p:nvPr/>
          </p:nvCxnSpPr>
          <p:spPr>
            <a:xfrm flipH="1">
              <a:off x="5651640" y="3097440"/>
              <a:ext cx="293400" cy="344520"/>
            </a:xfrm>
            <a:prstGeom prst="straightConnector1">
              <a:avLst/>
            </a:prstGeom>
            <a:ln w="9360">
              <a:solidFill>
                <a:srgbClr val="000000"/>
              </a:solidFill>
              <a:miter/>
              <a:tailEnd len="med" type="triangle" w="med"/>
            </a:ln>
          </p:spPr>
        </p:cxnSp>
        <p:cxnSp>
          <p:nvCxnSpPr>
            <p:cNvPr id="1905" name=""/>
            <p:cNvCxnSpPr>
              <a:stCxn id="1895" idx="5"/>
              <a:endCxn id="1899" idx="1"/>
            </p:cNvCxnSpPr>
            <p:nvPr/>
          </p:nvCxnSpPr>
          <p:spPr>
            <a:xfrm>
              <a:off x="6177600" y="3005280"/>
              <a:ext cx="651600" cy="1067400"/>
            </a:xfrm>
            <a:prstGeom prst="straightConnector1">
              <a:avLst/>
            </a:prstGeom>
            <a:ln w="9360">
              <a:solidFill>
                <a:srgbClr val="000000"/>
              </a:solidFill>
              <a:miter/>
              <a:tailEnd len="med" type="triangle" w="med"/>
            </a:ln>
          </p:spPr>
        </p:cxnSp>
        <p:cxnSp>
          <p:nvCxnSpPr>
            <p:cNvPr id="1906" name=""/>
            <p:cNvCxnSpPr>
              <a:stCxn id="1899" idx="0"/>
              <a:endCxn id="1898" idx="4"/>
            </p:cNvCxnSpPr>
            <p:nvPr/>
          </p:nvCxnSpPr>
          <p:spPr>
            <a:xfrm flipV="1">
              <a:off x="7060680" y="3475440"/>
              <a:ext cx="263160" cy="505080"/>
            </a:xfrm>
            <a:prstGeom prst="straightConnector1">
              <a:avLst/>
            </a:prstGeom>
            <a:ln w="9360">
              <a:solidFill>
                <a:srgbClr val="000000"/>
              </a:solidFill>
              <a:miter/>
              <a:tailEnd len="med" type="triangle" w="med"/>
            </a:ln>
          </p:spPr>
        </p:cxnSp>
        <p:cxnSp>
          <p:nvCxnSpPr>
            <p:cNvPr id="1907" name=""/>
            <p:cNvCxnSpPr>
              <a:stCxn id="1898" idx="0"/>
              <a:endCxn id="1889" idx="4"/>
            </p:cNvCxnSpPr>
            <p:nvPr/>
          </p:nvCxnSpPr>
          <p:spPr>
            <a:xfrm flipV="1">
              <a:off x="7323480" y="1772640"/>
              <a:ext cx="197280" cy="1072440"/>
            </a:xfrm>
            <a:prstGeom prst="straightConnector1">
              <a:avLst/>
            </a:prstGeom>
            <a:ln w="9360">
              <a:solidFill>
                <a:srgbClr val="000000"/>
              </a:solidFill>
              <a:miter/>
              <a:tailEnd len="med" type="triangle" w="med"/>
            </a:ln>
          </p:spPr>
        </p:cxnSp>
        <p:cxnSp>
          <p:nvCxnSpPr>
            <p:cNvPr id="1908" name=""/>
            <p:cNvCxnSpPr>
              <a:stCxn id="1888" idx="7"/>
            </p:cNvCxnSpPr>
            <p:nvPr/>
          </p:nvCxnSpPr>
          <p:spPr>
            <a:xfrm flipV="1">
              <a:off x="1779480" y="3034080"/>
              <a:ext cx="1343160" cy="344520"/>
            </a:xfrm>
            <a:prstGeom prst="straightConnector1">
              <a:avLst/>
            </a:prstGeom>
            <a:ln w="9360">
              <a:solidFill>
                <a:srgbClr val="000000"/>
              </a:solidFill>
              <a:miter/>
              <a:tailEnd len="med" type="triangle" w="med"/>
            </a:ln>
          </p:spPr>
        </p:cxnSp>
        <p:cxnSp>
          <p:nvCxnSpPr>
            <p:cNvPr id="1909" name=""/>
            <p:cNvCxnSpPr>
              <a:stCxn id="1890" idx="1"/>
              <a:endCxn id="1891" idx="5"/>
            </p:cNvCxnSpPr>
            <p:nvPr/>
          </p:nvCxnSpPr>
          <p:spPr>
            <a:xfrm flipH="1" flipV="1">
              <a:off x="2304000" y="2311920"/>
              <a:ext cx="914040" cy="499680"/>
            </a:xfrm>
            <a:prstGeom prst="straightConnector1">
              <a:avLst/>
            </a:prstGeom>
            <a:ln w="9360">
              <a:solidFill>
                <a:srgbClr val="000000"/>
              </a:solidFill>
              <a:miter/>
              <a:tailEnd len="med" type="triangle" w="med"/>
            </a:ln>
          </p:spPr>
        </p:cxnSp>
        <p:cxnSp>
          <p:nvCxnSpPr>
            <p:cNvPr id="1910" name=""/>
            <p:cNvCxnSpPr>
              <a:endCxn id="1897" idx="2"/>
            </p:cNvCxnSpPr>
            <p:nvPr/>
          </p:nvCxnSpPr>
          <p:spPr>
            <a:xfrm flipV="1">
              <a:off x="2334960" y="1520640"/>
              <a:ext cx="591120" cy="344520"/>
            </a:xfrm>
            <a:prstGeom prst="straightConnector1">
              <a:avLst/>
            </a:prstGeom>
            <a:ln w="9360">
              <a:solidFill>
                <a:srgbClr val="000000"/>
              </a:solidFill>
              <a:miter/>
              <a:tailEnd len="med" type="triangle" w="med"/>
            </a:ln>
          </p:spPr>
        </p:cxnSp>
        <p:cxnSp>
          <p:nvCxnSpPr>
            <p:cNvPr id="1911" name=""/>
            <p:cNvCxnSpPr>
              <a:stCxn id="1894" idx="2"/>
              <a:endCxn id="1897" idx="6"/>
            </p:cNvCxnSpPr>
            <p:nvPr/>
          </p:nvCxnSpPr>
          <p:spPr>
            <a:xfrm flipH="1" flipV="1">
              <a:off x="3581280" y="1520640"/>
              <a:ext cx="1116360" cy="505080"/>
            </a:xfrm>
            <a:prstGeom prst="straightConnector1">
              <a:avLst/>
            </a:prstGeom>
            <a:ln w="9360">
              <a:solidFill>
                <a:srgbClr val="000000"/>
              </a:solidFill>
              <a:miter/>
              <a:tailEnd len="med" type="triangle" w="med"/>
            </a:ln>
          </p:spPr>
        </p:cxnSp>
        <p:cxnSp>
          <p:nvCxnSpPr>
            <p:cNvPr id="1912" name=""/>
            <p:cNvCxnSpPr>
              <a:stCxn id="1890" idx="7"/>
              <a:endCxn id="1894" idx="3"/>
            </p:cNvCxnSpPr>
            <p:nvPr/>
          </p:nvCxnSpPr>
          <p:spPr>
            <a:xfrm flipV="1">
              <a:off x="3683160" y="2248200"/>
              <a:ext cx="1110960" cy="562680"/>
            </a:xfrm>
            <a:prstGeom prst="straightConnector1">
              <a:avLst/>
            </a:prstGeom>
            <a:ln w="9360">
              <a:solidFill>
                <a:srgbClr val="000000"/>
              </a:solidFill>
              <a:miter/>
              <a:tailEnd len="med" type="triangle" w="med"/>
            </a:ln>
          </p:spPr>
        </p:cxnSp>
        <p:cxnSp>
          <p:nvCxnSpPr>
            <p:cNvPr id="1913" name=""/>
            <p:cNvCxnSpPr>
              <a:stCxn id="1890" idx="6"/>
              <a:endCxn id="1895" idx="2"/>
            </p:cNvCxnSpPr>
            <p:nvPr/>
          </p:nvCxnSpPr>
          <p:spPr>
            <a:xfrm flipV="1">
              <a:off x="3778920" y="2782080"/>
              <a:ext cx="1838160" cy="252720"/>
            </a:xfrm>
            <a:prstGeom prst="straightConnector1">
              <a:avLst/>
            </a:prstGeom>
            <a:ln w="9360">
              <a:solidFill>
                <a:srgbClr val="000000"/>
              </a:solidFill>
              <a:miter/>
              <a:tailEnd len="med" type="triangle" w="med"/>
            </a:ln>
          </p:spPr>
        </p:cxnSp>
        <p:cxnSp>
          <p:nvCxnSpPr>
            <p:cNvPr id="1914" name=""/>
            <p:cNvCxnSpPr>
              <a:stCxn id="1898" idx="1"/>
              <a:endCxn id="1894" idx="6"/>
            </p:cNvCxnSpPr>
            <p:nvPr/>
          </p:nvCxnSpPr>
          <p:spPr>
            <a:xfrm flipV="1" rot="16200000">
              <a:off x="5765760" y="1612800"/>
              <a:ext cx="912600" cy="1737000"/>
            </a:xfrm>
            <a:prstGeom prst="curvedConnector2">
              <a:avLst/>
            </a:prstGeom>
            <a:ln w="9360">
              <a:solidFill>
                <a:srgbClr val="000000"/>
              </a:solidFill>
              <a:miter/>
              <a:tailEnd len="med" type="triangle" w="med"/>
            </a:ln>
          </p:spPr>
        </p:cxnSp>
        <p:cxnSp>
          <p:nvCxnSpPr>
            <p:cNvPr id="1915" name=""/>
            <p:cNvCxnSpPr>
              <a:stCxn id="1888" idx="6"/>
              <a:endCxn id="1895" idx="3"/>
            </p:cNvCxnSpPr>
            <p:nvPr/>
          </p:nvCxnSpPr>
          <p:spPr>
            <a:xfrm flipV="1">
              <a:off x="1874880" y="3005280"/>
              <a:ext cx="3837960" cy="596880"/>
            </a:xfrm>
            <a:prstGeom prst="curvedConnector2">
              <a:avLst/>
            </a:prstGeom>
            <a:ln w="9360">
              <a:solidFill>
                <a:srgbClr val="000000"/>
              </a:solidFill>
              <a:miter/>
              <a:tailEnd len="med" type="triangle" w="med"/>
            </a:ln>
          </p:spPr>
        </p:cxnSp>
      </p:grpSp>
      <p:sp>
        <p:nvSpPr>
          <p:cNvPr id="1916" name=""/>
          <p:cNvSpPr/>
          <p:nvPr/>
        </p:nvSpPr>
        <p:spPr>
          <a:xfrm>
            <a:off x="2286000" y="1447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7" name=""/>
          <p:cNvSpPr/>
          <p:nvPr/>
        </p:nvSpPr>
        <p:spPr>
          <a:xfrm>
            <a:off x="403848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8" name=""/>
          <p:cNvSpPr/>
          <p:nvPr/>
        </p:nvSpPr>
        <p:spPr>
          <a:xfrm>
            <a:off x="64008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9" name=""/>
          <p:cNvSpPr/>
          <p:nvPr/>
        </p:nvSpPr>
        <p:spPr>
          <a:xfrm>
            <a:off x="3886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20" name=""/>
          <p:cNvSpPr/>
          <p:nvPr/>
        </p:nvSpPr>
        <p:spPr>
          <a:xfrm>
            <a:off x="2743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1" name=""/>
          <p:cNvSpPr/>
          <p:nvPr/>
        </p:nvSpPr>
        <p:spPr>
          <a:xfrm>
            <a:off x="5791320" y="3124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2" name=""/>
          <p:cNvSpPr/>
          <p:nvPr/>
        </p:nvSpPr>
        <p:spPr>
          <a:xfrm>
            <a:off x="4114800" y="1523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23" name=""/>
          <p:cNvSpPr/>
          <p:nvPr/>
        </p:nvSpPr>
        <p:spPr>
          <a:xfrm>
            <a:off x="21337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4" name=""/>
          <p:cNvSpPr/>
          <p:nvPr/>
        </p:nvSpPr>
        <p:spPr>
          <a:xfrm>
            <a:off x="7162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25" name=""/>
          <p:cNvSpPr/>
          <p:nvPr/>
        </p:nvSpPr>
        <p:spPr>
          <a:xfrm>
            <a:off x="57150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6" name=""/>
          <p:cNvSpPr/>
          <p:nvPr/>
        </p:nvSpPr>
        <p:spPr>
          <a:xfrm>
            <a:off x="48006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7" name=""/>
          <p:cNvSpPr/>
          <p:nvPr/>
        </p:nvSpPr>
        <p:spPr>
          <a:xfrm>
            <a:off x="3733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8" name=""/>
          <p:cNvSpPr/>
          <p:nvPr/>
        </p:nvSpPr>
        <p:spPr>
          <a:xfrm>
            <a:off x="350532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929" name=""/>
          <p:cNvSpPr/>
          <p:nvPr/>
        </p:nvSpPr>
        <p:spPr>
          <a:xfrm>
            <a:off x="1981080" y="3733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30" name=""/>
          <p:cNvSpPr/>
          <p:nvPr/>
        </p:nvSpPr>
        <p:spPr>
          <a:xfrm>
            <a:off x="6477120" y="1981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31" name=""/>
          <p:cNvSpPr/>
          <p:nvPr/>
        </p:nvSpPr>
        <p:spPr>
          <a:xfrm>
            <a:off x="7467480" y="2133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932" name=""/>
          <p:cNvCxnSpPr>
            <a:stCxn id="1893" idx="6"/>
            <a:endCxn id="1899" idx="2"/>
          </p:cNvCxnSpPr>
          <p:nvPr/>
        </p:nvCxnSpPr>
        <p:spPr>
          <a:xfrm flipV="1">
            <a:off x="4632480" y="4296600"/>
            <a:ext cx="2100960" cy="189720"/>
          </a:xfrm>
          <a:prstGeom prst="straightConnector1">
            <a:avLst/>
          </a:prstGeom>
          <a:ln w="9360">
            <a:solidFill>
              <a:srgbClr val="000000"/>
            </a:solidFill>
            <a:miter/>
            <a:tailEnd len="med" type="triangle" w="med"/>
          </a:ln>
        </p:spPr>
      </p:cxnSp>
      <p:sp>
        <p:nvSpPr>
          <p:cNvPr id="1933" name=""/>
          <p:cNvSpPr/>
          <p:nvPr/>
        </p:nvSpPr>
        <p:spPr>
          <a:xfrm>
            <a:off x="4648320" y="2590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AF46DA-5B02-41B2-BC77-5D070AAC10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in action</a:t>
            </a:r>
            <a:endParaRPr b="0" lang="en-US" sz="4400" spc="-1" strike="noStrike">
              <a:solidFill>
                <a:srgbClr val="009900"/>
              </a:solidFill>
              <a:latin typeface="Arial"/>
            </a:endParaRPr>
          </a:p>
        </p:txBody>
      </p:sp>
      <p:sp>
        <p:nvSpPr>
          <p:cNvPr id="193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GOAL</a:t>
            </a:r>
            <a:endParaRPr b="0" lang="en-US" sz="1800" spc="-1" strike="noStrike">
              <a:solidFill>
                <a:srgbClr val="000000"/>
              </a:solidFill>
              <a:latin typeface="Arial"/>
            </a:endParaRPr>
          </a:p>
        </p:txBody>
      </p:sp>
      <p:grpSp>
        <p:nvGrpSpPr>
          <p:cNvPr id="1936" name=""/>
          <p:cNvGrpSpPr/>
          <p:nvPr/>
        </p:nvGrpSpPr>
        <p:grpSpPr>
          <a:xfrm>
            <a:off x="2514600" y="1828800"/>
            <a:ext cx="5715000" cy="2361960"/>
            <a:chOff x="2514600" y="1828800"/>
            <a:chExt cx="5715000" cy="2361960"/>
          </a:xfrm>
        </p:grpSpPr>
        <p:sp>
          <p:nvSpPr>
            <p:cNvPr id="1937" name=""/>
            <p:cNvSpPr/>
            <p:nvPr/>
          </p:nvSpPr>
          <p:spPr>
            <a:xfrm>
              <a:off x="2514600" y="321372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38" name=""/>
            <p:cNvSpPr/>
            <p:nvPr/>
          </p:nvSpPr>
          <p:spPr>
            <a:xfrm>
              <a:off x="7663680" y="182880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
          <p:nvSpPr>
            <p:cNvPr id="1939" name=""/>
            <p:cNvSpPr/>
            <p:nvPr/>
          </p:nvSpPr>
          <p:spPr>
            <a:xfrm>
              <a:off x="4155480" y="28468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40" name=""/>
            <p:cNvSpPr/>
            <p:nvPr/>
          </p:nvSpPr>
          <p:spPr>
            <a:xfrm>
              <a:off x="2967120" y="22359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41" name=""/>
            <p:cNvSpPr/>
            <p:nvPr/>
          </p:nvSpPr>
          <p:spPr>
            <a:xfrm>
              <a:off x="353304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42" name=""/>
            <p:cNvSpPr/>
            <p:nvPr/>
          </p:nvSpPr>
          <p:spPr>
            <a:xfrm>
              <a:off x="4890960" y="378360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43" name=""/>
            <p:cNvSpPr/>
            <p:nvPr/>
          </p:nvSpPr>
          <p:spPr>
            <a:xfrm>
              <a:off x="5513400" y="21952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44" name=""/>
            <p:cNvSpPr/>
            <p:nvPr/>
          </p:nvSpPr>
          <p:spPr>
            <a:xfrm>
              <a:off x="6305400" y="26841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45" name=""/>
            <p:cNvSpPr/>
            <p:nvPr/>
          </p:nvSpPr>
          <p:spPr>
            <a:xfrm>
              <a:off x="5852880" y="32540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46" name=""/>
            <p:cNvSpPr/>
            <p:nvPr/>
          </p:nvSpPr>
          <p:spPr>
            <a:xfrm>
              <a:off x="3985560" y="18694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47" name=""/>
            <p:cNvSpPr/>
            <p:nvPr/>
          </p:nvSpPr>
          <p:spPr>
            <a:xfrm>
              <a:off x="7493760" y="29282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48" name=""/>
            <p:cNvSpPr/>
            <p:nvPr/>
          </p:nvSpPr>
          <p:spPr>
            <a:xfrm>
              <a:off x="726768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49" name=""/>
            <p:cNvCxnSpPr>
              <a:stCxn id="1937" idx="5"/>
              <a:endCxn id="1941" idx="2"/>
            </p:cNvCxnSpPr>
            <p:nvPr/>
          </p:nvCxnSpPr>
          <p:spPr>
            <a:xfrm>
              <a:off x="2997720" y="3561120"/>
              <a:ext cx="535680" cy="304200"/>
            </a:xfrm>
            <a:prstGeom prst="straightConnector1">
              <a:avLst/>
            </a:prstGeom>
            <a:ln w="9360">
              <a:solidFill>
                <a:srgbClr val="000000"/>
              </a:solidFill>
              <a:miter/>
              <a:tailEnd len="med" type="triangle" w="med"/>
            </a:ln>
          </p:spPr>
        </p:cxnSp>
        <p:cxnSp>
          <p:nvCxnSpPr>
            <p:cNvPr id="1950" name=""/>
            <p:cNvCxnSpPr>
              <a:stCxn id="1941" idx="5"/>
              <a:endCxn id="1942" idx="2"/>
            </p:cNvCxnSpPr>
            <p:nvPr/>
          </p:nvCxnSpPr>
          <p:spPr>
            <a:xfrm flipV="1">
              <a:off x="4015800" y="3986640"/>
              <a:ext cx="875160" cy="22680"/>
            </a:xfrm>
            <a:prstGeom prst="straightConnector1">
              <a:avLst/>
            </a:prstGeom>
            <a:ln w="9360">
              <a:solidFill>
                <a:srgbClr val="000000"/>
              </a:solidFill>
              <a:miter/>
              <a:tailEnd len="med" type="triangle" w="med"/>
            </a:ln>
          </p:spPr>
        </p:cxnSp>
        <p:cxnSp>
          <p:nvCxnSpPr>
            <p:cNvPr id="1951" name=""/>
            <p:cNvCxnSpPr>
              <a:stCxn id="1945" idx="3"/>
              <a:endCxn id="1942" idx="7"/>
            </p:cNvCxnSpPr>
            <p:nvPr/>
          </p:nvCxnSpPr>
          <p:spPr>
            <a:xfrm flipH="1">
              <a:off x="5374080" y="3601800"/>
              <a:ext cx="561600" cy="241560"/>
            </a:xfrm>
            <a:prstGeom prst="straightConnector1">
              <a:avLst/>
            </a:prstGeom>
            <a:ln w="9360">
              <a:solidFill>
                <a:srgbClr val="000000"/>
              </a:solidFill>
              <a:miter/>
              <a:tailEnd len="med" type="triangle" w="med"/>
            </a:ln>
          </p:spPr>
        </p:cxnSp>
        <p:cxnSp>
          <p:nvCxnSpPr>
            <p:cNvPr id="1952" name=""/>
            <p:cNvCxnSpPr>
              <a:stCxn id="1945" idx="2"/>
              <a:endCxn id="1941" idx="6"/>
            </p:cNvCxnSpPr>
            <p:nvPr/>
          </p:nvCxnSpPr>
          <p:spPr>
            <a:xfrm flipH="1">
              <a:off x="4098240" y="3457440"/>
              <a:ext cx="1754640" cy="407880"/>
            </a:xfrm>
            <a:prstGeom prst="straightConnector1">
              <a:avLst/>
            </a:prstGeom>
            <a:ln w="9360">
              <a:solidFill>
                <a:srgbClr val="000000"/>
              </a:solidFill>
              <a:miter/>
              <a:tailEnd len="med" type="triangle" w="med"/>
            </a:ln>
          </p:spPr>
        </p:cxnSp>
        <p:cxnSp>
          <p:nvCxnSpPr>
            <p:cNvPr id="1953" name=""/>
            <p:cNvCxnSpPr>
              <a:stCxn id="1944" idx="4"/>
              <a:endCxn id="1945" idx="7"/>
            </p:cNvCxnSpPr>
            <p:nvPr/>
          </p:nvCxnSpPr>
          <p:spPr>
            <a:xfrm flipH="1">
              <a:off x="6335640" y="3090960"/>
              <a:ext cx="253080" cy="222840"/>
            </a:xfrm>
            <a:prstGeom prst="straightConnector1">
              <a:avLst/>
            </a:prstGeom>
            <a:ln w="9360">
              <a:solidFill>
                <a:srgbClr val="000000"/>
              </a:solidFill>
              <a:miter/>
              <a:tailEnd len="med" type="triangle" w="med"/>
            </a:ln>
          </p:spPr>
        </p:cxnSp>
        <p:cxnSp>
          <p:nvCxnSpPr>
            <p:cNvPr id="1954" name=""/>
            <p:cNvCxnSpPr>
              <a:stCxn id="1944" idx="5"/>
              <a:endCxn id="1948" idx="1"/>
            </p:cNvCxnSpPr>
            <p:nvPr/>
          </p:nvCxnSpPr>
          <p:spPr>
            <a:xfrm>
              <a:off x="6788880" y="3031920"/>
              <a:ext cx="561600" cy="689760"/>
            </a:xfrm>
            <a:prstGeom prst="straightConnector1">
              <a:avLst/>
            </a:prstGeom>
            <a:ln w="9360">
              <a:solidFill>
                <a:srgbClr val="000000"/>
              </a:solidFill>
              <a:miter/>
              <a:tailEnd len="med" type="triangle" w="med"/>
            </a:ln>
          </p:spPr>
        </p:cxnSp>
        <p:cxnSp>
          <p:nvCxnSpPr>
            <p:cNvPr id="1955" name=""/>
            <p:cNvCxnSpPr>
              <a:stCxn id="1948" idx="0"/>
              <a:endCxn id="1947" idx="4"/>
            </p:cNvCxnSpPr>
            <p:nvPr/>
          </p:nvCxnSpPr>
          <p:spPr>
            <a:xfrm flipV="1">
              <a:off x="7550640" y="3335400"/>
              <a:ext cx="226800" cy="326160"/>
            </a:xfrm>
            <a:prstGeom prst="straightConnector1">
              <a:avLst/>
            </a:prstGeom>
            <a:ln w="9360">
              <a:solidFill>
                <a:srgbClr val="000000"/>
              </a:solidFill>
              <a:miter/>
              <a:tailEnd len="med" type="triangle" w="med"/>
            </a:ln>
          </p:spPr>
        </p:cxnSp>
        <p:cxnSp>
          <p:nvCxnSpPr>
            <p:cNvPr id="1956" name=""/>
            <p:cNvCxnSpPr>
              <a:stCxn id="1947" idx="0"/>
              <a:endCxn id="1938" idx="4"/>
            </p:cNvCxnSpPr>
            <p:nvPr/>
          </p:nvCxnSpPr>
          <p:spPr>
            <a:xfrm flipV="1">
              <a:off x="7776720" y="2235240"/>
              <a:ext cx="170280" cy="693000"/>
            </a:xfrm>
            <a:prstGeom prst="straightConnector1">
              <a:avLst/>
            </a:prstGeom>
            <a:ln w="9360">
              <a:solidFill>
                <a:srgbClr val="000000"/>
              </a:solidFill>
              <a:miter/>
              <a:tailEnd len="med" type="triangle" w="med"/>
            </a:ln>
          </p:spPr>
        </p:cxnSp>
        <p:cxnSp>
          <p:nvCxnSpPr>
            <p:cNvPr id="1957" name=""/>
            <p:cNvCxnSpPr>
              <a:stCxn id="1937" idx="7"/>
            </p:cNvCxnSpPr>
            <p:nvPr/>
          </p:nvCxnSpPr>
          <p:spPr>
            <a:xfrm flipV="1">
              <a:off x="2997360" y="3049920"/>
              <a:ext cx="1157760" cy="222840"/>
            </a:xfrm>
            <a:prstGeom prst="straightConnector1">
              <a:avLst/>
            </a:prstGeom>
            <a:ln w="9360">
              <a:solidFill>
                <a:srgbClr val="000000"/>
              </a:solidFill>
              <a:miter/>
              <a:tailEnd len="med" type="triangle" w="med"/>
            </a:ln>
          </p:spPr>
        </p:cxnSp>
        <p:cxnSp>
          <p:nvCxnSpPr>
            <p:cNvPr id="1958" name=""/>
            <p:cNvCxnSpPr>
              <a:stCxn id="1939" idx="1"/>
              <a:endCxn id="1940" idx="5"/>
            </p:cNvCxnSpPr>
            <p:nvPr/>
          </p:nvCxnSpPr>
          <p:spPr>
            <a:xfrm flipH="1" flipV="1">
              <a:off x="3449520" y="2583360"/>
              <a:ext cx="788040" cy="322920"/>
            </a:xfrm>
            <a:prstGeom prst="straightConnector1">
              <a:avLst/>
            </a:prstGeom>
            <a:ln w="9360">
              <a:solidFill>
                <a:srgbClr val="000000"/>
              </a:solidFill>
              <a:miter/>
              <a:tailEnd len="med" type="triangle" w="med"/>
            </a:ln>
          </p:spPr>
        </p:cxnSp>
        <p:cxnSp>
          <p:nvCxnSpPr>
            <p:cNvPr id="1959" name=""/>
            <p:cNvCxnSpPr>
              <a:endCxn id="1946" idx="2"/>
            </p:cNvCxnSpPr>
            <p:nvPr/>
          </p:nvCxnSpPr>
          <p:spPr>
            <a:xfrm flipV="1">
              <a:off x="3476160" y="2072160"/>
              <a:ext cx="509400" cy="222840"/>
            </a:xfrm>
            <a:prstGeom prst="straightConnector1">
              <a:avLst/>
            </a:prstGeom>
            <a:ln w="9360">
              <a:solidFill>
                <a:srgbClr val="000000"/>
              </a:solidFill>
              <a:miter/>
              <a:tailEnd len="med" type="triangle" w="med"/>
            </a:ln>
          </p:spPr>
        </p:cxnSp>
        <p:cxnSp>
          <p:nvCxnSpPr>
            <p:cNvPr id="1960" name=""/>
            <p:cNvCxnSpPr>
              <a:stCxn id="1943" idx="2"/>
              <a:endCxn id="1946" idx="6"/>
            </p:cNvCxnSpPr>
            <p:nvPr/>
          </p:nvCxnSpPr>
          <p:spPr>
            <a:xfrm flipH="1" flipV="1">
              <a:off x="4550760" y="2072520"/>
              <a:ext cx="962280" cy="326160"/>
            </a:xfrm>
            <a:prstGeom prst="straightConnector1">
              <a:avLst/>
            </a:prstGeom>
            <a:ln w="9360">
              <a:solidFill>
                <a:srgbClr val="000000"/>
              </a:solidFill>
              <a:miter/>
              <a:tailEnd len="med" type="triangle" w="med"/>
            </a:ln>
          </p:spPr>
        </p:cxnSp>
        <p:cxnSp>
          <p:nvCxnSpPr>
            <p:cNvPr id="1961" name=""/>
            <p:cNvCxnSpPr>
              <a:stCxn id="1939" idx="7"/>
              <a:endCxn id="1943" idx="3"/>
            </p:cNvCxnSpPr>
            <p:nvPr/>
          </p:nvCxnSpPr>
          <p:spPr>
            <a:xfrm flipV="1">
              <a:off x="4638240" y="2542680"/>
              <a:ext cx="957960" cy="363600"/>
            </a:xfrm>
            <a:prstGeom prst="straightConnector1">
              <a:avLst/>
            </a:prstGeom>
            <a:ln w="9360">
              <a:solidFill>
                <a:srgbClr val="000000"/>
              </a:solidFill>
              <a:miter/>
              <a:tailEnd len="med" type="triangle" w="med"/>
            </a:ln>
          </p:spPr>
        </p:cxnSp>
        <p:cxnSp>
          <p:nvCxnSpPr>
            <p:cNvPr id="1962" name=""/>
            <p:cNvCxnSpPr>
              <a:stCxn id="1939" idx="6"/>
              <a:endCxn id="1944" idx="2"/>
            </p:cNvCxnSpPr>
            <p:nvPr/>
          </p:nvCxnSpPr>
          <p:spPr>
            <a:xfrm flipV="1">
              <a:off x="4721400" y="2887200"/>
              <a:ext cx="1584720" cy="163440"/>
            </a:xfrm>
            <a:prstGeom prst="straightConnector1">
              <a:avLst/>
            </a:prstGeom>
            <a:ln w="9360">
              <a:solidFill>
                <a:srgbClr val="000000"/>
              </a:solidFill>
              <a:miter/>
              <a:tailEnd len="med" type="triangle" w="med"/>
            </a:ln>
          </p:spPr>
        </p:cxnSp>
        <p:cxnSp>
          <p:nvCxnSpPr>
            <p:cNvPr id="1963" name=""/>
            <p:cNvCxnSpPr>
              <a:stCxn id="1947" idx="1"/>
              <a:endCxn id="1943" idx="6"/>
            </p:cNvCxnSpPr>
            <p:nvPr/>
          </p:nvCxnSpPr>
          <p:spPr>
            <a:xfrm flipV="1" rot="16200000">
              <a:off x="6532920" y="1944000"/>
              <a:ext cx="589680" cy="1497600"/>
            </a:xfrm>
            <a:prstGeom prst="curvedConnector2">
              <a:avLst/>
            </a:prstGeom>
            <a:ln w="9360">
              <a:solidFill>
                <a:srgbClr val="000000"/>
              </a:solidFill>
              <a:miter/>
              <a:tailEnd len="med" type="triangle" w="med"/>
            </a:ln>
          </p:spPr>
        </p:cxnSp>
        <p:cxnSp>
          <p:nvCxnSpPr>
            <p:cNvPr id="1964" name=""/>
            <p:cNvCxnSpPr>
              <a:stCxn id="1937" idx="6"/>
              <a:endCxn id="1944" idx="3"/>
            </p:cNvCxnSpPr>
            <p:nvPr/>
          </p:nvCxnSpPr>
          <p:spPr>
            <a:xfrm flipV="1">
              <a:off x="3080160" y="3031560"/>
              <a:ext cx="3308400" cy="385920"/>
            </a:xfrm>
            <a:prstGeom prst="curvedConnector2">
              <a:avLst/>
            </a:prstGeom>
            <a:ln w="9360">
              <a:solidFill>
                <a:srgbClr val="000000"/>
              </a:solidFill>
              <a:miter/>
              <a:tailEnd len="med" type="triangle" w="med"/>
            </a:ln>
          </p:spPr>
        </p:cxnSp>
      </p:grpSp>
      <p:cxnSp>
        <p:nvCxnSpPr>
          <p:cNvPr id="1965" name=""/>
          <p:cNvCxnSpPr>
            <a:stCxn id="1942" idx="6"/>
            <a:endCxn id="1948" idx="2"/>
          </p:cNvCxnSpPr>
          <p:nvPr/>
        </p:nvCxnSpPr>
        <p:spPr>
          <a:xfrm flipV="1">
            <a:off x="5456160" y="3865320"/>
            <a:ext cx="1812240" cy="122400"/>
          </a:xfrm>
          <a:prstGeom prst="straightConnector1">
            <a:avLst/>
          </a:prstGeom>
          <a:ln w="9360">
            <a:solidFill>
              <a:srgbClr val="000000"/>
            </a:solidFill>
            <a:miter/>
            <a:tailEnd len="med" type="triangle" w="med"/>
          </a:ln>
        </p:spPr>
      </p:cxnSp>
      <p:sp>
        <p:nvSpPr>
          <p:cNvPr id="4" name="PlaceHolder 3"/>
          <p:cNvSpPr>
            <a:spLocks noGrp="1"/>
          </p:cNvSpPr>
          <p:nvPr>
            <p:ph type="sldNum" idx="2"/>
          </p:nvPr>
        </p:nvSpPr>
        <p:spPr/>
        <p:txBody>
          <a:bodyPr/>
          <a:p>
            <a:fld id="{48A2EFCB-72EC-4496-BD52-F9CE06D8F1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11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111" name=""/>
          <p:cNvGrpSpPr/>
          <p:nvPr/>
        </p:nvGrpSpPr>
        <p:grpSpPr>
          <a:xfrm>
            <a:off x="2133720" y="1143000"/>
            <a:ext cx="4419000" cy="2361960"/>
            <a:chOff x="2133720" y="1143000"/>
            <a:chExt cx="4419000" cy="2361960"/>
          </a:xfrm>
        </p:grpSpPr>
        <p:sp>
          <p:nvSpPr>
            <p:cNvPr id="11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1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1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4" name=""/>
            <p:cNvCxnSpPr>
              <a:stCxn id="112" idx="5"/>
              <a:endCxn id="11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125" name=""/>
            <p:cNvCxnSpPr>
              <a:stCxn id="116" idx="5"/>
              <a:endCxn id="11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126" name=""/>
            <p:cNvCxnSpPr>
              <a:stCxn id="120" idx="3"/>
              <a:endCxn id="11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127" name=""/>
            <p:cNvCxnSpPr>
              <a:stCxn id="120" idx="2"/>
              <a:endCxn id="11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128" name=""/>
            <p:cNvCxnSpPr>
              <a:stCxn id="119" idx="4"/>
              <a:endCxn id="12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129" name=""/>
            <p:cNvCxnSpPr>
              <a:stCxn id="119" idx="5"/>
              <a:endCxn id="12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130" name=""/>
            <p:cNvCxnSpPr>
              <a:stCxn id="123" idx="0"/>
              <a:endCxn id="12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31" name=""/>
            <p:cNvCxnSpPr>
              <a:stCxn id="122" idx="0"/>
              <a:endCxn id="11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32" name=""/>
            <p:cNvCxnSpPr>
              <a:stCxn id="11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33" name=""/>
            <p:cNvCxnSpPr>
              <a:stCxn id="114" idx="1"/>
              <a:endCxn id="11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34" name=""/>
            <p:cNvCxnSpPr>
              <a:endCxn id="12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35" name=""/>
            <p:cNvCxnSpPr>
              <a:stCxn id="118" idx="2"/>
              <a:endCxn id="12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36" name=""/>
            <p:cNvCxnSpPr>
              <a:stCxn id="114" idx="7"/>
              <a:endCxn id="11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37" name=""/>
            <p:cNvCxnSpPr>
              <a:stCxn id="114" idx="6"/>
              <a:endCxn id="11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38" name=""/>
            <p:cNvCxnSpPr>
              <a:stCxn id="122" idx="1"/>
              <a:endCxn id="11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39" name=""/>
            <p:cNvCxnSpPr>
              <a:stCxn id="112" idx="6"/>
              <a:endCxn id="11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140" name=""/>
          <p:cNvSpPr/>
          <p:nvPr/>
        </p:nvSpPr>
        <p:spPr>
          <a:xfrm rot="19944000">
            <a:off x="4349520" y="4475520"/>
            <a:ext cx="4572000" cy="10688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 What problems are like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0EB230-D73A-4676-90F4-0875EB9C32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Search tree traversal</a:t>
            </a:r>
            <a:endParaRPr b="0" lang="en-US" sz="4400" spc="-1" strike="noStrike">
              <a:solidFill>
                <a:srgbClr val="009900"/>
              </a:solidFill>
              <a:latin typeface="Arial"/>
            </a:endParaRPr>
          </a:p>
        </p:txBody>
      </p:sp>
      <p:pic>
        <p:nvPicPr>
          <p:cNvPr id="1967" name="" descr=""/>
          <p:cNvPicPr/>
          <p:nvPr/>
        </p:nvPicPr>
        <p:blipFill>
          <a:blip r:embed="rId1"/>
          <a:stretch/>
        </p:blipFill>
        <p:spPr>
          <a:xfrm>
            <a:off x="3200400" y="3276720"/>
            <a:ext cx="5149800" cy="2744640"/>
          </a:xfrm>
          <a:prstGeom prst="rect">
            <a:avLst/>
          </a:prstGeom>
          <a:ln w="0">
            <a:noFill/>
          </a:ln>
        </p:spPr>
      </p:pic>
      <p:grpSp>
        <p:nvGrpSpPr>
          <p:cNvPr id="1968" name=""/>
          <p:cNvGrpSpPr/>
          <p:nvPr/>
        </p:nvGrpSpPr>
        <p:grpSpPr>
          <a:xfrm>
            <a:off x="3200400" y="1143000"/>
            <a:ext cx="4266720" cy="1981080"/>
            <a:chOff x="3200400" y="1143000"/>
            <a:chExt cx="4266720" cy="1981080"/>
          </a:xfrm>
        </p:grpSpPr>
        <p:sp>
          <p:nvSpPr>
            <p:cNvPr id="1969" name=""/>
            <p:cNvSpPr/>
            <p:nvPr/>
          </p:nvSpPr>
          <p:spPr>
            <a:xfrm>
              <a:off x="320040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70" name=""/>
            <p:cNvSpPr/>
            <p:nvPr/>
          </p:nvSpPr>
          <p:spPr>
            <a:xfrm>
              <a:off x="704484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71" name=""/>
            <p:cNvSpPr/>
            <p:nvPr/>
          </p:nvSpPr>
          <p:spPr>
            <a:xfrm>
              <a:off x="442548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72" name=""/>
            <p:cNvSpPr/>
            <p:nvPr/>
          </p:nvSpPr>
          <p:spPr>
            <a:xfrm>
              <a:off x="353808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73" name=""/>
            <p:cNvSpPr/>
            <p:nvPr/>
          </p:nvSpPr>
          <p:spPr>
            <a:xfrm>
              <a:off x="396072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4" name=""/>
            <p:cNvSpPr/>
            <p:nvPr/>
          </p:nvSpPr>
          <p:spPr>
            <a:xfrm>
              <a:off x="497484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75" name=""/>
            <p:cNvSpPr/>
            <p:nvPr/>
          </p:nvSpPr>
          <p:spPr>
            <a:xfrm>
              <a:off x="543960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76" name=""/>
            <p:cNvSpPr/>
            <p:nvPr/>
          </p:nvSpPr>
          <p:spPr>
            <a:xfrm>
              <a:off x="603072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77" name=""/>
            <p:cNvSpPr/>
            <p:nvPr/>
          </p:nvSpPr>
          <p:spPr>
            <a:xfrm>
              <a:off x="569304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78" name=""/>
            <p:cNvSpPr/>
            <p:nvPr/>
          </p:nvSpPr>
          <p:spPr>
            <a:xfrm>
              <a:off x="429876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79" name=""/>
            <p:cNvSpPr/>
            <p:nvPr/>
          </p:nvSpPr>
          <p:spPr>
            <a:xfrm>
              <a:off x="691812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80" name=""/>
            <p:cNvSpPr/>
            <p:nvPr/>
          </p:nvSpPr>
          <p:spPr>
            <a:xfrm>
              <a:off x="674928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81" name=""/>
            <p:cNvCxnSpPr>
              <a:stCxn id="1969" idx="5"/>
              <a:endCxn id="1973" idx="2"/>
            </p:cNvCxnSpPr>
            <p:nvPr/>
          </p:nvCxnSpPr>
          <p:spPr>
            <a:xfrm>
              <a:off x="3561120" y="2595600"/>
              <a:ext cx="400320" cy="255240"/>
            </a:xfrm>
            <a:prstGeom prst="straightConnector1">
              <a:avLst/>
            </a:prstGeom>
            <a:ln w="9360">
              <a:solidFill>
                <a:srgbClr val="000000"/>
              </a:solidFill>
              <a:miter/>
              <a:tailEnd len="med" type="triangle" w="med"/>
            </a:ln>
          </p:spPr>
        </p:cxnSp>
        <p:cxnSp>
          <p:nvCxnSpPr>
            <p:cNvPr id="1982" name=""/>
            <p:cNvCxnSpPr>
              <a:stCxn id="1973" idx="5"/>
              <a:endCxn id="1974" idx="2"/>
            </p:cNvCxnSpPr>
            <p:nvPr/>
          </p:nvCxnSpPr>
          <p:spPr>
            <a:xfrm flipV="1">
              <a:off x="4321800" y="2952360"/>
              <a:ext cx="653760" cy="19080"/>
            </a:xfrm>
            <a:prstGeom prst="straightConnector1">
              <a:avLst/>
            </a:prstGeom>
            <a:ln w="9360">
              <a:solidFill>
                <a:srgbClr val="000000"/>
              </a:solidFill>
              <a:miter/>
              <a:tailEnd len="med" type="triangle" w="med"/>
            </a:ln>
          </p:spPr>
        </p:cxnSp>
        <p:cxnSp>
          <p:nvCxnSpPr>
            <p:cNvPr id="1983" name=""/>
            <p:cNvCxnSpPr>
              <a:stCxn id="1977" idx="3"/>
              <a:endCxn id="1974" idx="7"/>
            </p:cNvCxnSpPr>
            <p:nvPr/>
          </p:nvCxnSpPr>
          <p:spPr>
            <a:xfrm flipH="1">
              <a:off x="5334840" y="2629800"/>
              <a:ext cx="419400" cy="202680"/>
            </a:xfrm>
            <a:prstGeom prst="straightConnector1">
              <a:avLst/>
            </a:prstGeom>
            <a:ln w="9360">
              <a:solidFill>
                <a:srgbClr val="000000"/>
              </a:solidFill>
              <a:miter/>
              <a:tailEnd len="med" type="triangle" w="med"/>
            </a:ln>
          </p:spPr>
        </p:cxnSp>
        <p:cxnSp>
          <p:nvCxnSpPr>
            <p:cNvPr id="1984" name=""/>
            <p:cNvCxnSpPr>
              <a:stCxn id="1977" idx="2"/>
              <a:endCxn id="1973" idx="6"/>
            </p:cNvCxnSpPr>
            <p:nvPr/>
          </p:nvCxnSpPr>
          <p:spPr>
            <a:xfrm flipH="1">
              <a:off x="4382640" y="2509200"/>
              <a:ext cx="1310400" cy="342000"/>
            </a:xfrm>
            <a:prstGeom prst="straightConnector1">
              <a:avLst/>
            </a:prstGeom>
            <a:ln w="9360">
              <a:solidFill>
                <a:srgbClr val="000000"/>
              </a:solidFill>
              <a:miter/>
              <a:tailEnd len="med" type="triangle" w="med"/>
            </a:ln>
          </p:spPr>
        </p:cxnSp>
        <p:cxnSp>
          <p:nvCxnSpPr>
            <p:cNvPr id="1985" name=""/>
            <p:cNvCxnSpPr>
              <a:stCxn id="1976" idx="4"/>
              <a:endCxn id="1977" idx="7"/>
            </p:cNvCxnSpPr>
            <p:nvPr/>
          </p:nvCxnSpPr>
          <p:spPr>
            <a:xfrm flipH="1">
              <a:off x="6053040" y="2201400"/>
              <a:ext cx="189000" cy="186840"/>
            </a:xfrm>
            <a:prstGeom prst="straightConnector1">
              <a:avLst/>
            </a:prstGeom>
            <a:ln w="9360">
              <a:solidFill>
                <a:srgbClr val="000000"/>
              </a:solidFill>
              <a:miter/>
              <a:tailEnd len="med" type="triangle" w="med"/>
            </a:ln>
          </p:spPr>
        </p:cxnSp>
        <p:cxnSp>
          <p:nvCxnSpPr>
            <p:cNvPr id="1986" name=""/>
            <p:cNvCxnSpPr>
              <a:stCxn id="1976" idx="5"/>
              <a:endCxn id="1980" idx="1"/>
            </p:cNvCxnSpPr>
            <p:nvPr/>
          </p:nvCxnSpPr>
          <p:spPr>
            <a:xfrm>
              <a:off x="6391440" y="2151720"/>
              <a:ext cx="419400" cy="578520"/>
            </a:xfrm>
            <a:prstGeom prst="straightConnector1">
              <a:avLst/>
            </a:prstGeom>
            <a:ln w="9360">
              <a:solidFill>
                <a:srgbClr val="000000"/>
              </a:solidFill>
              <a:miter/>
              <a:tailEnd len="med" type="triangle" w="med"/>
            </a:ln>
          </p:spPr>
        </p:cxnSp>
        <p:cxnSp>
          <p:nvCxnSpPr>
            <p:cNvPr id="1987" name=""/>
            <p:cNvCxnSpPr>
              <a:stCxn id="1980" idx="0"/>
              <a:endCxn id="1979" idx="4"/>
            </p:cNvCxnSpPr>
            <p:nvPr/>
          </p:nvCxnSpPr>
          <p:spPr>
            <a:xfrm flipV="1">
              <a:off x="6960240" y="2406600"/>
              <a:ext cx="169560" cy="273240"/>
            </a:xfrm>
            <a:prstGeom prst="straightConnector1">
              <a:avLst/>
            </a:prstGeom>
            <a:ln w="9360">
              <a:solidFill>
                <a:srgbClr val="000000"/>
              </a:solidFill>
              <a:miter/>
              <a:tailEnd len="med" type="triangle" w="med"/>
            </a:ln>
          </p:spPr>
        </p:cxnSp>
        <p:cxnSp>
          <p:nvCxnSpPr>
            <p:cNvPr id="1988" name=""/>
            <p:cNvCxnSpPr>
              <a:stCxn id="1979" idx="0"/>
              <a:endCxn id="1970" idx="4"/>
            </p:cNvCxnSpPr>
            <p:nvPr/>
          </p:nvCxnSpPr>
          <p:spPr>
            <a:xfrm flipV="1">
              <a:off x="7129440" y="1484280"/>
              <a:ext cx="127440" cy="581040"/>
            </a:xfrm>
            <a:prstGeom prst="straightConnector1">
              <a:avLst/>
            </a:prstGeom>
            <a:ln w="9360">
              <a:solidFill>
                <a:srgbClr val="000000"/>
              </a:solidFill>
              <a:miter/>
              <a:tailEnd len="med" type="triangle" w="med"/>
            </a:ln>
          </p:spPr>
        </p:cxnSp>
        <p:cxnSp>
          <p:nvCxnSpPr>
            <p:cNvPr id="1989" name=""/>
            <p:cNvCxnSpPr>
              <a:stCxn id="1969" idx="7"/>
            </p:cNvCxnSpPr>
            <p:nvPr/>
          </p:nvCxnSpPr>
          <p:spPr>
            <a:xfrm flipV="1">
              <a:off x="3561120" y="2166840"/>
              <a:ext cx="864720" cy="186840"/>
            </a:xfrm>
            <a:prstGeom prst="straightConnector1">
              <a:avLst/>
            </a:prstGeom>
            <a:ln w="9360">
              <a:solidFill>
                <a:srgbClr val="000000"/>
              </a:solidFill>
              <a:miter/>
              <a:tailEnd len="med" type="triangle" w="med"/>
            </a:ln>
          </p:spPr>
        </p:cxnSp>
        <p:cxnSp>
          <p:nvCxnSpPr>
            <p:cNvPr id="1990" name=""/>
            <p:cNvCxnSpPr>
              <a:stCxn id="1971" idx="1"/>
              <a:endCxn id="1972" idx="5"/>
            </p:cNvCxnSpPr>
            <p:nvPr/>
          </p:nvCxnSpPr>
          <p:spPr>
            <a:xfrm flipH="1" flipV="1">
              <a:off x="3898440" y="1775880"/>
              <a:ext cx="588600" cy="270720"/>
            </a:xfrm>
            <a:prstGeom prst="straightConnector1">
              <a:avLst/>
            </a:prstGeom>
            <a:ln w="9360">
              <a:solidFill>
                <a:srgbClr val="000000"/>
              </a:solidFill>
              <a:miter/>
              <a:tailEnd len="med" type="triangle" w="med"/>
            </a:ln>
          </p:spPr>
        </p:cxnSp>
        <p:cxnSp>
          <p:nvCxnSpPr>
            <p:cNvPr id="1991" name=""/>
            <p:cNvCxnSpPr>
              <a:endCxn id="1978" idx="2"/>
            </p:cNvCxnSpPr>
            <p:nvPr/>
          </p:nvCxnSpPr>
          <p:spPr>
            <a:xfrm flipV="1">
              <a:off x="3918240" y="1347120"/>
              <a:ext cx="380880" cy="186840"/>
            </a:xfrm>
            <a:prstGeom prst="straightConnector1">
              <a:avLst/>
            </a:prstGeom>
            <a:ln w="9360">
              <a:solidFill>
                <a:srgbClr val="000000"/>
              </a:solidFill>
              <a:miter/>
              <a:tailEnd len="med" type="triangle" w="med"/>
            </a:ln>
          </p:spPr>
        </p:cxnSp>
        <p:cxnSp>
          <p:nvCxnSpPr>
            <p:cNvPr id="1992" name=""/>
            <p:cNvCxnSpPr>
              <a:stCxn id="1975" idx="2"/>
              <a:endCxn id="1978" idx="6"/>
            </p:cNvCxnSpPr>
            <p:nvPr/>
          </p:nvCxnSpPr>
          <p:spPr>
            <a:xfrm flipH="1" flipV="1">
              <a:off x="4721040" y="1347840"/>
              <a:ext cx="718560" cy="273240"/>
            </a:xfrm>
            <a:prstGeom prst="straightConnector1">
              <a:avLst/>
            </a:prstGeom>
            <a:ln w="9360">
              <a:solidFill>
                <a:srgbClr val="000000"/>
              </a:solidFill>
              <a:miter/>
              <a:tailEnd len="med" type="triangle" w="med"/>
            </a:ln>
          </p:spPr>
        </p:cxnSp>
        <p:cxnSp>
          <p:nvCxnSpPr>
            <p:cNvPr id="1993" name=""/>
            <p:cNvCxnSpPr>
              <a:stCxn id="1971" idx="7"/>
              <a:endCxn id="1975" idx="3"/>
            </p:cNvCxnSpPr>
            <p:nvPr/>
          </p:nvCxnSpPr>
          <p:spPr>
            <a:xfrm flipV="1">
              <a:off x="4785840" y="1741320"/>
              <a:ext cx="715320" cy="304920"/>
            </a:xfrm>
            <a:prstGeom prst="straightConnector1">
              <a:avLst/>
            </a:prstGeom>
            <a:ln w="9360">
              <a:solidFill>
                <a:srgbClr val="000000"/>
              </a:solidFill>
              <a:miter/>
              <a:tailEnd len="med" type="triangle" w="med"/>
            </a:ln>
          </p:spPr>
        </p:cxnSp>
        <p:cxnSp>
          <p:nvCxnSpPr>
            <p:cNvPr id="1994" name=""/>
            <p:cNvCxnSpPr>
              <a:stCxn id="1971" idx="6"/>
              <a:endCxn id="1976" idx="2"/>
            </p:cNvCxnSpPr>
            <p:nvPr/>
          </p:nvCxnSpPr>
          <p:spPr>
            <a:xfrm flipV="1">
              <a:off x="4847760" y="2030040"/>
              <a:ext cx="1183320" cy="137160"/>
            </a:xfrm>
            <a:prstGeom prst="straightConnector1">
              <a:avLst/>
            </a:prstGeom>
            <a:ln w="9360">
              <a:solidFill>
                <a:srgbClr val="000000"/>
              </a:solidFill>
              <a:miter/>
              <a:tailEnd len="med" type="triangle" w="med"/>
            </a:ln>
          </p:spPr>
        </p:cxnSp>
        <p:cxnSp>
          <p:nvCxnSpPr>
            <p:cNvPr id="1995" name=""/>
            <p:cNvCxnSpPr>
              <a:stCxn id="1979" idx="1"/>
              <a:endCxn id="1975" idx="6"/>
            </p:cNvCxnSpPr>
            <p:nvPr/>
          </p:nvCxnSpPr>
          <p:spPr>
            <a:xfrm flipV="1" rot="16200000">
              <a:off x="6173280" y="1308600"/>
              <a:ext cx="494640" cy="1118160"/>
            </a:xfrm>
            <a:prstGeom prst="curvedConnector2">
              <a:avLst/>
            </a:prstGeom>
            <a:ln w="9360">
              <a:solidFill>
                <a:srgbClr val="000000"/>
              </a:solidFill>
              <a:miter/>
              <a:tailEnd len="med" type="triangle" w="med"/>
            </a:ln>
          </p:spPr>
        </p:cxnSp>
        <p:cxnSp>
          <p:nvCxnSpPr>
            <p:cNvPr id="1996" name=""/>
            <p:cNvCxnSpPr>
              <a:stCxn id="1969" idx="6"/>
              <a:endCxn id="1976" idx="3"/>
            </p:cNvCxnSpPr>
            <p:nvPr/>
          </p:nvCxnSpPr>
          <p:spPr>
            <a:xfrm flipV="1">
              <a:off x="3622320" y="2151360"/>
              <a:ext cx="2470680" cy="323640"/>
            </a:xfrm>
            <a:prstGeom prst="curvedConnector2">
              <a:avLst/>
            </a:prstGeom>
            <a:ln w="9360">
              <a:solidFill>
                <a:srgbClr val="000000"/>
              </a:solidFill>
              <a:miter/>
              <a:tailEnd len="med" type="triangle" w="med"/>
            </a:ln>
          </p:spPr>
        </p:cxnSp>
      </p:grpSp>
      <p:sp>
        <p:nvSpPr>
          <p:cNvPr id="1997" name=""/>
          <p:cNvSpPr/>
          <p:nvPr/>
        </p:nvSpPr>
        <p:spPr>
          <a:xfrm>
            <a:off x="380880" y="2286000"/>
            <a:ext cx="2667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draw in the order in which the search-tree nodes are visite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FE310F7-C8DA-403E-89A9-329A9489EB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Algorithm</a:t>
            </a:r>
            <a:endParaRPr b="0" lang="en-US" sz="4400" spc="-1" strike="noStrike">
              <a:solidFill>
                <a:srgbClr val="009900"/>
              </a:solidFill>
              <a:latin typeface="Arial"/>
            </a:endParaRPr>
          </a:p>
        </p:txBody>
      </p:sp>
      <p:pic>
        <p:nvPicPr>
          <p:cNvPr id="1999" name="" descr=""/>
          <p:cNvPicPr/>
          <p:nvPr/>
        </p:nvPicPr>
        <p:blipFill>
          <a:blip r:embed="rId1"/>
          <a:stretch/>
        </p:blipFill>
        <p:spPr>
          <a:xfrm>
            <a:off x="457200" y="3352680"/>
            <a:ext cx="5149800" cy="2745000"/>
          </a:xfrm>
          <a:prstGeom prst="rect">
            <a:avLst/>
          </a:prstGeom>
          <a:ln w="0">
            <a:noFill/>
          </a:ln>
        </p:spPr>
      </p:pic>
      <p:sp>
        <p:nvSpPr>
          <p:cNvPr id="2000" name=""/>
          <p:cNvSpPr/>
          <p:nvPr/>
        </p:nvSpPr>
        <p:spPr>
          <a:xfrm>
            <a:off x="457200" y="1219320"/>
            <a:ext cx="8077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a data structure we’ll call a Path to represent the , er, path from the START to the current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ath P = &lt;START, d, e, r &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each node on the path, we must remember which successors we still have available to expand.  E.G. at the following point, we’ll have</a:t>
            </a:r>
            <a:endParaRPr b="0" lang="en-US" sz="1800" spc="-1" strike="noStrike">
              <a:solidFill>
                <a:srgbClr val="000000"/>
              </a:solidFill>
              <a:latin typeface="Arial"/>
            </a:endParaRPr>
          </a:p>
        </p:txBody>
      </p:sp>
      <p:sp>
        <p:nvSpPr>
          <p:cNvPr id="2001" name=""/>
          <p:cNvSpPr/>
          <p:nvPr/>
        </p:nvSpPr>
        <p:spPr>
          <a:xfrm>
            <a:off x="5638680" y="3276720"/>
            <a:ext cx="32004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lt;START (expand=e , 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expand = NU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expand = 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expand = f) &gt;</a:t>
            </a:r>
            <a:endParaRPr b="0" lang="en-US" sz="1800" spc="-1" strike="noStrike">
              <a:solidFill>
                <a:srgbClr val="000000"/>
              </a:solidFill>
              <a:latin typeface="Arial"/>
            </a:endParaRPr>
          </a:p>
        </p:txBody>
      </p:sp>
      <p:sp>
        <p:nvSpPr>
          <p:cNvPr id="2002" name=""/>
          <p:cNvSpPr/>
          <p:nvPr/>
        </p:nvSpPr>
        <p:spPr>
          <a:xfrm>
            <a:off x="1447920" y="4572000"/>
            <a:ext cx="380880" cy="3808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C3A8511-ACCE-40D2-BEDB-247EED9D7F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FS Algorithm</a:t>
            </a:r>
            <a:endParaRPr b="0" lang="en-US" sz="4000" spc="-1" strike="noStrike">
              <a:solidFill>
                <a:srgbClr val="009900"/>
              </a:solidFill>
              <a:latin typeface="Arial"/>
            </a:endParaRPr>
          </a:p>
        </p:txBody>
      </p:sp>
      <p:sp>
        <p:nvSpPr>
          <p:cNvPr id="200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P = &lt;START (expand = succs(START))&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 not empty and top(P) not a goa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expand of top(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top(P) (“pop the stack”)</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s be a member of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s from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ke a new item on the top of path P: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 (expand = succs(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ILU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he path consisting of states in P</a:t>
            </a:r>
            <a:endParaRPr b="0" lang="en-US" sz="2000" spc="-1" strike="noStrike">
              <a:solidFill>
                <a:srgbClr val="000000"/>
              </a:solidFill>
              <a:latin typeface="Arial"/>
            </a:endParaRPr>
          </a:p>
        </p:txBody>
      </p:sp>
      <p:sp>
        <p:nvSpPr>
          <p:cNvPr id="2005" name=""/>
          <p:cNvSpPr/>
          <p:nvPr/>
        </p:nvSpPr>
        <p:spPr>
          <a:xfrm flipV="1">
            <a:off x="6553080" y="4037760"/>
            <a:ext cx="2362320" cy="1143000"/>
          </a:xfrm>
          <a:prstGeom prst="wedgeRectCallout">
            <a:avLst>
              <a:gd name="adj1" fmla="val -51212"/>
              <a:gd name="adj2" fmla="val 120000"/>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gorithm can be written neatly with recursion, i.e. using the program stack to implement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EBD9A8-FB97-4D5B-8BF6-B417E99E14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07"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08"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BBC0A6E-60EB-4AA7-B0AD-4393F27D07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0"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1"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FE785A0D-BC22-4BF3-97C2-A1CDA096DB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4" name=""/>
          <p:cNvGraphicFramePr/>
          <p:nvPr/>
        </p:nvGraphicFramePr>
        <p:xfrm>
          <a:off x="152280" y="2814480"/>
          <a:ext cx="8839440" cy="29768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5"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0F833E3-99F0-4CC0-ACCB-CFB1C64316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8" name=""/>
          <p:cNvGraphicFramePr/>
          <p:nvPr/>
        </p:nvGraphicFramePr>
        <p:xfrm>
          <a:off x="152280" y="281448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9"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1928126-AD87-49A9-8B0E-5EA42024E8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9763D-2E71-4B7B-8A94-DA9A7DCDC9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3"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4" name=""/>
          <p:cNvSpPr/>
          <p:nvPr/>
        </p:nvSpPr>
        <p:spPr>
          <a:xfrm>
            <a:off x="4419720" y="380880"/>
            <a:ext cx="4495680" cy="2514600"/>
          </a:xfrm>
          <a:prstGeom prst="wedgeRectCallout">
            <a:avLst>
              <a:gd name="adj1" fmla="val -64157"/>
              <a:gd name="adj2" fmla="val 530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5" name=""/>
          <p:cNvSpPr/>
          <p:nvPr/>
        </p:nvSpPr>
        <p:spPr>
          <a:xfrm>
            <a:off x="4419720" y="3276720"/>
            <a:ext cx="4495680" cy="2514600"/>
          </a:xfrm>
          <a:prstGeom prst="wedgeRectCallout">
            <a:avLst>
              <a:gd name="adj1" fmla="val -81495"/>
              <a:gd name="adj2" fmla="val -7443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816907-49F2-478E-8CDC-D4DBBBFBC3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7"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8"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9"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5A3990-7A07-4493-A8D8-D8348C376A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Search Problems</a:t>
            </a:r>
            <a:endParaRPr b="0" lang="en-US" sz="4800" spc="-1" strike="noStrike">
              <a:solidFill>
                <a:srgbClr val="009900"/>
              </a:solidFill>
              <a:latin typeface="Arial"/>
            </a:endParaRPr>
          </a:p>
        </p:txBody>
      </p:sp>
      <p:pic>
        <p:nvPicPr>
          <p:cNvPr id="142" name="" descr=""/>
          <p:cNvPicPr/>
          <p:nvPr/>
        </p:nvPicPr>
        <p:blipFill>
          <a:blip r:embed="rId1"/>
          <a:stretch/>
        </p:blipFill>
        <p:spPr>
          <a:xfrm>
            <a:off x="152280" y="685800"/>
            <a:ext cx="2057400" cy="2057400"/>
          </a:xfrm>
          <a:prstGeom prst="rect">
            <a:avLst/>
          </a:prstGeom>
          <a:ln w="0">
            <a:noFill/>
          </a:ln>
        </p:spPr>
      </p:pic>
      <p:pic>
        <p:nvPicPr>
          <p:cNvPr id="143" name="" descr="fox biting chicken"/>
          <p:cNvPicPr/>
          <p:nvPr/>
        </p:nvPicPr>
        <p:blipFill>
          <a:blip r:embed="rId2"/>
          <a:stretch/>
        </p:blipFill>
        <p:spPr>
          <a:xfrm>
            <a:off x="4724280" y="1143000"/>
            <a:ext cx="1428840" cy="1714680"/>
          </a:xfrm>
          <a:prstGeom prst="rect">
            <a:avLst/>
          </a:prstGeom>
          <a:ln w="0">
            <a:noFill/>
          </a:ln>
        </p:spPr>
      </p:pic>
      <p:pic>
        <p:nvPicPr>
          <p:cNvPr id="144" name="" descr=""/>
          <p:cNvPicPr/>
          <p:nvPr/>
        </p:nvPicPr>
        <p:blipFill>
          <a:blip r:embed="rId3"/>
          <a:stretch/>
        </p:blipFill>
        <p:spPr>
          <a:xfrm>
            <a:off x="6477120" y="2438280"/>
            <a:ext cx="2438280" cy="1741680"/>
          </a:xfrm>
          <a:prstGeom prst="rect">
            <a:avLst/>
          </a:prstGeom>
          <a:ln w="0">
            <a:noFill/>
          </a:ln>
        </p:spPr>
      </p:pic>
      <p:pic>
        <p:nvPicPr>
          <p:cNvPr id="145" name="" descr=""/>
          <p:cNvPicPr/>
          <p:nvPr/>
        </p:nvPicPr>
        <p:blipFill>
          <a:blip r:embed="rId4"/>
          <a:stretch/>
        </p:blipFill>
        <p:spPr>
          <a:xfrm>
            <a:off x="6705720" y="1066680"/>
            <a:ext cx="2133360" cy="1163880"/>
          </a:xfrm>
          <a:prstGeom prst="rect">
            <a:avLst/>
          </a:prstGeom>
          <a:ln w="0">
            <a:noFill/>
          </a:ln>
        </p:spPr>
      </p:pic>
      <p:pic>
        <p:nvPicPr>
          <p:cNvPr id="146" name="" descr=""/>
          <p:cNvPicPr/>
          <p:nvPr/>
        </p:nvPicPr>
        <p:blipFill>
          <a:blip r:embed="rId5"/>
          <a:stretch/>
        </p:blipFill>
        <p:spPr>
          <a:xfrm>
            <a:off x="2514600" y="914400"/>
            <a:ext cx="1676520" cy="1676520"/>
          </a:xfrm>
          <a:prstGeom prst="rect">
            <a:avLst/>
          </a:prstGeom>
          <a:ln w="0">
            <a:noFill/>
          </a:ln>
        </p:spPr>
      </p:pic>
      <p:pic>
        <p:nvPicPr>
          <p:cNvPr id="147" name="" descr=""/>
          <p:cNvPicPr/>
          <p:nvPr/>
        </p:nvPicPr>
        <p:blipFill>
          <a:blip r:embed="rId6"/>
          <a:stretch/>
        </p:blipFill>
        <p:spPr>
          <a:xfrm>
            <a:off x="380880" y="2971800"/>
            <a:ext cx="4667400" cy="3600360"/>
          </a:xfrm>
          <a:prstGeom prst="rect">
            <a:avLst/>
          </a:prstGeom>
          <a:ln w="0">
            <a:noFill/>
          </a:ln>
        </p:spPr>
      </p:pic>
      <p:pic>
        <p:nvPicPr>
          <p:cNvPr id="148" name="" descr=""/>
          <p:cNvPicPr/>
          <p:nvPr/>
        </p:nvPicPr>
        <p:blipFill>
          <a:blip r:embed="rId7"/>
          <a:stretch/>
        </p:blipFill>
        <p:spPr>
          <a:xfrm>
            <a:off x="5248440" y="4557600"/>
            <a:ext cx="2725560" cy="2041560"/>
          </a:xfrm>
          <a:prstGeom prst="rect">
            <a:avLst/>
          </a:prstGeom>
          <a:ln w="0">
            <a:noFill/>
          </a:ln>
        </p:spPr>
      </p:pic>
      <p:sp>
        <p:nvSpPr>
          <p:cNvPr id="3" name="PlaceHolder 2"/>
          <p:cNvSpPr>
            <a:spLocks noGrp="1"/>
          </p:cNvSpPr>
          <p:nvPr>
            <p:ph type="sldNum" idx="2"/>
          </p:nvPr>
        </p:nvSpPr>
        <p:spPr/>
        <p:txBody>
          <a:bodyPr/>
          <a:p>
            <a:fld id="{BA476D1F-6DAC-4B23-A8BB-2C0EBAB2A2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3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32"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33"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2034" name=""/>
          <p:cNvSpPr/>
          <p:nvPr/>
        </p:nvSpPr>
        <p:spPr>
          <a:xfrm rot="19845600">
            <a:off x="108360" y="238788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PCDFS is better than MEMDFS?</a:t>
            </a:r>
            <a:endParaRPr b="0" lang="en-US" sz="2000" spc="-1" strike="noStrike">
              <a:solidFill>
                <a:srgbClr val="000000"/>
              </a:solidFill>
              <a:latin typeface="Arial"/>
            </a:endParaRPr>
          </a:p>
        </p:txBody>
      </p:sp>
      <p:sp>
        <p:nvSpPr>
          <p:cNvPr id="2035" name=""/>
          <p:cNvSpPr/>
          <p:nvPr/>
        </p:nvSpPr>
        <p:spPr>
          <a:xfrm rot="19845600">
            <a:off x="73440" y="365796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MEMDFS is better than PCD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032176-B751-4136-9097-90F65ED324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3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8"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a:t>
                      </a:r>
                      <a:r>
                        <a:rPr b="0" i="1" lang="en-US" sz="2000" spc="-1" strike="noStrike">
                          <a:solidFill>
                            <a:srgbClr val="ffffff"/>
                          </a:solidFill>
                          <a:latin typeface="Arial"/>
                        </a:rPr>
                        <a:t>min</a:t>
                      </a:r>
                      <a:r>
                        <a:rPr b="0" i="1" lang="en-US" sz="2400" spc="-1" strike="noStrike">
                          <a:solidFill>
                            <a:srgbClr val="ffffff"/>
                          </a:solidFill>
                          <a:latin typeface="Arial"/>
                        </a:rPr>
                        <a:t>(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E99586C-7C2B-4DFC-9208-287868A1E6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0"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1"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F59911E-6B49-4EB8-977A-AE27BA35D1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4"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DAA5594-BAD2-487C-8744-BD95D0841C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
          <p:cNvSpPr/>
          <p:nvPr/>
        </p:nvSpPr>
        <p:spPr>
          <a:xfrm>
            <a:off x="380880" y="5257800"/>
            <a:ext cx="7315200" cy="1447920"/>
          </a:xfrm>
          <a:prstGeom prst="rect">
            <a:avLst/>
          </a:prstGeom>
          <a:solidFill>
            <a:srgbClr val="ffd7f5"/>
          </a:solidFill>
          <a:ln w="12600">
            <a:solidFill>
              <a:srgbClr val="cc00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04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0" lang="en-US" sz="2000" spc="-1" strike="noStrike">
                <a:solidFill>
                  <a:srgbClr val="ff0000"/>
                </a:solidFill>
                <a:latin typeface="Arial"/>
              </a:rPr>
              <a:t>plain DFS</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sp>
        <p:nvSpPr>
          <p:cNvPr id="2048" name=""/>
          <p:cNvSpPr/>
          <p:nvPr/>
        </p:nvSpPr>
        <p:spPr>
          <a:xfrm>
            <a:off x="510552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
          <p:cNvSpPr/>
          <p:nvPr/>
        </p:nvSpPr>
        <p:spPr>
          <a:xfrm>
            <a:off x="4853160" y="46497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
          <p:cNvSpPr/>
          <p:nvPr/>
        </p:nvSpPr>
        <p:spPr>
          <a:xfrm>
            <a:off x="4602240" y="46497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
          <p:cNvSpPr/>
          <p:nvPr/>
        </p:nvSpPr>
        <p:spPr>
          <a:xfrm>
            <a:off x="4356000" y="46497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
          <p:cNvSpPr/>
          <p:nvPr/>
        </p:nvSpPr>
        <p:spPr>
          <a:xfrm>
            <a:off x="4105440" y="46497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
          <p:cNvSpPr/>
          <p:nvPr/>
        </p:nvSpPr>
        <p:spPr>
          <a:xfrm>
            <a:off x="385272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
          <p:cNvSpPr/>
          <p:nvPr/>
        </p:nvSpPr>
        <p:spPr>
          <a:xfrm>
            <a:off x="36036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335448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
          <p:cNvSpPr/>
          <p:nvPr/>
        </p:nvSpPr>
        <p:spPr>
          <a:xfrm>
            <a:off x="3100320" y="46497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
          <p:cNvSpPr/>
          <p:nvPr/>
        </p:nvSpPr>
        <p:spPr>
          <a:xfrm>
            <a:off x="28512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2603520" y="46497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23544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210168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185256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510552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4853160" y="44496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4602240" y="444960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4356000" y="444960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4105440" y="444960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385272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36036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335448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3100320" y="444960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28512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2603520" y="444960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a:off x="23544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
          <p:cNvSpPr/>
          <p:nvPr/>
        </p:nvSpPr>
        <p:spPr>
          <a:xfrm>
            <a:off x="210168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
          <p:cNvSpPr/>
          <p:nvPr/>
        </p:nvSpPr>
        <p:spPr>
          <a:xfrm>
            <a:off x="185256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510552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
          <p:cNvSpPr/>
          <p:nvPr/>
        </p:nvSpPr>
        <p:spPr>
          <a:xfrm>
            <a:off x="4853160" y="424980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
          <p:cNvSpPr/>
          <p:nvPr/>
        </p:nvSpPr>
        <p:spPr>
          <a:xfrm>
            <a:off x="4602240" y="424980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
          <p:cNvSpPr/>
          <p:nvPr/>
        </p:nvSpPr>
        <p:spPr>
          <a:xfrm>
            <a:off x="4356000" y="424980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
          <p:cNvSpPr/>
          <p:nvPr/>
        </p:nvSpPr>
        <p:spPr>
          <a:xfrm>
            <a:off x="4105440" y="424980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385272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36036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
          <p:cNvSpPr/>
          <p:nvPr/>
        </p:nvSpPr>
        <p:spPr>
          <a:xfrm>
            <a:off x="335448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
          <p:cNvSpPr/>
          <p:nvPr/>
        </p:nvSpPr>
        <p:spPr>
          <a:xfrm>
            <a:off x="3100320" y="424980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
          <p:cNvSpPr/>
          <p:nvPr/>
        </p:nvSpPr>
        <p:spPr>
          <a:xfrm>
            <a:off x="28512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
          <p:cNvSpPr/>
          <p:nvPr/>
        </p:nvSpPr>
        <p:spPr>
          <a:xfrm>
            <a:off x="2603520" y="424980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
          <p:cNvSpPr/>
          <p:nvPr/>
        </p:nvSpPr>
        <p:spPr>
          <a:xfrm>
            <a:off x="23544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
          <p:cNvSpPr/>
          <p:nvPr/>
        </p:nvSpPr>
        <p:spPr>
          <a:xfrm>
            <a:off x="210168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185256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
          <p:cNvSpPr/>
          <p:nvPr/>
        </p:nvSpPr>
        <p:spPr>
          <a:xfrm>
            <a:off x="510552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
          <p:cNvSpPr/>
          <p:nvPr/>
        </p:nvSpPr>
        <p:spPr>
          <a:xfrm>
            <a:off x="4853160" y="4051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
          <p:cNvSpPr/>
          <p:nvPr/>
        </p:nvSpPr>
        <p:spPr>
          <a:xfrm>
            <a:off x="4602240" y="4051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
          <p:cNvSpPr/>
          <p:nvPr/>
        </p:nvSpPr>
        <p:spPr>
          <a:xfrm>
            <a:off x="4356000" y="4051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
          <p:cNvSpPr/>
          <p:nvPr/>
        </p:nvSpPr>
        <p:spPr>
          <a:xfrm>
            <a:off x="4105440" y="4051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
          <p:cNvSpPr/>
          <p:nvPr/>
        </p:nvSpPr>
        <p:spPr>
          <a:xfrm>
            <a:off x="385272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
          <p:cNvSpPr/>
          <p:nvPr/>
        </p:nvSpPr>
        <p:spPr>
          <a:xfrm>
            <a:off x="36036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
          <p:cNvSpPr/>
          <p:nvPr/>
        </p:nvSpPr>
        <p:spPr>
          <a:xfrm>
            <a:off x="335448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
          <p:cNvSpPr/>
          <p:nvPr/>
        </p:nvSpPr>
        <p:spPr>
          <a:xfrm>
            <a:off x="3100320" y="4051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
          <p:cNvSpPr/>
          <p:nvPr/>
        </p:nvSpPr>
        <p:spPr>
          <a:xfrm>
            <a:off x="28512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
          <p:cNvSpPr/>
          <p:nvPr/>
        </p:nvSpPr>
        <p:spPr>
          <a:xfrm>
            <a:off x="2603520" y="4051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
          <p:cNvSpPr/>
          <p:nvPr/>
        </p:nvSpPr>
        <p:spPr>
          <a:xfrm>
            <a:off x="23544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
          <p:cNvSpPr/>
          <p:nvPr/>
        </p:nvSpPr>
        <p:spPr>
          <a:xfrm>
            <a:off x="210168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
          <p:cNvSpPr/>
          <p:nvPr/>
        </p:nvSpPr>
        <p:spPr>
          <a:xfrm>
            <a:off x="185256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
          <p:cNvSpPr/>
          <p:nvPr/>
        </p:nvSpPr>
        <p:spPr>
          <a:xfrm>
            <a:off x="510552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
          <p:cNvSpPr/>
          <p:nvPr/>
        </p:nvSpPr>
        <p:spPr>
          <a:xfrm>
            <a:off x="4853160" y="3852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
          <p:cNvSpPr/>
          <p:nvPr/>
        </p:nvSpPr>
        <p:spPr>
          <a:xfrm>
            <a:off x="4602240" y="3852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
          <p:cNvSpPr/>
          <p:nvPr/>
        </p:nvSpPr>
        <p:spPr>
          <a:xfrm>
            <a:off x="4356000" y="3852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
          <p:cNvSpPr/>
          <p:nvPr/>
        </p:nvSpPr>
        <p:spPr>
          <a:xfrm>
            <a:off x="4105440" y="3852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
          <p:cNvSpPr/>
          <p:nvPr/>
        </p:nvSpPr>
        <p:spPr>
          <a:xfrm>
            <a:off x="385272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
          <p:cNvSpPr/>
          <p:nvPr/>
        </p:nvSpPr>
        <p:spPr>
          <a:xfrm>
            <a:off x="36036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
          <p:cNvSpPr/>
          <p:nvPr/>
        </p:nvSpPr>
        <p:spPr>
          <a:xfrm>
            <a:off x="335448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
          <p:cNvSpPr/>
          <p:nvPr/>
        </p:nvSpPr>
        <p:spPr>
          <a:xfrm>
            <a:off x="3100320" y="3852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
          <p:cNvSpPr/>
          <p:nvPr/>
        </p:nvSpPr>
        <p:spPr>
          <a:xfrm>
            <a:off x="28512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
          <p:cNvSpPr/>
          <p:nvPr/>
        </p:nvSpPr>
        <p:spPr>
          <a:xfrm>
            <a:off x="2603520" y="3852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
          <p:cNvSpPr/>
          <p:nvPr/>
        </p:nvSpPr>
        <p:spPr>
          <a:xfrm>
            <a:off x="23544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
          <p:cNvSpPr/>
          <p:nvPr/>
        </p:nvSpPr>
        <p:spPr>
          <a:xfrm>
            <a:off x="210168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
          <p:cNvSpPr/>
          <p:nvPr/>
        </p:nvSpPr>
        <p:spPr>
          <a:xfrm>
            <a:off x="185256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
          <p:cNvSpPr/>
          <p:nvPr/>
        </p:nvSpPr>
        <p:spPr>
          <a:xfrm>
            <a:off x="510552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
          <p:cNvSpPr/>
          <p:nvPr/>
        </p:nvSpPr>
        <p:spPr>
          <a:xfrm>
            <a:off x="4853160" y="365292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
          <p:cNvSpPr/>
          <p:nvPr/>
        </p:nvSpPr>
        <p:spPr>
          <a:xfrm>
            <a:off x="4602240" y="365292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
          <p:cNvSpPr/>
          <p:nvPr/>
        </p:nvSpPr>
        <p:spPr>
          <a:xfrm>
            <a:off x="4356000" y="365292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
          <p:cNvSpPr/>
          <p:nvPr/>
        </p:nvSpPr>
        <p:spPr>
          <a:xfrm>
            <a:off x="4105440" y="365292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
          <p:cNvSpPr/>
          <p:nvPr/>
        </p:nvSpPr>
        <p:spPr>
          <a:xfrm>
            <a:off x="385272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
          <p:cNvSpPr/>
          <p:nvPr/>
        </p:nvSpPr>
        <p:spPr>
          <a:xfrm>
            <a:off x="36036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335448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
          <p:cNvSpPr/>
          <p:nvPr/>
        </p:nvSpPr>
        <p:spPr>
          <a:xfrm>
            <a:off x="3100320" y="365292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
          <p:cNvSpPr/>
          <p:nvPr/>
        </p:nvSpPr>
        <p:spPr>
          <a:xfrm>
            <a:off x="28512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
          <p:cNvSpPr/>
          <p:nvPr/>
        </p:nvSpPr>
        <p:spPr>
          <a:xfrm>
            <a:off x="2603520" y="365292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
          <p:cNvSpPr/>
          <p:nvPr/>
        </p:nvSpPr>
        <p:spPr>
          <a:xfrm>
            <a:off x="23544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
          <p:cNvSpPr/>
          <p:nvPr/>
        </p:nvSpPr>
        <p:spPr>
          <a:xfrm>
            <a:off x="210168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
          <p:cNvSpPr/>
          <p:nvPr/>
        </p:nvSpPr>
        <p:spPr>
          <a:xfrm>
            <a:off x="185256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
          <p:cNvSpPr/>
          <p:nvPr/>
        </p:nvSpPr>
        <p:spPr>
          <a:xfrm>
            <a:off x="510552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
          <p:cNvSpPr/>
          <p:nvPr/>
        </p:nvSpPr>
        <p:spPr>
          <a:xfrm>
            <a:off x="4853160" y="345276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
          <p:cNvSpPr/>
          <p:nvPr/>
        </p:nvSpPr>
        <p:spPr>
          <a:xfrm>
            <a:off x="4602240" y="345276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
          <p:cNvSpPr/>
          <p:nvPr/>
        </p:nvSpPr>
        <p:spPr>
          <a:xfrm>
            <a:off x="4356000" y="345276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
          <p:cNvSpPr/>
          <p:nvPr/>
        </p:nvSpPr>
        <p:spPr>
          <a:xfrm>
            <a:off x="4105440" y="345276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
          <p:cNvSpPr/>
          <p:nvPr/>
        </p:nvSpPr>
        <p:spPr>
          <a:xfrm>
            <a:off x="385272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
          <p:cNvSpPr/>
          <p:nvPr/>
        </p:nvSpPr>
        <p:spPr>
          <a:xfrm>
            <a:off x="36036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
          <p:cNvSpPr/>
          <p:nvPr/>
        </p:nvSpPr>
        <p:spPr>
          <a:xfrm>
            <a:off x="335448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
          <p:cNvSpPr/>
          <p:nvPr/>
        </p:nvSpPr>
        <p:spPr>
          <a:xfrm>
            <a:off x="3100320" y="345276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
          <p:cNvSpPr/>
          <p:nvPr/>
        </p:nvSpPr>
        <p:spPr>
          <a:xfrm>
            <a:off x="28512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
          <p:cNvSpPr/>
          <p:nvPr/>
        </p:nvSpPr>
        <p:spPr>
          <a:xfrm>
            <a:off x="2603520" y="345276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
          <p:cNvSpPr/>
          <p:nvPr/>
        </p:nvSpPr>
        <p:spPr>
          <a:xfrm>
            <a:off x="23544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
          <p:cNvSpPr/>
          <p:nvPr/>
        </p:nvSpPr>
        <p:spPr>
          <a:xfrm>
            <a:off x="210168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
          <p:cNvSpPr/>
          <p:nvPr/>
        </p:nvSpPr>
        <p:spPr>
          <a:xfrm>
            <a:off x="185256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
          <p:cNvSpPr/>
          <p:nvPr/>
        </p:nvSpPr>
        <p:spPr>
          <a:xfrm>
            <a:off x="510552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
          <p:cNvSpPr/>
          <p:nvPr/>
        </p:nvSpPr>
        <p:spPr>
          <a:xfrm>
            <a:off x="4853160" y="3254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
          <p:cNvSpPr/>
          <p:nvPr/>
        </p:nvSpPr>
        <p:spPr>
          <a:xfrm>
            <a:off x="4602240" y="3254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
          <p:cNvSpPr/>
          <p:nvPr/>
        </p:nvSpPr>
        <p:spPr>
          <a:xfrm>
            <a:off x="4356000" y="3254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
          <p:cNvSpPr/>
          <p:nvPr/>
        </p:nvSpPr>
        <p:spPr>
          <a:xfrm>
            <a:off x="4105440" y="3254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
          <p:cNvSpPr/>
          <p:nvPr/>
        </p:nvSpPr>
        <p:spPr>
          <a:xfrm>
            <a:off x="385272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
          <p:cNvSpPr/>
          <p:nvPr/>
        </p:nvSpPr>
        <p:spPr>
          <a:xfrm>
            <a:off x="36036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
          <p:cNvSpPr/>
          <p:nvPr/>
        </p:nvSpPr>
        <p:spPr>
          <a:xfrm>
            <a:off x="335448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
          <p:cNvSpPr/>
          <p:nvPr/>
        </p:nvSpPr>
        <p:spPr>
          <a:xfrm>
            <a:off x="3100320" y="3254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28512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
          <p:cNvSpPr/>
          <p:nvPr/>
        </p:nvSpPr>
        <p:spPr>
          <a:xfrm>
            <a:off x="2603520" y="3254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
          <p:cNvSpPr/>
          <p:nvPr/>
        </p:nvSpPr>
        <p:spPr>
          <a:xfrm>
            <a:off x="23544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
          <p:cNvSpPr/>
          <p:nvPr/>
        </p:nvSpPr>
        <p:spPr>
          <a:xfrm>
            <a:off x="210168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
          <p:cNvSpPr/>
          <p:nvPr/>
        </p:nvSpPr>
        <p:spPr>
          <a:xfrm>
            <a:off x="185256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
          <p:cNvSpPr/>
          <p:nvPr/>
        </p:nvSpPr>
        <p:spPr>
          <a:xfrm>
            <a:off x="510552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
          <p:cNvSpPr/>
          <p:nvPr/>
        </p:nvSpPr>
        <p:spPr>
          <a:xfrm>
            <a:off x="4853160" y="305280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
          <p:cNvSpPr/>
          <p:nvPr/>
        </p:nvSpPr>
        <p:spPr>
          <a:xfrm>
            <a:off x="4602240" y="305280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
          <p:cNvSpPr/>
          <p:nvPr/>
        </p:nvSpPr>
        <p:spPr>
          <a:xfrm>
            <a:off x="4356000" y="305280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
          <p:cNvSpPr/>
          <p:nvPr/>
        </p:nvSpPr>
        <p:spPr>
          <a:xfrm>
            <a:off x="4105440" y="305280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385272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
          <p:cNvSpPr/>
          <p:nvPr/>
        </p:nvSpPr>
        <p:spPr>
          <a:xfrm>
            <a:off x="36036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
          <p:cNvSpPr/>
          <p:nvPr/>
        </p:nvSpPr>
        <p:spPr>
          <a:xfrm>
            <a:off x="335448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
          <p:cNvSpPr/>
          <p:nvPr/>
        </p:nvSpPr>
        <p:spPr>
          <a:xfrm>
            <a:off x="3100320" y="305280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
          <p:cNvSpPr/>
          <p:nvPr/>
        </p:nvSpPr>
        <p:spPr>
          <a:xfrm>
            <a:off x="28512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
          <p:cNvSpPr/>
          <p:nvPr/>
        </p:nvSpPr>
        <p:spPr>
          <a:xfrm>
            <a:off x="2603520" y="305280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
          <p:cNvSpPr/>
          <p:nvPr/>
        </p:nvSpPr>
        <p:spPr>
          <a:xfrm>
            <a:off x="23544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
          <p:cNvSpPr/>
          <p:nvPr/>
        </p:nvSpPr>
        <p:spPr>
          <a:xfrm>
            <a:off x="210168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
          <p:cNvSpPr/>
          <p:nvPr/>
        </p:nvSpPr>
        <p:spPr>
          <a:xfrm>
            <a:off x="185256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510552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
          <p:cNvSpPr/>
          <p:nvPr/>
        </p:nvSpPr>
        <p:spPr>
          <a:xfrm>
            <a:off x="4853160" y="2854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
          <p:cNvSpPr/>
          <p:nvPr/>
        </p:nvSpPr>
        <p:spPr>
          <a:xfrm>
            <a:off x="4602240" y="2854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
          <p:cNvSpPr/>
          <p:nvPr/>
        </p:nvSpPr>
        <p:spPr>
          <a:xfrm>
            <a:off x="4356000" y="2854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
          <p:cNvSpPr/>
          <p:nvPr/>
        </p:nvSpPr>
        <p:spPr>
          <a:xfrm>
            <a:off x="4105440" y="2854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385272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
          <p:cNvSpPr/>
          <p:nvPr/>
        </p:nvSpPr>
        <p:spPr>
          <a:xfrm>
            <a:off x="36036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
          <p:cNvSpPr/>
          <p:nvPr/>
        </p:nvSpPr>
        <p:spPr>
          <a:xfrm>
            <a:off x="335448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
          <p:cNvSpPr/>
          <p:nvPr/>
        </p:nvSpPr>
        <p:spPr>
          <a:xfrm>
            <a:off x="3100320" y="2854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
          <p:cNvSpPr/>
          <p:nvPr/>
        </p:nvSpPr>
        <p:spPr>
          <a:xfrm>
            <a:off x="28512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2603520" y="2854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
          <p:cNvSpPr/>
          <p:nvPr/>
        </p:nvSpPr>
        <p:spPr>
          <a:xfrm>
            <a:off x="23544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
          <p:cNvSpPr/>
          <p:nvPr/>
        </p:nvSpPr>
        <p:spPr>
          <a:xfrm>
            <a:off x="210168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
          <p:cNvSpPr/>
          <p:nvPr/>
        </p:nvSpPr>
        <p:spPr>
          <a:xfrm>
            <a:off x="185256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
          <p:cNvSpPr/>
          <p:nvPr/>
        </p:nvSpPr>
        <p:spPr>
          <a:xfrm>
            <a:off x="510552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
          <p:cNvSpPr/>
          <p:nvPr/>
        </p:nvSpPr>
        <p:spPr>
          <a:xfrm>
            <a:off x="4853160" y="2655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
          <p:cNvSpPr/>
          <p:nvPr/>
        </p:nvSpPr>
        <p:spPr>
          <a:xfrm>
            <a:off x="4602240" y="2655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
          <p:cNvSpPr/>
          <p:nvPr/>
        </p:nvSpPr>
        <p:spPr>
          <a:xfrm>
            <a:off x="4356000" y="2655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
          <p:cNvSpPr/>
          <p:nvPr/>
        </p:nvSpPr>
        <p:spPr>
          <a:xfrm>
            <a:off x="4105440" y="2655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
          <p:cNvSpPr/>
          <p:nvPr/>
        </p:nvSpPr>
        <p:spPr>
          <a:xfrm>
            <a:off x="385272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
          <p:cNvSpPr/>
          <p:nvPr/>
        </p:nvSpPr>
        <p:spPr>
          <a:xfrm>
            <a:off x="36036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
          <p:cNvSpPr/>
          <p:nvPr/>
        </p:nvSpPr>
        <p:spPr>
          <a:xfrm>
            <a:off x="335448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
          <p:cNvSpPr/>
          <p:nvPr/>
        </p:nvSpPr>
        <p:spPr>
          <a:xfrm>
            <a:off x="3100320" y="2655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
          <p:cNvSpPr/>
          <p:nvPr/>
        </p:nvSpPr>
        <p:spPr>
          <a:xfrm>
            <a:off x="28512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
          <p:cNvSpPr/>
          <p:nvPr/>
        </p:nvSpPr>
        <p:spPr>
          <a:xfrm>
            <a:off x="2603520" y="2655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
          <p:cNvSpPr/>
          <p:nvPr/>
        </p:nvSpPr>
        <p:spPr>
          <a:xfrm>
            <a:off x="23544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
          <p:cNvSpPr/>
          <p:nvPr/>
        </p:nvSpPr>
        <p:spPr>
          <a:xfrm>
            <a:off x="210168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
          <p:cNvSpPr/>
          <p:nvPr/>
        </p:nvSpPr>
        <p:spPr>
          <a:xfrm>
            <a:off x="185256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
          <p:cNvSpPr/>
          <p:nvPr/>
        </p:nvSpPr>
        <p:spPr>
          <a:xfrm>
            <a:off x="510552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
          <p:cNvSpPr/>
          <p:nvPr/>
        </p:nvSpPr>
        <p:spPr>
          <a:xfrm>
            <a:off x="4853160" y="24573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
          <p:cNvSpPr/>
          <p:nvPr/>
        </p:nvSpPr>
        <p:spPr>
          <a:xfrm>
            <a:off x="4602240" y="24573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
          <p:cNvSpPr/>
          <p:nvPr/>
        </p:nvSpPr>
        <p:spPr>
          <a:xfrm>
            <a:off x="4356000" y="24573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
          <p:cNvSpPr/>
          <p:nvPr/>
        </p:nvSpPr>
        <p:spPr>
          <a:xfrm>
            <a:off x="4105440" y="24573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
          <p:cNvSpPr/>
          <p:nvPr/>
        </p:nvSpPr>
        <p:spPr>
          <a:xfrm>
            <a:off x="385272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
          <p:cNvSpPr/>
          <p:nvPr/>
        </p:nvSpPr>
        <p:spPr>
          <a:xfrm>
            <a:off x="36036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
          <p:cNvSpPr/>
          <p:nvPr/>
        </p:nvSpPr>
        <p:spPr>
          <a:xfrm>
            <a:off x="335448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
          <p:cNvSpPr/>
          <p:nvPr/>
        </p:nvSpPr>
        <p:spPr>
          <a:xfrm>
            <a:off x="3100320" y="24573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
          <p:cNvSpPr/>
          <p:nvPr/>
        </p:nvSpPr>
        <p:spPr>
          <a:xfrm>
            <a:off x="28512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
          <p:cNvSpPr/>
          <p:nvPr/>
        </p:nvSpPr>
        <p:spPr>
          <a:xfrm>
            <a:off x="2603520" y="24573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
          <p:cNvSpPr/>
          <p:nvPr/>
        </p:nvSpPr>
        <p:spPr>
          <a:xfrm>
            <a:off x="23544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
          <p:cNvSpPr/>
          <p:nvPr/>
        </p:nvSpPr>
        <p:spPr>
          <a:xfrm>
            <a:off x="210168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
          <p:cNvSpPr/>
          <p:nvPr/>
        </p:nvSpPr>
        <p:spPr>
          <a:xfrm>
            <a:off x="185256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
          <p:cNvSpPr/>
          <p:nvPr/>
        </p:nvSpPr>
        <p:spPr>
          <a:xfrm>
            <a:off x="510552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
          <p:cNvSpPr/>
          <p:nvPr/>
        </p:nvSpPr>
        <p:spPr>
          <a:xfrm>
            <a:off x="4853160" y="225576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
          <p:cNvSpPr/>
          <p:nvPr/>
        </p:nvSpPr>
        <p:spPr>
          <a:xfrm>
            <a:off x="4602240" y="225576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
          <p:cNvSpPr/>
          <p:nvPr/>
        </p:nvSpPr>
        <p:spPr>
          <a:xfrm>
            <a:off x="4356000" y="225576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
          <p:cNvSpPr/>
          <p:nvPr/>
        </p:nvSpPr>
        <p:spPr>
          <a:xfrm>
            <a:off x="4105440" y="225576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
          <p:cNvSpPr/>
          <p:nvPr/>
        </p:nvSpPr>
        <p:spPr>
          <a:xfrm>
            <a:off x="385272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
          <p:cNvSpPr/>
          <p:nvPr/>
        </p:nvSpPr>
        <p:spPr>
          <a:xfrm>
            <a:off x="36036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
          <p:cNvSpPr/>
          <p:nvPr/>
        </p:nvSpPr>
        <p:spPr>
          <a:xfrm>
            <a:off x="335448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100320" y="225576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
          <p:cNvSpPr/>
          <p:nvPr/>
        </p:nvSpPr>
        <p:spPr>
          <a:xfrm>
            <a:off x="28512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
          <p:cNvSpPr/>
          <p:nvPr/>
        </p:nvSpPr>
        <p:spPr>
          <a:xfrm>
            <a:off x="2603520" y="225576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
          <p:cNvSpPr/>
          <p:nvPr/>
        </p:nvSpPr>
        <p:spPr>
          <a:xfrm>
            <a:off x="23544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
          <p:cNvSpPr/>
          <p:nvPr/>
        </p:nvSpPr>
        <p:spPr>
          <a:xfrm>
            <a:off x="210168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
          <p:cNvSpPr/>
          <p:nvPr/>
        </p:nvSpPr>
        <p:spPr>
          <a:xfrm>
            <a:off x="185256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
          <p:cNvSpPr/>
          <p:nvPr/>
        </p:nvSpPr>
        <p:spPr>
          <a:xfrm>
            <a:off x="510552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
          <p:cNvSpPr/>
          <p:nvPr/>
        </p:nvSpPr>
        <p:spPr>
          <a:xfrm>
            <a:off x="4853160" y="2057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
          <p:cNvSpPr/>
          <p:nvPr/>
        </p:nvSpPr>
        <p:spPr>
          <a:xfrm>
            <a:off x="4602240" y="2057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
          <p:cNvSpPr/>
          <p:nvPr/>
        </p:nvSpPr>
        <p:spPr>
          <a:xfrm>
            <a:off x="4356000" y="2057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
          <p:cNvSpPr/>
          <p:nvPr/>
        </p:nvSpPr>
        <p:spPr>
          <a:xfrm>
            <a:off x="4105440" y="2057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
          <p:cNvSpPr/>
          <p:nvPr/>
        </p:nvSpPr>
        <p:spPr>
          <a:xfrm>
            <a:off x="385272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
          <p:cNvSpPr/>
          <p:nvPr/>
        </p:nvSpPr>
        <p:spPr>
          <a:xfrm>
            <a:off x="36036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
          <p:cNvSpPr/>
          <p:nvPr/>
        </p:nvSpPr>
        <p:spPr>
          <a:xfrm>
            <a:off x="335448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
          <p:cNvSpPr/>
          <p:nvPr/>
        </p:nvSpPr>
        <p:spPr>
          <a:xfrm>
            <a:off x="3100320" y="2057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
          <p:cNvSpPr/>
          <p:nvPr/>
        </p:nvSpPr>
        <p:spPr>
          <a:xfrm>
            <a:off x="28512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
          <p:cNvSpPr/>
          <p:nvPr/>
        </p:nvSpPr>
        <p:spPr>
          <a:xfrm>
            <a:off x="2603520" y="2057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
          <p:cNvSpPr/>
          <p:nvPr/>
        </p:nvSpPr>
        <p:spPr>
          <a:xfrm>
            <a:off x="23544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
          <p:cNvSpPr/>
          <p:nvPr/>
        </p:nvSpPr>
        <p:spPr>
          <a:xfrm>
            <a:off x="210168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
          <p:cNvSpPr/>
          <p:nvPr/>
        </p:nvSpPr>
        <p:spPr>
          <a:xfrm>
            <a:off x="185256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
          <p:cNvSpPr/>
          <p:nvPr/>
        </p:nvSpPr>
        <p:spPr>
          <a:xfrm>
            <a:off x="1852560" y="24573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1852560" y="2655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1852560" y="285444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1852560" y="3052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1852560" y="32544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1852560" y="3452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1852560" y="36529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1852560" y="3852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1852560" y="405144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1852560" y="4249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1852560" y="44496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1852560" y="4649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a:off x="1852560" y="4848120"/>
            <a:ext cx="350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185256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23544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2603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28512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31003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335448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3603600" y="2057400"/>
            <a:ext cx="0" cy="79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38527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41054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43560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6022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485316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5105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535464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101680" y="2057400"/>
            <a:ext cx="325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2101680" y="2255760"/>
            <a:ext cx="0" cy="25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2101680" y="2057400"/>
            <a:ext cx="0" cy="19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2101680" y="2255760"/>
            <a:ext cx="32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1852560" y="225576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1852560" y="205740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603600" y="285444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3603600" y="2854440"/>
            <a:ext cx="0" cy="179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603600" y="4649760"/>
            <a:ext cx="0" cy="19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5535720" y="287028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281" name=""/>
          <p:cNvSpPr/>
          <p:nvPr/>
        </p:nvSpPr>
        <p:spPr>
          <a:xfrm>
            <a:off x="1447920" y="493236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282" name=""/>
          <p:cNvSpPr/>
          <p:nvPr/>
        </p:nvSpPr>
        <p:spPr>
          <a:xfrm>
            <a:off x="5334120" y="3182760"/>
            <a:ext cx="40464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1717560" y="4869000"/>
            <a:ext cx="303480" cy="26172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5410080" y="426708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2285" name=""/>
          <p:cNvSpPr/>
          <p:nvPr/>
        </p:nvSpPr>
        <p:spPr>
          <a:xfrm>
            <a:off x="685800" y="5715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questions:</a:t>
            </a:r>
            <a:endParaRPr b="0" lang="en-US" sz="2400" spc="-1" strike="noStrike">
              <a:solidFill>
                <a:srgbClr val="000000"/>
              </a:solidFill>
              <a:latin typeface="Arial"/>
            </a:endParaRPr>
          </a:p>
        </p:txBody>
      </p:sp>
      <p:sp>
        <p:nvSpPr>
          <p:cNvPr id="2286" name=""/>
          <p:cNvSpPr/>
          <p:nvPr/>
        </p:nvSpPr>
        <p:spPr>
          <a:xfrm>
            <a:off x="3809880" y="536580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What would B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ould PCD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hat would MEMDFS do?</a:t>
            </a:r>
            <a:endParaRPr b="0" lang="en-US" sz="2400" spc="-1" strike="noStrike">
              <a:solidFill>
                <a:srgbClr val="000000"/>
              </a:solidFill>
              <a:latin typeface="Arial"/>
            </a:endParaRPr>
          </a:p>
        </p:txBody>
      </p:sp>
      <p:sp>
        <p:nvSpPr>
          <p:cNvPr id="2287" name=""/>
          <p:cNvSpPr/>
          <p:nvPr/>
        </p:nvSpPr>
        <p:spPr>
          <a:xfrm flipH="1">
            <a:off x="3276720" y="5486400"/>
            <a:ext cx="304560" cy="990720"/>
          </a:xfrm>
          <a:custGeom>
            <a:avLst/>
            <a:gdLst>
              <a:gd name="textAreaLeft" fmla="*/ 360 w 304560"/>
              <a:gd name="textAreaRight" fmla="*/ 110160 w 3045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20C658-57E7-464F-8F10-A1DA84B879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wo other DFS examples</a:t>
            </a:r>
            <a:endParaRPr b="0" lang="en-US" sz="4400" spc="-1" strike="noStrike">
              <a:solidFill>
                <a:srgbClr val="009900"/>
              </a:solidFill>
              <a:latin typeface="Arial"/>
            </a:endParaRPr>
          </a:p>
        </p:txBody>
      </p:sp>
      <p:grpSp>
        <p:nvGrpSpPr>
          <p:cNvPr id="2289" name=""/>
          <p:cNvGrpSpPr/>
          <p:nvPr/>
        </p:nvGrpSpPr>
        <p:grpSpPr>
          <a:xfrm>
            <a:off x="685800" y="1143000"/>
            <a:ext cx="3962520" cy="2678040"/>
            <a:chOff x="685800" y="1143000"/>
            <a:chExt cx="3962520" cy="2678040"/>
          </a:xfrm>
        </p:grpSpPr>
        <p:sp>
          <p:nvSpPr>
            <p:cNvPr id="2290" name=""/>
            <p:cNvSpPr/>
            <p:nvPr/>
          </p:nvSpPr>
          <p:spPr>
            <a:xfrm>
              <a:off x="380340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
            <p:cNvSpPr/>
            <p:nvPr/>
          </p:nvSpPr>
          <p:spPr>
            <a:xfrm>
              <a:off x="358812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
            <p:cNvSpPr/>
            <p:nvPr/>
          </p:nvSpPr>
          <p:spPr>
            <a:xfrm>
              <a:off x="3375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
            <p:cNvSpPr/>
            <p:nvPr/>
          </p:nvSpPr>
          <p:spPr>
            <a:xfrm>
              <a:off x="316476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
            <p:cNvSpPr/>
            <p:nvPr/>
          </p:nvSpPr>
          <p:spPr>
            <a:xfrm>
              <a:off x="29516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
            <p:cNvSpPr/>
            <p:nvPr/>
          </p:nvSpPr>
          <p:spPr>
            <a:xfrm>
              <a:off x="273636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
            <p:cNvSpPr/>
            <p:nvPr/>
          </p:nvSpPr>
          <p:spPr>
            <a:xfrm>
              <a:off x="25232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
            <p:cNvSpPr/>
            <p:nvPr/>
          </p:nvSpPr>
          <p:spPr>
            <a:xfrm>
              <a:off x="23101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
            <p:cNvSpPr/>
            <p:nvPr/>
          </p:nvSpPr>
          <p:spPr>
            <a:xfrm>
              <a:off x="209484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
            <p:cNvSpPr/>
            <p:nvPr/>
          </p:nvSpPr>
          <p:spPr>
            <a:xfrm>
              <a:off x="18817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
            <p:cNvSpPr/>
            <p:nvPr/>
          </p:nvSpPr>
          <p:spPr>
            <a:xfrm>
              <a:off x="167148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
            <p:cNvSpPr/>
            <p:nvPr/>
          </p:nvSpPr>
          <p:spPr>
            <a:xfrm>
              <a:off x="1458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
            <p:cNvSpPr/>
            <p:nvPr/>
          </p:nvSpPr>
          <p:spPr>
            <a:xfrm>
              <a:off x="124308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
            <p:cNvSpPr/>
            <p:nvPr/>
          </p:nvSpPr>
          <p:spPr>
            <a:xfrm>
              <a:off x="10303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
            <p:cNvSpPr/>
            <p:nvPr/>
          </p:nvSpPr>
          <p:spPr>
            <a:xfrm>
              <a:off x="380340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
            <p:cNvSpPr/>
            <p:nvPr/>
          </p:nvSpPr>
          <p:spPr>
            <a:xfrm>
              <a:off x="358812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
            <p:cNvSpPr/>
            <p:nvPr/>
          </p:nvSpPr>
          <p:spPr>
            <a:xfrm>
              <a:off x="3375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
            <p:cNvSpPr/>
            <p:nvPr/>
          </p:nvSpPr>
          <p:spPr>
            <a:xfrm>
              <a:off x="316476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
            <p:cNvSpPr/>
            <p:nvPr/>
          </p:nvSpPr>
          <p:spPr>
            <a:xfrm>
              <a:off x="29516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
            <p:cNvSpPr/>
            <p:nvPr/>
          </p:nvSpPr>
          <p:spPr>
            <a:xfrm>
              <a:off x="273636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
            <p:cNvSpPr/>
            <p:nvPr/>
          </p:nvSpPr>
          <p:spPr>
            <a:xfrm>
              <a:off x="25232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
            <p:cNvSpPr/>
            <p:nvPr/>
          </p:nvSpPr>
          <p:spPr>
            <a:xfrm>
              <a:off x="23101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
            <p:cNvSpPr/>
            <p:nvPr/>
          </p:nvSpPr>
          <p:spPr>
            <a:xfrm>
              <a:off x="209484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
            <p:cNvSpPr/>
            <p:nvPr/>
          </p:nvSpPr>
          <p:spPr>
            <a:xfrm>
              <a:off x="18817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
            <p:cNvSpPr/>
            <p:nvPr/>
          </p:nvSpPr>
          <p:spPr>
            <a:xfrm>
              <a:off x="167148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
            <p:cNvSpPr/>
            <p:nvPr/>
          </p:nvSpPr>
          <p:spPr>
            <a:xfrm>
              <a:off x="1458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
            <p:cNvSpPr/>
            <p:nvPr/>
          </p:nvSpPr>
          <p:spPr>
            <a:xfrm>
              <a:off x="124308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
            <p:cNvSpPr/>
            <p:nvPr/>
          </p:nvSpPr>
          <p:spPr>
            <a:xfrm>
              <a:off x="10303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380340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
            <p:cNvSpPr/>
            <p:nvPr/>
          </p:nvSpPr>
          <p:spPr>
            <a:xfrm>
              <a:off x="358812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
            <p:cNvSpPr/>
            <p:nvPr/>
          </p:nvSpPr>
          <p:spPr>
            <a:xfrm>
              <a:off x="3375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
            <p:cNvSpPr/>
            <p:nvPr/>
          </p:nvSpPr>
          <p:spPr>
            <a:xfrm>
              <a:off x="316476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
            <p:cNvSpPr/>
            <p:nvPr/>
          </p:nvSpPr>
          <p:spPr>
            <a:xfrm>
              <a:off x="29516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
            <p:cNvSpPr/>
            <p:nvPr/>
          </p:nvSpPr>
          <p:spPr>
            <a:xfrm>
              <a:off x="273636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
            <p:cNvSpPr/>
            <p:nvPr/>
          </p:nvSpPr>
          <p:spPr>
            <a:xfrm>
              <a:off x="25232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
            <p:cNvSpPr/>
            <p:nvPr/>
          </p:nvSpPr>
          <p:spPr>
            <a:xfrm>
              <a:off x="23101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
            <p:cNvSpPr/>
            <p:nvPr/>
          </p:nvSpPr>
          <p:spPr>
            <a:xfrm>
              <a:off x="209484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
            <p:cNvSpPr/>
            <p:nvPr/>
          </p:nvSpPr>
          <p:spPr>
            <a:xfrm>
              <a:off x="18817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
            <p:cNvSpPr/>
            <p:nvPr/>
          </p:nvSpPr>
          <p:spPr>
            <a:xfrm>
              <a:off x="167148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
            <p:cNvSpPr/>
            <p:nvPr/>
          </p:nvSpPr>
          <p:spPr>
            <a:xfrm>
              <a:off x="1458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
            <p:cNvSpPr/>
            <p:nvPr/>
          </p:nvSpPr>
          <p:spPr>
            <a:xfrm>
              <a:off x="124308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
            <p:cNvSpPr/>
            <p:nvPr/>
          </p:nvSpPr>
          <p:spPr>
            <a:xfrm>
              <a:off x="10303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
            <p:cNvSpPr/>
            <p:nvPr/>
          </p:nvSpPr>
          <p:spPr>
            <a:xfrm>
              <a:off x="380340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
            <p:cNvSpPr/>
            <p:nvPr/>
          </p:nvSpPr>
          <p:spPr>
            <a:xfrm>
              <a:off x="358812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
            <p:cNvSpPr/>
            <p:nvPr/>
          </p:nvSpPr>
          <p:spPr>
            <a:xfrm>
              <a:off x="3375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316476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
            <p:cNvSpPr/>
            <p:nvPr/>
          </p:nvSpPr>
          <p:spPr>
            <a:xfrm>
              <a:off x="29516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p:nvPr/>
          </p:nvSpPr>
          <p:spPr>
            <a:xfrm>
              <a:off x="273636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
            <p:cNvSpPr/>
            <p:nvPr/>
          </p:nvSpPr>
          <p:spPr>
            <a:xfrm>
              <a:off x="25232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
            <p:cNvSpPr/>
            <p:nvPr/>
          </p:nvSpPr>
          <p:spPr>
            <a:xfrm>
              <a:off x="23101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
            <p:cNvSpPr/>
            <p:nvPr/>
          </p:nvSpPr>
          <p:spPr>
            <a:xfrm>
              <a:off x="209484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
            <p:cNvSpPr/>
            <p:nvPr/>
          </p:nvSpPr>
          <p:spPr>
            <a:xfrm>
              <a:off x="18817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167148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
            <p:cNvSpPr/>
            <p:nvPr/>
          </p:nvSpPr>
          <p:spPr>
            <a:xfrm>
              <a:off x="1458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
            <p:cNvSpPr/>
            <p:nvPr/>
          </p:nvSpPr>
          <p:spPr>
            <a:xfrm>
              <a:off x="124308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
            <p:cNvSpPr/>
            <p:nvPr/>
          </p:nvSpPr>
          <p:spPr>
            <a:xfrm>
              <a:off x="10303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
            <p:cNvSpPr/>
            <p:nvPr/>
          </p:nvSpPr>
          <p:spPr>
            <a:xfrm>
              <a:off x="380340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
            <p:cNvSpPr/>
            <p:nvPr/>
          </p:nvSpPr>
          <p:spPr>
            <a:xfrm>
              <a:off x="358812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
            <p:cNvSpPr/>
            <p:nvPr/>
          </p:nvSpPr>
          <p:spPr>
            <a:xfrm>
              <a:off x="3375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
            <p:cNvSpPr/>
            <p:nvPr/>
          </p:nvSpPr>
          <p:spPr>
            <a:xfrm>
              <a:off x="316476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
            <p:cNvSpPr/>
            <p:nvPr/>
          </p:nvSpPr>
          <p:spPr>
            <a:xfrm>
              <a:off x="29516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273636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
            <p:cNvSpPr/>
            <p:nvPr/>
          </p:nvSpPr>
          <p:spPr>
            <a:xfrm>
              <a:off x="25232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
            <p:cNvSpPr/>
            <p:nvPr/>
          </p:nvSpPr>
          <p:spPr>
            <a:xfrm>
              <a:off x="23101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
            <p:cNvSpPr/>
            <p:nvPr/>
          </p:nvSpPr>
          <p:spPr>
            <a:xfrm>
              <a:off x="209484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18817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
            <p:cNvSpPr/>
            <p:nvPr/>
          </p:nvSpPr>
          <p:spPr>
            <a:xfrm>
              <a:off x="167148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
            <p:cNvSpPr/>
            <p:nvPr/>
          </p:nvSpPr>
          <p:spPr>
            <a:xfrm>
              <a:off x="1458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
            <p:cNvSpPr/>
            <p:nvPr/>
          </p:nvSpPr>
          <p:spPr>
            <a:xfrm>
              <a:off x="124308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
            <p:cNvSpPr/>
            <p:nvPr/>
          </p:nvSpPr>
          <p:spPr>
            <a:xfrm>
              <a:off x="10303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
            <p:cNvSpPr/>
            <p:nvPr/>
          </p:nvSpPr>
          <p:spPr>
            <a:xfrm>
              <a:off x="380340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
            <p:cNvSpPr/>
            <p:nvPr/>
          </p:nvSpPr>
          <p:spPr>
            <a:xfrm>
              <a:off x="358812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
            <p:cNvSpPr/>
            <p:nvPr/>
          </p:nvSpPr>
          <p:spPr>
            <a:xfrm>
              <a:off x="3375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
            <p:cNvSpPr/>
            <p:nvPr/>
          </p:nvSpPr>
          <p:spPr>
            <a:xfrm>
              <a:off x="316476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
            <p:cNvSpPr/>
            <p:nvPr/>
          </p:nvSpPr>
          <p:spPr>
            <a:xfrm>
              <a:off x="29516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
            <p:cNvSpPr/>
            <p:nvPr/>
          </p:nvSpPr>
          <p:spPr>
            <a:xfrm>
              <a:off x="273636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
            <p:cNvSpPr/>
            <p:nvPr/>
          </p:nvSpPr>
          <p:spPr>
            <a:xfrm>
              <a:off x="25232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
            <p:cNvSpPr/>
            <p:nvPr/>
          </p:nvSpPr>
          <p:spPr>
            <a:xfrm>
              <a:off x="23101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
            <p:cNvSpPr/>
            <p:nvPr/>
          </p:nvSpPr>
          <p:spPr>
            <a:xfrm>
              <a:off x="209484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
            <p:cNvSpPr/>
            <p:nvPr/>
          </p:nvSpPr>
          <p:spPr>
            <a:xfrm>
              <a:off x="18817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
            <p:cNvSpPr/>
            <p:nvPr/>
          </p:nvSpPr>
          <p:spPr>
            <a:xfrm>
              <a:off x="167148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
            <p:cNvSpPr/>
            <p:nvPr/>
          </p:nvSpPr>
          <p:spPr>
            <a:xfrm>
              <a:off x="1458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
            <p:cNvSpPr/>
            <p:nvPr/>
          </p:nvSpPr>
          <p:spPr>
            <a:xfrm>
              <a:off x="124308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
            <p:cNvSpPr/>
            <p:nvPr/>
          </p:nvSpPr>
          <p:spPr>
            <a:xfrm>
              <a:off x="10303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
            <p:cNvSpPr/>
            <p:nvPr/>
          </p:nvSpPr>
          <p:spPr>
            <a:xfrm>
              <a:off x="380340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
            <p:cNvSpPr/>
            <p:nvPr/>
          </p:nvSpPr>
          <p:spPr>
            <a:xfrm>
              <a:off x="358812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
            <p:cNvSpPr/>
            <p:nvPr/>
          </p:nvSpPr>
          <p:spPr>
            <a:xfrm>
              <a:off x="3375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
            <p:cNvSpPr/>
            <p:nvPr/>
          </p:nvSpPr>
          <p:spPr>
            <a:xfrm>
              <a:off x="316476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
            <p:cNvSpPr/>
            <p:nvPr/>
          </p:nvSpPr>
          <p:spPr>
            <a:xfrm>
              <a:off x="29516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
            <p:cNvSpPr/>
            <p:nvPr/>
          </p:nvSpPr>
          <p:spPr>
            <a:xfrm>
              <a:off x="273636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
            <p:cNvSpPr/>
            <p:nvPr/>
          </p:nvSpPr>
          <p:spPr>
            <a:xfrm>
              <a:off x="25232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
            <p:cNvSpPr/>
            <p:nvPr/>
          </p:nvSpPr>
          <p:spPr>
            <a:xfrm>
              <a:off x="23101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
            <p:cNvSpPr/>
            <p:nvPr/>
          </p:nvSpPr>
          <p:spPr>
            <a:xfrm>
              <a:off x="209484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
            <p:cNvSpPr/>
            <p:nvPr/>
          </p:nvSpPr>
          <p:spPr>
            <a:xfrm>
              <a:off x="18817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
            <p:cNvSpPr/>
            <p:nvPr/>
          </p:nvSpPr>
          <p:spPr>
            <a:xfrm>
              <a:off x="167148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1458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
            <p:cNvSpPr/>
            <p:nvPr/>
          </p:nvSpPr>
          <p:spPr>
            <a:xfrm>
              <a:off x="124308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
            <p:cNvSpPr/>
            <p:nvPr/>
          </p:nvSpPr>
          <p:spPr>
            <a:xfrm>
              <a:off x="10303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380340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
            <p:cNvSpPr/>
            <p:nvPr/>
          </p:nvSpPr>
          <p:spPr>
            <a:xfrm>
              <a:off x="358812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
            <p:cNvSpPr/>
            <p:nvPr/>
          </p:nvSpPr>
          <p:spPr>
            <a:xfrm>
              <a:off x="3375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
            <p:cNvSpPr/>
            <p:nvPr/>
          </p:nvSpPr>
          <p:spPr>
            <a:xfrm>
              <a:off x="316476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
            <p:cNvSpPr/>
            <p:nvPr/>
          </p:nvSpPr>
          <p:spPr>
            <a:xfrm>
              <a:off x="29516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
            <p:cNvSpPr/>
            <p:nvPr/>
          </p:nvSpPr>
          <p:spPr>
            <a:xfrm>
              <a:off x="273636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
            <p:cNvSpPr/>
            <p:nvPr/>
          </p:nvSpPr>
          <p:spPr>
            <a:xfrm>
              <a:off x="25232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
            <p:cNvSpPr/>
            <p:nvPr/>
          </p:nvSpPr>
          <p:spPr>
            <a:xfrm>
              <a:off x="23101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
            <p:cNvSpPr/>
            <p:nvPr/>
          </p:nvSpPr>
          <p:spPr>
            <a:xfrm>
              <a:off x="209484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
            <p:cNvSpPr/>
            <p:nvPr/>
          </p:nvSpPr>
          <p:spPr>
            <a:xfrm>
              <a:off x="18817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
            <p:cNvSpPr/>
            <p:nvPr/>
          </p:nvSpPr>
          <p:spPr>
            <a:xfrm>
              <a:off x="167148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
            <p:cNvSpPr/>
            <p:nvPr/>
          </p:nvSpPr>
          <p:spPr>
            <a:xfrm>
              <a:off x="1458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
            <p:cNvSpPr/>
            <p:nvPr/>
          </p:nvSpPr>
          <p:spPr>
            <a:xfrm>
              <a:off x="124308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
            <p:cNvSpPr/>
            <p:nvPr/>
          </p:nvSpPr>
          <p:spPr>
            <a:xfrm>
              <a:off x="10303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
            <p:cNvSpPr/>
            <p:nvPr/>
          </p:nvSpPr>
          <p:spPr>
            <a:xfrm>
              <a:off x="380340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
            <p:cNvSpPr/>
            <p:nvPr/>
          </p:nvSpPr>
          <p:spPr>
            <a:xfrm>
              <a:off x="358812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
            <p:cNvSpPr/>
            <p:nvPr/>
          </p:nvSpPr>
          <p:spPr>
            <a:xfrm>
              <a:off x="3375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
            <p:cNvSpPr/>
            <p:nvPr/>
          </p:nvSpPr>
          <p:spPr>
            <a:xfrm>
              <a:off x="316476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
            <p:cNvSpPr/>
            <p:nvPr/>
          </p:nvSpPr>
          <p:spPr>
            <a:xfrm>
              <a:off x="29516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
            <p:cNvSpPr/>
            <p:nvPr/>
          </p:nvSpPr>
          <p:spPr>
            <a:xfrm>
              <a:off x="273636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
            <p:cNvSpPr/>
            <p:nvPr/>
          </p:nvSpPr>
          <p:spPr>
            <a:xfrm>
              <a:off x="25232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p:nvPr/>
          </p:nvSpPr>
          <p:spPr>
            <a:xfrm>
              <a:off x="23101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
            <p:cNvSpPr/>
            <p:nvPr/>
          </p:nvSpPr>
          <p:spPr>
            <a:xfrm>
              <a:off x="209484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
            <p:cNvSpPr/>
            <p:nvPr/>
          </p:nvSpPr>
          <p:spPr>
            <a:xfrm>
              <a:off x="18817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
            <p:cNvSpPr/>
            <p:nvPr/>
          </p:nvSpPr>
          <p:spPr>
            <a:xfrm>
              <a:off x="167148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
            <p:cNvSpPr/>
            <p:nvPr/>
          </p:nvSpPr>
          <p:spPr>
            <a:xfrm>
              <a:off x="1458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
            <p:cNvSpPr/>
            <p:nvPr/>
          </p:nvSpPr>
          <p:spPr>
            <a:xfrm>
              <a:off x="124308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
            <p:cNvSpPr/>
            <p:nvPr/>
          </p:nvSpPr>
          <p:spPr>
            <a:xfrm>
              <a:off x="10303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
            <p:cNvSpPr/>
            <p:nvPr/>
          </p:nvSpPr>
          <p:spPr>
            <a:xfrm>
              <a:off x="380340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
            <p:cNvSpPr/>
            <p:nvPr/>
          </p:nvSpPr>
          <p:spPr>
            <a:xfrm>
              <a:off x="358812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
            <p:cNvSpPr/>
            <p:nvPr/>
          </p:nvSpPr>
          <p:spPr>
            <a:xfrm>
              <a:off x="3375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
            <p:cNvSpPr/>
            <p:nvPr/>
          </p:nvSpPr>
          <p:spPr>
            <a:xfrm>
              <a:off x="316476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
            <p:cNvSpPr/>
            <p:nvPr/>
          </p:nvSpPr>
          <p:spPr>
            <a:xfrm>
              <a:off x="29516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
            <p:cNvSpPr/>
            <p:nvPr/>
          </p:nvSpPr>
          <p:spPr>
            <a:xfrm>
              <a:off x="273636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
            <p:cNvSpPr/>
            <p:nvPr/>
          </p:nvSpPr>
          <p:spPr>
            <a:xfrm>
              <a:off x="25232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
            <p:cNvSpPr/>
            <p:nvPr/>
          </p:nvSpPr>
          <p:spPr>
            <a:xfrm>
              <a:off x="23101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
            <p:cNvSpPr/>
            <p:nvPr/>
          </p:nvSpPr>
          <p:spPr>
            <a:xfrm>
              <a:off x="209484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
            <p:cNvSpPr/>
            <p:nvPr/>
          </p:nvSpPr>
          <p:spPr>
            <a:xfrm>
              <a:off x="18817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
            <p:cNvSpPr/>
            <p:nvPr/>
          </p:nvSpPr>
          <p:spPr>
            <a:xfrm>
              <a:off x="167148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
            <p:cNvSpPr/>
            <p:nvPr/>
          </p:nvSpPr>
          <p:spPr>
            <a:xfrm>
              <a:off x="1458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
            <p:cNvSpPr/>
            <p:nvPr/>
          </p:nvSpPr>
          <p:spPr>
            <a:xfrm>
              <a:off x="124308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
            <p:cNvSpPr/>
            <p:nvPr/>
          </p:nvSpPr>
          <p:spPr>
            <a:xfrm>
              <a:off x="10303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
            <p:cNvSpPr/>
            <p:nvPr/>
          </p:nvSpPr>
          <p:spPr>
            <a:xfrm>
              <a:off x="380340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
            <p:cNvSpPr/>
            <p:nvPr/>
          </p:nvSpPr>
          <p:spPr>
            <a:xfrm>
              <a:off x="358812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
            <p:cNvSpPr/>
            <p:nvPr/>
          </p:nvSpPr>
          <p:spPr>
            <a:xfrm>
              <a:off x="3375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316476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
            <p:cNvSpPr/>
            <p:nvPr/>
          </p:nvSpPr>
          <p:spPr>
            <a:xfrm>
              <a:off x="29516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a:off x="273636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
            <p:cNvSpPr/>
            <p:nvPr/>
          </p:nvSpPr>
          <p:spPr>
            <a:xfrm>
              <a:off x="25232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
            <p:cNvSpPr/>
            <p:nvPr/>
          </p:nvSpPr>
          <p:spPr>
            <a:xfrm>
              <a:off x="23101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
            <p:cNvSpPr/>
            <p:nvPr/>
          </p:nvSpPr>
          <p:spPr>
            <a:xfrm>
              <a:off x="209484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
            <p:cNvSpPr/>
            <p:nvPr/>
          </p:nvSpPr>
          <p:spPr>
            <a:xfrm>
              <a:off x="18817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167148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
            <p:cNvSpPr/>
            <p:nvPr/>
          </p:nvSpPr>
          <p:spPr>
            <a:xfrm>
              <a:off x="1458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
            <p:cNvSpPr/>
            <p:nvPr/>
          </p:nvSpPr>
          <p:spPr>
            <a:xfrm>
              <a:off x="124308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
            <p:cNvSpPr/>
            <p:nvPr/>
          </p:nvSpPr>
          <p:spPr>
            <a:xfrm>
              <a:off x="10303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
            <p:cNvSpPr/>
            <p:nvPr/>
          </p:nvSpPr>
          <p:spPr>
            <a:xfrm>
              <a:off x="380340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358812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
            <p:cNvSpPr/>
            <p:nvPr/>
          </p:nvSpPr>
          <p:spPr>
            <a:xfrm>
              <a:off x="3375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
            <p:cNvSpPr/>
            <p:nvPr/>
          </p:nvSpPr>
          <p:spPr>
            <a:xfrm>
              <a:off x="316476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
            <p:cNvSpPr/>
            <p:nvPr/>
          </p:nvSpPr>
          <p:spPr>
            <a:xfrm>
              <a:off x="29516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
            <p:cNvSpPr/>
            <p:nvPr/>
          </p:nvSpPr>
          <p:spPr>
            <a:xfrm>
              <a:off x="273636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
            <p:cNvSpPr/>
            <p:nvPr/>
          </p:nvSpPr>
          <p:spPr>
            <a:xfrm>
              <a:off x="25232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
            <p:cNvSpPr/>
            <p:nvPr/>
          </p:nvSpPr>
          <p:spPr>
            <a:xfrm>
              <a:off x="23101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
            <p:cNvSpPr/>
            <p:nvPr/>
          </p:nvSpPr>
          <p:spPr>
            <a:xfrm>
              <a:off x="209484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
            <p:cNvSpPr/>
            <p:nvPr/>
          </p:nvSpPr>
          <p:spPr>
            <a:xfrm>
              <a:off x="18817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167148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
            <p:cNvSpPr/>
            <p:nvPr/>
          </p:nvSpPr>
          <p:spPr>
            <a:xfrm>
              <a:off x="1458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
            <p:cNvSpPr/>
            <p:nvPr/>
          </p:nvSpPr>
          <p:spPr>
            <a:xfrm>
              <a:off x="124308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
            <p:cNvSpPr/>
            <p:nvPr/>
          </p:nvSpPr>
          <p:spPr>
            <a:xfrm>
              <a:off x="10303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
            <p:cNvSpPr/>
            <p:nvPr/>
          </p:nvSpPr>
          <p:spPr>
            <a:xfrm>
              <a:off x="380340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
            <p:cNvSpPr/>
            <p:nvPr/>
          </p:nvSpPr>
          <p:spPr>
            <a:xfrm>
              <a:off x="358812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
            <p:cNvSpPr/>
            <p:nvPr/>
          </p:nvSpPr>
          <p:spPr>
            <a:xfrm>
              <a:off x="3375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
            <p:cNvSpPr/>
            <p:nvPr/>
          </p:nvSpPr>
          <p:spPr>
            <a:xfrm>
              <a:off x="316476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
            <p:cNvSpPr/>
            <p:nvPr/>
          </p:nvSpPr>
          <p:spPr>
            <a:xfrm>
              <a:off x="29516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
            <p:cNvSpPr/>
            <p:nvPr/>
          </p:nvSpPr>
          <p:spPr>
            <a:xfrm>
              <a:off x="273636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
            <p:cNvSpPr/>
            <p:nvPr/>
          </p:nvSpPr>
          <p:spPr>
            <a:xfrm>
              <a:off x="25232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
            <p:cNvSpPr/>
            <p:nvPr/>
          </p:nvSpPr>
          <p:spPr>
            <a:xfrm>
              <a:off x="23101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
            <p:cNvSpPr/>
            <p:nvPr/>
          </p:nvSpPr>
          <p:spPr>
            <a:xfrm>
              <a:off x="209484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
            <p:cNvSpPr/>
            <p:nvPr/>
          </p:nvSpPr>
          <p:spPr>
            <a:xfrm>
              <a:off x="18817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
            <p:cNvSpPr/>
            <p:nvPr/>
          </p:nvSpPr>
          <p:spPr>
            <a:xfrm>
              <a:off x="167148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
            <p:cNvSpPr/>
            <p:nvPr/>
          </p:nvSpPr>
          <p:spPr>
            <a:xfrm>
              <a:off x="1458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
            <p:cNvSpPr/>
            <p:nvPr/>
          </p:nvSpPr>
          <p:spPr>
            <a:xfrm>
              <a:off x="124308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
            <p:cNvSpPr/>
            <p:nvPr/>
          </p:nvSpPr>
          <p:spPr>
            <a:xfrm>
              <a:off x="10303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
            <p:cNvSpPr/>
            <p:nvPr/>
          </p:nvSpPr>
          <p:spPr>
            <a:xfrm>
              <a:off x="380340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
            <p:cNvSpPr/>
            <p:nvPr/>
          </p:nvSpPr>
          <p:spPr>
            <a:xfrm>
              <a:off x="358812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
            <p:cNvSpPr/>
            <p:nvPr/>
          </p:nvSpPr>
          <p:spPr>
            <a:xfrm>
              <a:off x="3375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
            <p:cNvSpPr/>
            <p:nvPr/>
          </p:nvSpPr>
          <p:spPr>
            <a:xfrm>
              <a:off x="316476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
            <p:cNvSpPr/>
            <p:nvPr/>
          </p:nvSpPr>
          <p:spPr>
            <a:xfrm>
              <a:off x="29516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
            <p:cNvSpPr/>
            <p:nvPr/>
          </p:nvSpPr>
          <p:spPr>
            <a:xfrm>
              <a:off x="273636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
            <p:cNvSpPr/>
            <p:nvPr/>
          </p:nvSpPr>
          <p:spPr>
            <a:xfrm>
              <a:off x="25232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
            <p:cNvSpPr/>
            <p:nvPr/>
          </p:nvSpPr>
          <p:spPr>
            <a:xfrm>
              <a:off x="23101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
            <p:cNvSpPr/>
            <p:nvPr/>
          </p:nvSpPr>
          <p:spPr>
            <a:xfrm>
              <a:off x="209484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
            <p:cNvSpPr/>
            <p:nvPr/>
          </p:nvSpPr>
          <p:spPr>
            <a:xfrm>
              <a:off x="18817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
            <p:cNvSpPr/>
            <p:nvPr/>
          </p:nvSpPr>
          <p:spPr>
            <a:xfrm>
              <a:off x="167148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
            <p:cNvSpPr/>
            <p:nvPr/>
          </p:nvSpPr>
          <p:spPr>
            <a:xfrm>
              <a:off x="1458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
            <p:cNvSpPr/>
            <p:nvPr/>
          </p:nvSpPr>
          <p:spPr>
            <a:xfrm>
              <a:off x="124308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
            <p:cNvSpPr/>
            <p:nvPr/>
          </p:nvSpPr>
          <p:spPr>
            <a:xfrm>
              <a:off x="10303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
            <p:cNvSpPr/>
            <p:nvPr/>
          </p:nvSpPr>
          <p:spPr>
            <a:xfrm>
              <a:off x="1030320" y="14598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1030320" y="1617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1030320" y="1774800"/>
              <a:ext cx="1492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1030320" y="1932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1030320" y="20916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1030320" y="22492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1030320" y="24073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1030320" y="2566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1030320" y="2724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1030320" y="2881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1030320" y="30391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1030320" y="31982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1030320" y="3355920"/>
              <a:ext cx="29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103032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1458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7148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18817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20948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2310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2523240" y="1143000"/>
              <a:ext cx="0" cy="63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2736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29516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31647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3375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3588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380340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401616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1243080" y="1143000"/>
              <a:ext cx="27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1243080" y="1300680"/>
              <a:ext cx="0" cy="205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1243080" y="1143000"/>
              <a:ext cx="0" cy="157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1243080" y="1300680"/>
              <a:ext cx="277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1030320" y="130068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1030320" y="114300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2523240" y="1774800"/>
              <a:ext cx="149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523240" y="1774800"/>
              <a:ext cx="0" cy="142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2523240" y="3198240"/>
              <a:ext cx="0" cy="15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4304880" y="1787040"/>
              <a:ext cx="34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523" name=""/>
            <p:cNvSpPr/>
            <p:nvPr/>
          </p:nvSpPr>
          <p:spPr>
            <a:xfrm>
              <a:off x="685800" y="3422160"/>
              <a:ext cx="34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524" name=""/>
            <p:cNvSpPr/>
            <p:nvPr/>
          </p:nvSpPr>
          <p:spPr>
            <a:xfrm>
              <a:off x="4131360" y="2034720"/>
              <a:ext cx="344520" cy="29700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915120" y="3372480"/>
              <a:ext cx="258480" cy="206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6" name=""/>
          <p:cNvSpPr/>
          <p:nvPr/>
        </p:nvSpPr>
        <p:spPr>
          <a:xfrm>
            <a:off x="4876920" y="2057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p:txBody>
      </p:sp>
      <p:grpSp>
        <p:nvGrpSpPr>
          <p:cNvPr id="2527" name=""/>
          <p:cNvGrpSpPr/>
          <p:nvPr/>
        </p:nvGrpSpPr>
        <p:grpSpPr>
          <a:xfrm>
            <a:off x="762120" y="3733920"/>
            <a:ext cx="3809520" cy="2669760"/>
            <a:chOff x="762120" y="3733920"/>
            <a:chExt cx="3809520" cy="2669760"/>
          </a:xfrm>
        </p:grpSpPr>
        <p:sp>
          <p:nvSpPr>
            <p:cNvPr id="2528" name=""/>
            <p:cNvSpPr/>
            <p:nvPr/>
          </p:nvSpPr>
          <p:spPr>
            <a:xfrm>
              <a:off x="375948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
            <p:cNvSpPr/>
            <p:nvPr/>
          </p:nvSpPr>
          <p:spPr>
            <a:xfrm>
              <a:off x="355284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
            <p:cNvSpPr/>
            <p:nvPr/>
          </p:nvSpPr>
          <p:spPr>
            <a:xfrm>
              <a:off x="33480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
            <p:cNvSpPr/>
            <p:nvPr/>
          </p:nvSpPr>
          <p:spPr>
            <a:xfrm>
              <a:off x="314532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
            <p:cNvSpPr/>
            <p:nvPr/>
          </p:nvSpPr>
          <p:spPr>
            <a:xfrm>
              <a:off x="29408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
            <p:cNvSpPr/>
            <p:nvPr/>
          </p:nvSpPr>
          <p:spPr>
            <a:xfrm>
              <a:off x="273348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
            <p:cNvSpPr/>
            <p:nvPr/>
          </p:nvSpPr>
          <p:spPr>
            <a:xfrm>
              <a:off x="25286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23241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
            <p:cNvSpPr/>
            <p:nvPr/>
          </p:nvSpPr>
          <p:spPr>
            <a:xfrm>
              <a:off x="211680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
            <p:cNvSpPr/>
            <p:nvPr/>
          </p:nvSpPr>
          <p:spPr>
            <a:xfrm>
              <a:off x="19119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
            <p:cNvSpPr/>
            <p:nvPr/>
          </p:nvSpPr>
          <p:spPr>
            <a:xfrm>
              <a:off x="170964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15048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
            <p:cNvSpPr/>
            <p:nvPr/>
          </p:nvSpPr>
          <p:spPr>
            <a:xfrm>
              <a:off x="129816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
            <p:cNvSpPr/>
            <p:nvPr/>
          </p:nvSpPr>
          <p:spPr>
            <a:xfrm>
              <a:off x="109332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
            <p:cNvSpPr/>
            <p:nvPr/>
          </p:nvSpPr>
          <p:spPr>
            <a:xfrm>
              <a:off x="375948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
            <p:cNvSpPr/>
            <p:nvPr/>
          </p:nvSpPr>
          <p:spPr>
            <a:xfrm>
              <a:off x="355284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
            <p:cNvSpPr/>
            <p:nvPr/>
          </p:nvSpPr>
          <p:spPr>
            <a:xfrm>
              <a:off x="33480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
            <p:cNvSpPr/>
            <p:nvPr/>
          </p:nvSpPr>
          <p:spPr>
            <a:xfrm>
              <a:off x="314532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
            <p:cNvSpPr/>
            <p:nvPr/>
          </p:nvSpPr>
          <p:spPr>
            <a:xfrm>
              <a:off x="29408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
            <p:cNvSpPr/>
            <p:nvPr/>
          </p:nvSpPr>
          <p:spPr>
            <a:xfrm>
              <a:off x="273348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
            <p:cNvSpPr/>
            <p:nvPr/>
          </p:nvSpPr>
          <p:spPr>
            <a:xfrm>
              <a:off x="25286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
            <p:cNvSpPr/>
            <p:nvPr/>
          </p:nvSpPr>
          <p:spPr>
            <a:xfrm>
              <a:off x="23241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
            <p:cNvSpPr/>
            <p:nvPr/>
          </p:nvSpPr>
          <p:spPr>
            <a:xfrm>
              <a:off x="211680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
            <p:cNvSpPr/>
            <p:nvPr/>
          </p:nvSpPr>
          <p:spPr>
            <a:xfrm>
              <a:off x="19119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170964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15048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
            <p:cNvSpPr/>
            <p:nvPr/>
          </p:nvSpPr>
          <p:spPr>
            <a:xfrm>
              <a:off x="129816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
            <p:cNvSpPr/>
            <p:nvPr/>
          </p:nvSpPr>
          <p:spPr>
            <a:xfrm>
              <a:off x="109332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a:off x="375948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
            <p:cNvSpPr/>
            <p:nvPr/>
          </p:nvSpPr>
          <p:spPr>
            <a:xfrm>
              <a:off x="355284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
            <p:cNvSpPr/>
            <p:nvPr/>
          </p:nvSpPr>
          <p:spPr>
            <a:xfrm>
              <a:off x="33480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
            <p:cNvSpPr/>
            <p:nvPr/>
          </p:nvSpPr>
          <p:spPr>
            <a:xfrm>
              <a:off x="314532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
            <p:cNvSpPr/>
            <p:nvPr/>
          </p:nvSpPr>
          <p:spPr>
            <a:xfrm>
              <a:off x="29408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
            <p:cNvSpPr/>
            <p:nvPr/>
          </p:nvSpPr>
          <p:spPr>
            <a:xfrm>
              <a:off x="273348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
            <p:cNvSpPr/>
            <p:nvPr/>
          </p:nvSpPr>
          <p:spPr>
            <a:xfrm>
              <a:off x="25286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
            <p:cNvSpPr/>
            <p:nvPr/>
          </p:nvSpPr>
          <p:spPr>
            <a:xfrm>
              <a:off x="23241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211680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19119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
            <p:cNvSpPr/>
            <p:nvPr/>
          </p:nvSpPr>
          <p:spPr>
            <a:xfrm>
              <a:off x="170964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
            <p:cNvSpPr/>
            <p:nvPr/>
          </p:nvSpPr>
          <p:spPr>
            <a:xfrm>
              <a:off x="15048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
            <p:cNvSpPr/>
            <p:nvPr/>
          </p:nvSpPr>
          <p:spPr>
            <a:xfrm>
              <a:off x="129816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
            <p:cNvSpPr/>
            <p:nvPr/>
          </p:nvSpPr>
          <p:spPr>
            <a:xfrm>
              <a:off x="109332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375948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
            <p:cNvSpPr/>
            <p:nvPr/>
          </p:nvSpPr>
          <p:spPr>
            <a:xfrm>
              <a:off x="355284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
            <p:cNvSpPr/>
            <p:nvPr/>
          </p:nvSpPr>
          <p:spPr>
            <a:xfrm>
              <a:off x="33480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
            <p:cNvSpPr/>
            <p:nvPr/>
          </p:nvSpPr>
          <p:spPr>
            <a:xfrm>
              <a:off x="314532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
            <p:cNvSpPr/>
            <p:nvPr/>
          </p:nvSpPr>
          <p:spPr>
            <a:xfrm>
              <a:off x="29408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
            <p:cNvSpPr/>
            <p:nvPr/>
          </p:nvSpPr>
          <p:spPr>
            <a:xfrm>
              <a:off x="273348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
            <p:cNvSpPr/>
            <p:nvPr/>
          </p:nvSpPr>
          <p:spPr>
            <a:xfrm>
              <a:off x="25286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
            <p:cNvSpPr/>
            <p:nvPr/>
          </p:nvSpPr>
          <p:spPr>
            <a:xfrm>
              <a:off x="23241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
            <p:cNvSpPr/>
            <p:nvPr/>
          </p:nvSpPr>
          <p:spPr>
            <a:xfrm>
              <a:off x="211680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a:off x="19119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
            <p:cNvSpPr/>
            <p:nvPr/>
          </p:nvSpPr>
          <p:spPr>
            <a:xfrm>
              <a:off x="170964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
            <p:cNvSpPr/>
            <p:nvPr/>
          </p:nvSpPr>
          <p:spPr>
            <a:xfrm>
              <a:off x="15048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
            <p:cNvSpPr/>
            <p:nvPr/>
          </p:nvSpPr>
          <p:spPr>
            <a:xfrm>
              <a:off x="129816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
            <p:cNvSpPr/>
            <p:nvPr/>
          </p:nvSpPr>
          <p:spPr>
            <a:xfrm>
              <a:off x="109332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
            <p:cNvSpPr/>
            <p:nvPr/>
          </p:nvSpPr>
          <p:spPr>
            <a:xfrm>
              <a:off x="375948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
            <p:cNvSpPr/>
            <p:nvPr/>
          </p:nvSpPr>
          <p:spPr>
            <a:xfrm>
              <a:off x="355284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33480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
            <p:cNvSpPr/>
            <p:nvPr/>
          </p:nvSpPr>
          <p:spPr>
            <a:xfrm>
              <a:off x="314532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29408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273348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
            <p:cNvSpPr/>
            <p:nvPr/>
          </p:nvSpPr>
          <p:spPr>
            <a:xfrm>
              <a:off x="25286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
            <p:cNvSpPr/>
            <p:nvPr/>
          </p:nvSpPr>
          <p:spPr>
            <a:xfrm>
              <a:off x="23241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
            <p:cNvSpPr/>
            <p:nvPr/>
          </p:nvSpPr>
          <p:spPr>
            <a:xfrm>
              <a:off x="211680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
            <p:cNvSpPr/>
            <p:nvPr/>
          </p:nvSpPr>
          <p:spPr>
            <a:xfrm>
              <a:off x="19119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
            <p:cNvSpPr/>
            <p:nvPr/>
          </p:nvSpPr>
          <p:spPr>
            <a:xfrm>
              <a:off x="170964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
            <p:cNvSpPr/>
            <p:nvPr/>
          </p:nvSpPr>
          <p:spPr>
            <a:xfrm>
              <a:off x="15048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
            <p:cNvSpPr/>
            <p:nvPr/>
          </p:nvSpPr>
          <p:spPr>
            <a:xfrm>
              <a:off x="129816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
            <p:cNvSpPr/>
            <p:nvPr/>
          </p:nvSpPr>
          <p:spPr>
            <a:xfrm>
              <a:off x="109332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
            <p:cNvSpPr/>
            <p:nvPr/>
          </p:nvSpPr>
          <p:spPr>
            <a:xfrm>
              <a:off x="375948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
            <p:cNvSpPr/>
            <p:nvPr/>
          </p:nvSpPr>
          <p:spPr>
            <a:xfrm>
              <a:off x="355284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
            <p:cNvSpPr/>
            <p:nvPr/>
          </p:nvSpPr>
          <p:spPr>
            <a:xfrm>
              <a:off x="33480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
            <p:cNvSpPr/>
            <p:nvPr/>
          </p:nvSpPr>
          <p:spPr>
            <a:xfrm>
              <a:off x="314532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
            <p:cNvSpPr/>
            <p:nvPr/>
          </p:nvSpPr>
          <p:spPr>
            <a:xfrm>
              <a:off x="29408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
            <p:cNvSpPr/>
            <p:nvPr/>
          </p:nvSpPr>
          <p:spPr>
            <a:xfrm>
              <a:off x="273348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25286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
            <p:cNvSpPr/>
            <p:nvPr/>
          </p:nvSpPr>
          <p:spPr>
            <a:xfrm>
              <a:off x="23241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
            <p:cNvSpPr/>
            <p:nvPr/>
          </p:nvSpPr>
          <p:spPr>
            <a:xfrm>
              <a:off x="211680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
            <p:cNvSpPr/>
            <p:nvPr/>
          </p:nvSpPr>
          <p:spPr>
            <a:xfrm>
              <a:off x="19119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
            <p:cNvSpPr/>
            <p:nvPr/>
          </p:nvSpPr>
          <p:spPr>
            <a:xfrm>
              <a:off x="170964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
            <p:cNvSpPr/>
            <p:nvPr/>
          </p:nvSpPr>
          <p:spPr>
            <a:xfrm>
              <a:off x="15048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
            <p:cNvSpPr/>
            <p:nvPr/>
          </p:nvSpPr>
          <p:spPr>
            <a:xfrm>
              <a:off x="129816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
            <p:cNvSpPr/>
            <p:nvPr/>
          </p:nvSpPr>
          <p:spPr>
            <a:xfrm>
              <a:off x="109332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
            <p:cNvSpPr/>
            <p:nvPr/>
          </p:nvSpPr>
          <p:spPr>
            <a:xfrm>
              <a:off x="375948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
            <p:cNvSpPr/>
            <p:nvPr/>
          </p:nvSpPr>
          <p:spPr>
            <a:xfrm>
              <a:off x="355284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
            <p:cNvSpPr/>
            <p:nvPr/>
          </p:nvSpPr>
          <p:spPr>
            <a:xfrm>
              <a:off x="33480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
            <p:cNvSpPr/>
            <p:nvPr/>
          </p:nvSpPr>
          <p:spPr>
            <a:xfrm>
              <a:off x="314532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
            <p:cNvSpPr/>
            <p:nvPr/>
          </p:nvSpPr>
          <p:spPr>
            <a:xfrm>
              <a:off x="29408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
            <p:cNvSpPr/>
            <p:nvPr/>
          </p:nvSpPr>
          <p:spPr>
            <a:xfrm>
              <a:off x="273348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
            <p:cNvSpPr/>
            <p:nvPr/>
          </p:nvSpPr>
          <p:spPr>
            <a:xfrm>
              <a:off x="25286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
            <p:cNvSpPr/>
            <p:nvPr/>
          </p:nvSpPr>
          <p:spPr>
            <a:xfrm>
              <a:off x="23241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
            <p:cNvSpPr/>
            <p:nvPr/>
          </p:nvSpPr>
          <p:spPr>
            <a:xfrm>
              <a:off x="211680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19119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
            <p:cNvSpPr/>
            <p:nvPr/>
          </p:nvSpPr>
          <p:spPr>
            <a:xfrm>
              <a:off x="170964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
            <p:cNvSpPr/>
            <p:nvPr/>
          </p:nvSpPr>
          <p:spPr>
            <a:xfrm>
              <a:off x="15048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a:off x="129816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
            <p:cNvSpPr/>
            <p:nvPr/>
          </p:nvSpPr>
          <p:spPr>
            <a:xfrm>
              <a:off x="109332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
            <p:cNvSpPr/>
            <p:nvPr/>
          </p:nvSpPr>
          <p:spPr>
            <a:xfrm>
              <a:off x="375948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
            <p:cNvSpPr/>
            <p:nvPr/>
          </p:nvSpPr>
          <p:spPr>
            <a:xfrm>
              <a:off x="355284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
            <p:cNvSpPr/>
            <p:nvPr/>
          </p:nvSpPr>
          <p:spPr>
            <a:xfrm>
              <a:off x="33480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
            <p:cNvSpPr/>
            <p:nvPr/>
          </p:nvSpPr>
          <p:spPr>
            <a:xfrm>
              <a:off x="314532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a:off x="29408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
            <p:cNvSpPr/>
            <p:nvPr/>
          </p:nvSpPr>
          <p:spPr>
            <a:xfrm>
              <a:off x="273348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
            <p:cNvSpPr/>
            <p:nvPr/>
          </p:nvSpPr>
          <p:spPr>
            <a:xfrm>
              <a:off x="25286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a:off x="23241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211680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
            <p:cNvSpPr/>
            <p:nvPr/>
          </p:nvSpPr>
          <p:spPr>
            <a:xfrm>
              <a:off x="19119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
            <p:cNvSpPr/>
            <p:nvPr/>
          </p:nvSpPr>
          <p:spPr>
            <a:xfrm>
              <a:off x="170964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
            <p:cNvSpPr/>
            <p:nvPr/>
          </p:nvSpPr>
          <p:spPr>
            <a:xfrm>
              <a:off x="15048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
            <p:cNvSpPr/>
            <p:nvPr/>
          </p:nvSpPr>
          <p:spPr>
            <a:xfrm>
              <a:off x="129816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
            <p:cNvSpPr/>
            <p:nvPr/>
          </p:nvSpPr>
          <p:spPr>
            <a:xfrm>
              <a:off x="109332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
            <p:cNvSpPr/>
            <p:nvPr/>
          </p:nvSpPr>
          <p:spPr>
            <a:xfrm>
              <a:off x="375948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
            <p:cNvSpPr/>
            <p:nvPr/>
          </p:nvSpPr>
          <p:spPr>
            <a:xfrm>
              <a:off x="355284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33480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
            <p:cNvSpPr/>
            <p:nvPr/>
          </p:nvSpPr>
          <p:spPr>
            <a:xfrm>
              <a:off x="314532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
            <p:cNvSpPr/>
            <p:nvPr/>
          </p:nvSpPr>
          <p:spPr>
            <a:xfrm>
              <a:off x="29408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
            <p:cNvSpPr/>
            <p:nvPr/>
          </p:nvSpPr>
          <p:spPr>
            <a:xfrm>
              <a:off x="273348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
            <p:cNvSpPr/>
            <p:nvPr/>
          </p:nvSpPr>
          <p:spPr>
            <a:xfrm>
              <a:off x="25286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
            <p:cNvSpPr/>
            <p:nvPr/>
          </p:nvSpPr>
          <p:spPr>
            <a:xfrm>
              <a:off x="23241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
            <p:cNvSpPr/>
            <p:nvPr/>
          </p:nvSpPr>
          <p:spPr>
            <a:xfrm>
              <a:off x="211680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
            <p:cNvSpPr/>
            <p:nvPr/>
          </p:nvSpPr>
          <p:spPr>
            <a:xfrm>
              <a:off x="19119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
            <p:cNvSpPr/>
            <p:nvPr/>
          </p:nvSpPr>
          <p:spPr>
            <a:xfrm>
              <a:off x="170964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
            <p:cNvSpPr/>
            <p:nvPr/>
          </p:nvSpPr>
          <p:spPr>
            <a:xfrm>
              <a:off x="15048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
            <p:cNvSpPr/>
            <p:nvPr/>
          </p:nvSpPr>
          <p:spPr>
            <a:xfrm>
              <a:off x="129816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
            <p:cNvSpPr/>
            <p:nvPr/>
          </p:nvSpPr>
          <p:spPr>
            <a:xfrm>
              <a:off x="109332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
            <p:cNvSpPr/>
            <p:nvPr/>
          </p:nvSpPr>
          <p:spPr>
            <a:xfrm>
              <a:off x="375948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
            <p:cNvSpPr/>
            <p:nvPr/>
          </p:nvSpPr>
          <p:spPr>
            <a:xfrm>
              <a:off x="355284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
            <p:cNvSpPr/>
            <p:nvPr/>
          </p:nvSpPr>
          <p:spPr>
            <a:xfrm>
              <a:off x="33480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
            <p:cNvSpPr/>
            <p:nvPr/>
          </p:nvSpPr>
          <p:spPr>
            <a:xfrm>
              <a:off x="314532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
            <p:cNvSpPr/>
            <p:nvPr/>
          </p:nvSpPr>
          <p:spPr>
            <a:xfrm>
              <a:off x="29408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
            <p:cNvSpPr/>
            <p:nvPr/>
          </p:nvSpPr>
          <p:spPr>
            <a:xfrm>
              <a:off x="273348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
            <p:cNvSpPr/>
            <p:nvPr/>
          </p:nvSpPr>
          <p:spPr>
            <a:xfrm>
              <a:off x="25286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
            <p:cNvSpPr/>
            <p:nvPr/>
          </p:nvSpPr>
          <p:spPr>
            <a:xfrm>
              <a:off x="23241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
            <p:cNvSpPr/>
            <p:nvPr/>
          </p:nvSpPr>
          <p:spPr>
            <a:xfrm>
              <a:off x="211680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
            <p:cNvSpPr/>
            <p:nvPr/>
          </p:nvSpPr>
          <p:spPr>
            <a:xfrm>
              <a:off x="19119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
            <p:cNvSpPr/>
            <p:nvPr/>
          </p:nvSpPr>
          <p:spPr>
            <a:xfrm>
              <a:off x="170964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
            <p:cNvSpPr/>
            <p:nvPr/>
          </p:nvSpPr>
          <p:spPr>
            <a:xfrm>
              <a:off x="15048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
            <p:cNvSpPr/>
            <p:nvPr/>
          </p:nvSpPr>
          <p:spPr>
            <a:xfrm>
              <a:off x="129816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109332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
            <p:cNvSpPr/>
            <p:nvPr/>
          </p:nvSpPr>
          <p:spPr>
            <a:xfrm>
              <a:off x="375948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
            <p:cNvSpPr/>
            <p:nvPr/>
          </p:nvSpPr>
          <p:spPr>
            <a:xfrm>
              <a:off x="355284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
            <p:cNvSpPr/>
            <p:nvPr/>
          </p:nvSpPr>
          <p:spPr>
            <a:xfrm>
              <a:off x="33480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
            <p:cNvSpPr/>
            <p:nvPr/>
          </p:nvSpPr>
          <p:spPr>
            <a:xfrm>
              <a:off x="314532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
            <p:cNvSpPr/>
            <p:nvPr/>
          </p:nvSpPr>
          <p:spPr>
            <a:xfrm>
              <a:off x="29408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
            <p:cNvSpPr/>
            <p:nvPr/>
          </p:nvSpPr>
          <p:spPr>
            <a:xfrm>
              <a:off x="273348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
            <p:cNvSpPr/>
            <p:nvPr/>
          </p:nvSpPr>
          <p:spPr>
            <a:xfrm>
              <a:off x="25286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
            <p:cNvSpPr/>
            <p:nvPr/>
          </p:nvSpPr>
          <p:spPr>
            <a:xfrm>
              <a:off x="23241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
            <p:cNvSpPr/>
            <p:nvPr/>
          </p:nvSpPr>
          <p:spPr>
            <a:xfrm>
              <a:off x="211680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
            <p:cNvSpPr/>
            <p:nvPr/>
          </p:nvSpPr>
          <p:spPr>
            <a:xfrm>
              <a:off x="19119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
            <p:cNvSpPr/>
            <p:nvPr/>
          </p:nvSpPr>
          <p:spPr>
            <a:xfrm>
              <a:off x="170964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
            <p:cNvSpPr/>
            <p:nvPr/>
          </p:nvSpPr>
          <p:spPr>
            <a:xfrm>
              <a:off x="15048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
            <p:cNvSpPr/>
            <p:nvPr/>
          </p:nvSpPr>
          <p:spPr>
            <a:xfrm>
              <a:off x="129816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
            <p:cNvSpPr/>
            <p:nvPr/>
          </p:nvSpPr>
          <p:spPr>
            <a:xfrm>
              <a:off x="109332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
            <p:cNvSpPr/>
            <p:nvPr/>
          </p:nvSpPr>
          <p:spPr>
            <a:xfrm>
              <a:off x="375948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
            <p:cNvSpPr/>
            <p:nvPr/>
          </p:nvSpPr>
          <p:spPr>
            <a:xfrm>
              <a:off x="355284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
            <p:cNvSpPr/>
            <p:nvPr/>
          </p:nvSpPr>
          <p:spPr>
            <a:xfrm>
              <a:off x="33480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
            <p:cNvSpPr/>
            <p:nvPr/>
          </p:nvSpPr>
          <p:spPr>
            <a:xfrm>
              <a:off x="314532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
            <p:cNvSpPr/>
            <p:nvPr/>
          </p:nvSpPr>
          <p:spPr>
            <a:xfrm>
              <a:off x="29408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
            <p:cNvSpPr/>
            <p:nvPr/>
          </p:nvSpPr>
          <p:spPr>
            <a:xfrm>
              <a:off x="273348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
            <p:cNvSpPr/>
            <p:nvPr/>
          </p:nvSpPr>
          <p:spPr>
            <a:xfrm>
              <a:off x="25286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
            <p:cNvSpPr/>
            <p:nvPr/>
          </p:nvSpPr>
          <p:spPr>
            <a:xfrm>
              <a:off x="23241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
            <p:cNvSpPr/>
            <p:nvPr/>
          </p:nvSpPr>
          <p:spPr>
            <a:xfrm>
              <a:off x="211680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
            <p:cNvSpPr/>
            <p:nvPr/>
          </p:nvSpPr>
          <p:spPr>
            <a:xfrm>
              <a:off x="19119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
            <p:cNvSpPr/>
            <p:nvPr/>
          </p:nvSpPr>
          <p:spPr>
            <a:xfrm>
              <a:off x="170964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
            <p:cNvSpPr/>
            <p:nvPr/>
          </p:nvSpPr>
          <p:spPr>
            <a:xfrm>
              <a:off x="15048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
            <p:cNvSpPr/>
            <p:nvPr/>
          </p:nvSpPr>
          <p:spPr>
            <a:xfrm>
              <a:off x="129816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
            <p:cNvSpPr/>
            <p:nvPr/>
          </p:nvSpPr>
          <p:spPr>
            <a:xfrm>
              <a:off x="109332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
            <p:cNvSpPr/>
            <p:nvPr/>
          </p:nvSpPr>
          <p:spPr>
            <a:xfrm>
              <a:off x="375948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
            <p:cNvSpPr/>
            <p:nvPr/>
          </p:nvSpPr>
          <p:spPr>
            <a:xfrm>
              <a:off x="355284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
            <p:cNvSpPr/>
            <p:nvPr/>
          </p:nvSpPr>
          <p:spPr>
            <a:xfrm>
              <a:off x="33480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
            <p:cNvSpPr/>
            <p:nvPr/>
          </p:nvSpPr>
          <p:spPr>
            <a:xfrm>
              <a:off x="314532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29408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
            <p:cNvSpPr/>
            <p:nvPr/>
          </p:nvSpPr>
          <p:spPr>
            <a:xfrm>
              <a:off x="273348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
            <p:cNvSpPr/>
            <p:nvPr/>
          </p:nvSpPr>
          <p:spPr>
            <a:xfrm>
              <a:off x="25286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
            <p:cNvSpPr/>
            <p:nvPr/>
          </p:nvSpPr>
          <p:spPr>
            <a:xfrm>
              <a:off x="23241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
            <p:cNvSpPr/>
            <p:nvPr/>
          </p:nvSpPr>
          <p:spPr>
            <a:xfrm>
              <a:off x="211680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19119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170964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
            <p:cNvSpPr/>
            <p:nvPr/>
          </p:nvSpPr>
          <p:spPr>
            <a:xfrm>
              <a:off x="15048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
            <p:cNvSpPr/>
            <p:nvPr/>
          </p:nvSpPr>
          <p:spPr>
            <a:xfrm>
              <a:off x="129816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
            <p:cNvSpPr/>
            <p:nvPr/>
          </p:nvSpPr>
          <p:spPr>
            <a:xfrm>
              <a:off x="109332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
            <p:cNvSpPr/>
            <p:nvPr/>
          </p:nvSpPr>
          <p:spPr>
            <a:xfrm>
              <a:off x="375948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
            <p:cNvSpPr/>
            <p:nvPr/>
          </p:nvSpPr>
          <p:spPr>
            <a:xfrm>
              <a:off x="355284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
            <p:cNvSpPr/>
            <p:nvPr/>
          </p:nvSpPr>
          <p:spPr>
            <a:xfrm>
              <a:off x="33480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
            <p:cNvSpPr/>
            <p:nvPr/>
          </p:nvSpPr>
          <p:spPr>
            <a:xfrm>
              <a:off x="314532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
            <p:cNvSpPr/>
            <p:nvPr/>
          </p:nvSpPr>
          <p:spPr>
            <a:xfrm>
              <a:off x="29408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
            <p:cNvSpPr/>
            <p:nvPr/>
          </p:nvSpPr>
          <p:spPr>
            <a:xfrm>
              <a:off x="273348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25286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
            <p:cNvSpPr/>
            <p:nvPr/>
          </p:nvSpPr>
          <p:spPr>
            <a:xfrm>
              <a:off x="23241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
            <p:cNvSpPr/>
            <p:nvPr/>
          </p:nvSpPr>
          <p:spPr>
            <a:xfrm>
              <a:off x="211680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
            <p:cNvSpPr/>
            <p:nvPr/>
          </p:nvSpPr>
          <p:spPr>
            <a:xfrm>
              <a:off x="19119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
            <p:cNvSpPr/>
            <p:nvPr/>
          </p:nvSpPr>
          <p:spPr>
            <a:xfrm>
              <a:off x="170964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
            <p:cNvSpPr/>
            <p:nvPr/>
          </p:nvSpPr>
          <p:spPr>
            <a:xfrm>
              <a:off x="15048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
            <p:cNvSpPr/>
            <p:nvPr/>
          </p:nvSpPr>
          <p:spPr>
            <a:xfrm>
              <a:off x="129816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
            <p:cNvSpPr/>
            <p:nvPr/>
          </p:nvSpPr>
          <p:spPr>
            <a:xfrm>
              <a:off x="109332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
            <p:cNvSpPr/>
            <p:nvPr/>
          </p:nvSpPr>
          <p:spPr>
            <a:xfrm>
              <a:off x="1093320" y="404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1093320" y="420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1093320" y="4363560"/>
              <a:ext cx="1435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1093320" y="45208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1093320" y="467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1093320" y="483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1093320" y="499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1093320" y="51530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1093320" y="53103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1093320" y="546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1093320" y="562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1093320" y="57826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1093320" y="5940000"/>
              <a:ext cx="287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093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1504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17096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19119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2116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23241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2528640" y="3733920"/>
              <a:ext cx="0" cy="62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2733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2940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314532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33480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3552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3759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a:off x="3964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1298160" y="3733920"/>
              <a:ext cx="26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1298160" y="3891240"/>
              <a:ext cx="0" cy="204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1298160" y="3733920"/>
              <a:ext cx="0" cy="157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1298160" y="3891240"/>
              <a:ext cx="266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1093320" y="389124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1093320" y="373392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528640" y="4363560"/>
              <a:ext cx="143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528640" y="4363560"/>
              <a:ext cx="0" cy="1419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528640" y="5782680"/>
              <a:ext cx="0" cy="15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4241520" y="4374720"/>
              <a:ext cx="33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761" name=""/>
            <p:cNvSpPr/>
            <p:nvPr/>
          </p:nvSpPr>
          <p:spPr>
            <a:xfrm>
              <a:off x="762120" y="6004800"/>
              <a:ext cx="33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762" name=""/>
            <p:cNvSpPr/>
            <p:nvPr/>
          </p:nvSpPr>
          <p:spPr>
            <a:xfrm>
              <a:off x="4074840" y="4622760"/>
              <a:ext cx="331200" cy="29628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982800" y="5956560"/>
              <a:ext cx="248400" cy="20556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4" name=""/>
          <p:cNvSpPr/>
          <p:nvPr/>
        </p:nvSpPr>
        <p:spPr>
          <a:xfrm>
            <a:off x="4876920" y="4495680"/>
            <a:ext cx="3657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oops prevent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BFD41DD-9B17-4186-9B64-1EF065ED3F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ward DFSearch or Backward DFSearch</a:t>
            </a:r>
            <a:endParaRPr b="0" lang="en-US" sz="4000" spc="-1" strike="noStrike">
              <a:solidFill>
                <a:srgbClr val="009900"/>
              </a:solidFill>
              <a:latin typeface="Arial"/>
            </a:endParaRPr>
          </a:p>
        </p:txBody>
      </p:sp>
      <p:sp>
        <p:nvSpPr>
          <p:cNvPr id="2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 predecessors() function as well as a successors() function you can begin at the goal and depth-first-search backwards until you hit a star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When might this be a good ide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4345C-4352-4CA6-A796-1B4780299B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vent An Algorithm Time!</a:t>
            </a:r>
            <a:endParaRPr b="0" lang="en-US" sz="4400" spc="-1" strike="noStrike">
              <a:solidFill>
                <a:srgbClr val="009900"/>
              </a:solidFill>
              <a:latin typeface="Arial"/>
            </a:endParaRPr>
          </a:p>
        </p:txBody>
      </p:sp>
      <p:sp>
        <p:nvSpPr>
          <p:cNvPr id="2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a way to dramatically decrease costs sometimes.  Bidirectional Search.  Can you guess what this algorithm is, and why it can be a huge cost-sav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0C0F24-8E38-4F26-8459-72FCCC4CF5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9"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0"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5346B9A7-6D62-4359-97D4-426D17F565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71"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2"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220B5EE5-5321-4A81-B89E-60BA441E34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50" name="" descr=""/>
          <p:cNvPicPr/>
          <p:nvPr/>
        </p:nvPicPr>
        <p:blipFill>
          <a:blip r:embed="rId1"/>
          <a:stretch/>
        </p:blipFill>
        <p:spPr>
          <a:xfrm>
            <a:off x="304920" y="1143000"/>
            <a:ext cx="4952880" cy="3598920"/>
          </a:xfrm>
          <a:prstGeom prst="rect">
            <a:avLst/>
          </a:prstGeom>
          <a:ln w="0">
            <a:noFill/>
          </a:ln>
        </p:spPr>
      </p:pic>
      <p:sp>
        <p:nvSpPr>
          <p:cNvPr id="15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52" name="" descr=""/>
          <p:cNvPicPr/>
          <p:nvPr/>
        </p:nvPicPr>
        <p:blipFill>
          <a:blip r:embed="rId2"/>
          <a:stretch/>
        </p:blipFill>
        <p:spPr>
          <a:xfrm>
            <a:off x="5715000" y="2438280"/>
            <a:ext cx="2743200" cy="1771920"/>
          </a:xfrm>
          <a:prstGeom prst="rect">
            <a:avLst/>
          </a:prstGeom>
          <a:ln w="0">
            <a:noFill/>
          </a:ln>
        </p:spPr>
      </p:pic>
      <p:sp>
        <p:nvSpPr>
          <p:cNvPr id="15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54" name="" descr=""/>
          <p:cNvPicPr/>
          <p:nvPr/>
        </p:nvPicPr>
        <p:blipFill>
          <a:blip r:embed="rId3"/>
          <a:stretch/>
        </p:blipFill>
        <p:spPr>
          <a:xfrm>
            <a:off x="152280" y="5105520"/>
            <a:ext cx="1505160" cy="1504800"/>
          </a:xfrm>
          <a:prstGeom prst="rect">
            <a:avLst/>
          </a:prstGeom>
          <a:ln w="0">
            <a:noFill/>
          </a:ln>
        </p:spPr>
      </p:pic>
      <p:pic>
        <p:nvPicPr>
          <p:cNvPr id="155" name="" descr=""/>
          <p:cNvPicPr/>
          <p:nvPr/>
        </p:nvPicPr>
        <p:blipFill>
          <a:blip r:embed="rId4"/>
          <a:stretch/>
        </p:blipFill>
        <p:spPr>
          <a:xfrm>
            <a:off x="1676520" y="4952880"/>
            <a:ext cx="1490400" cy="1552680"/>
          </a:xfrm>
          <a:prstGeom prst="rect">
            <a:avLst/>
          </a:prstGeom>
          <a:ln w="0">
            <a:noFill/>
          </a:ln>
        </p:spPr>
      </p:pic>
      <p:pic>
        <p:nvPicPr>
          <p:cNvPr id="156" name="" descr=""/>
          <p:cNvPicPr/>
          <p:nvPr/>
        </p:nvPicPr>
        <p:blipFill>
          <a:blip r:embed="rId5"/>
          <a:stretch/>
        </p:blipFill>
        <p:spPr>
          <a:xfrm>
            <a:off x="3200400" y="4916520"/>
            <a:ext cx="2286000" cy="1712880"/>
          </a:xfrm>
          <a:prstGeom prst="rect">
            <a:avLst/>
          </a:prstGeom>
          <a:ln w="0">
            <a:noFill/>
          </a:ln>
        </p:spPr>
      </p:pic>
      <p:pic>
        <p:nvPicPr>
          <p:cNvPr id="157" name="" descr=""/>
          <p:cNvPicPr/>
          <p:nvPr/>
        </p:nvPicPr>
        <p:blipFill>
          <a:blip r:embed="rId6"/>
          <a:stretch/>
        </p:blipFill>
        <p:spPr>
          <a:xfrm>
            <a:off x="5715000" y="4419720"/>
            <a:ext cx="3048120" cy="1904760"/>
          </a:xfrm>
          <a:prstGeom prst="rect">
            <a:avLst/>
          </a:prstGeom>
          <a:ln w="0">
            <a:noFill/>
          </a:ln>
        </p:spPr>
      </p:pic>
      <p:sp>
        <p:nvSpPr>
          <p:cNvPr id="15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674291-9955-4C2B-9E03-5CEDF7E606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Deepening</a:t>
            </a:r>
            <a:endParaRPr b="0" lang="en-US" sz="4400" spc="-1" strike="noStrike">
              <a:solidFill>
                <a:srgbClr val="009900"/>
              </a:solidFill>
              <a:latin typeface="Arial"/>
            </a:endParaRPr>
          </a:p>
        </p:txBody>
      </p:sp>
      <p:sp>
        <p:nvSpPr>
          <p:cNvPr id="2774" name="PlaceHolder 2"/>
          <p:cNvSpPr>
            <a:spLocks noGrp="1"/>
          </p:cNvSpPr>
          <p:nvPr>
            <p:ph/>
          </p:nvPr>
        </p:nvSpPr>
        <p:spPr>
          <a:xfrm>
            <a:off x="152280" y="990360"/>
            <a:ext cx="6934320" cy="5562360"/>
          </a:xfrm>
          <a:prstGeom prst="rect">
            <a:avLst/>
          </a:prstGeom>
          <a:noFill/>
          <a:ln w="0">
            <a:noFill/>
          </a:ln>
        </p:spPr>
        <p:txBody>
          <a:bodyPr lIns="90000" rIns="90000" tIns="46800" bIns="46800" anchor="t">
            <a:normAutofit/>
          </a:bodyPr>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terative deepening is a simple algorithm which uses DFS as a subroutine:</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Do a DFS which only searches for paths of length 1 or less.  (DFS </a:t>
            </a:r>
            <a:r>
              <a:rPr b="0" lang="en-US" sz="2400" spc="-1" strike="noStrike">
                <a:solidFill>
                  <a:srgbClr val="000000"/>
                </a:solidFill>
                <a:latin typeface="Arial"/>
              </a:rPr>
              <a:t>	</a:t>
            </a:r>
            <a:r>
              <a:rPr b="0" lang="en-US" sz="2400" spc="-1" strike="noStrike">
                <a:solidFill>
                  <a:srgbClr val="000000"/>
                </a:solidFill>
                <a:latin typeface="Arial"/>
              </a:rPr>
              <a:t>gives up any path of length 2)</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1” failed, do a DFS which only searches paths of length 2 or less.</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2” failed, do a DFS which only searches paths of length 3 or less.</a:t>
            </a:r>
            <a:endParaRPr b="0" lang="en-US" sz="24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so on until success</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Cost is </a:t>
            </a:r>
            <a:endParaRPr b="0" lang="en-US" sz="24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1</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2</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3</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4</a:t>
            </a:r>
            <a:r>
              <a:rPr b="0" lang="en-US" sz="2800" spc="-1" strike="noStrike">
                <a:solidFill>
                  <a:srgbClr val="ff0000"/>
                </a:solidFill>
                <a:latin typeface="Arial"/>
              </a:rPr>
              <a:t> … + </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 = </a:t>
            </a: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a:t>
            </a:r>
            <a:endParaRPr b="0" lang="en-US" sz="28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800" spc="-1" strike="noStrike">
              <a:solidFill>
                <a:srgbClr val="000000"/>
              </a:solidFill>
              <a:latin typeface="Arial"/>
            </a:endParaRPr>
          </a:p>
        </p:txBody>
      </p:sp>
      <p:sp>
        <p:nvSpPr>
          <p:cNvPr id="2775" name=""/>
          <p:cNvSpPr/>
          <p:nvPr/>
        </p:nvSpPr>
        <p:spPr>
          <a:xfrm rot="18498600">
            <a:off x="5239440" y="3797640"/>
            <a:ext cx="4038480" cy="100872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Can be much better than regular DFS.  But cost can be much greater than the number of stat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811C79-E3F1-482F-B74B-B4B7363E04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77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1" lang="en-US" sz="2000" spc="-1" strike="noStrike">
                <a:solidFill>
                  <a:srgbClr val="333399"/>
                </a:solidFill>
                <a:latin typeface="Arial"/>
              </a:rPr>
              <a:t>Iterative Deepening</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grpSp>
        <p:nvGrpSpPr>
          <p:cNvPr id="2778" name=""/>
          <p:cNvGrpSpPr/>
          <p:nvPr/>
        </p:nvGrpSpPr>
        <p:grpSpPr>
          <a:xfrm>
            <a:off x="1447920" y="2057400"/>
            <a:ext cx="4647600" cy="3273480"/>
            <a:chOff x="1447920" y="2057400"/>
            <a:chExt cx="4647600" cy="3273480"/>
          </a:xfrm>
        </p:grpSpPr>
        <p:sp>
          <p:nvSpPr>
            <p:cNvPr id="2779" name=""/>
            <p:cNvSpPr/>
            <p:nvPr/>
          </p:nvSpPr>
          <p:spPr>
            <a:xfrm>
              <a:off x="5104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
            <p:cNvSpPr/>
            <p:nvPr/>
          </p:nvSpPr>
          <p:spPr>
            <a:xfrm>
              <a:off x="485244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
            <p:cNvSpPr/>
            <p:nvPr/>
          </p:nvSpPr>
          <p:spPr>
            <a:xfrm>
              <a:off x="46026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
            <p:cNvSpPr/>
            <p:nvPr/>
          </p:nvSpPr>
          <p:spPr>
            <a:xfrm>
              <a:off x="435564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
            <p:cNvSpPr/>
            <p:nvPr/>
          </p:nvSpPr>
          <p:spPr>
            <a:xfrm>
              <a:off x="4105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
            <p:cNvSpPr/>
            <p:nvPr/>
          </p:nvSpPr>
          <p:spPr>
            <a:xfrm>
              <a:off x="38530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
            <p:cNvSpPr/>
            <p:nvPr/>
          </p:nvSpPr>
          <p:spPr>
            <a:xfrm>
              <a:off x="36032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
            <p:cNvSpPr/>
            <p:nvPr/>
          </p:nvSpPr>
          <p:spPr>
            <a:xfrm>
              <a:off x="33534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
            <p:cNvSpPr/>
            <p:nvPr/>
          </p:nvSpPr>
          <p:spPr>
            <a:xfrm>
              <a:off x="3100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
            <p:cNvSpPr/>
            <p:nvPr/>
          </p:nvSpPr>
          <p:spPr>
            <a:xfrm>
              <a:off x="2850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
            <p:cNvSpPr/>
            <p:nvPr/>
          </p:nvSpPr>
          <p:spPr>
            <a:xfrm>
              <a:off x="260388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
            <p:cNvSpPr/>
            <p:nvPr/>
          </p:nvSpPr>
          <p:spPr>
            <a:xfrm>
              <a:off x="23540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
            <p:cNvSpPr/>
            <p:nvPr/>
          </p:nvSpPr>
          <p:spPr>
            <a:xfrm>
              <a:off x="2101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
            <p:cNvSpPr/>
            <p:nvPr/>
          </p:nvSpPr>
          <p:spPr>
            <a:xfrm>
              <a:off x="1851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
            <p:cNvSpPr/>
            <p:nvPr/>
          </p:nvSpPr>
          <p:spPr>
            <a:xfrm>
              <a:off x="5104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
            <p:cNvSpPr/>
            <p:nvPr/>
          </p:nvSpPr>
          <p:spPr>
            <a:xfrm>
              <a:off x="485244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
            <p:cNvSpPr/>
            <p:nvPr/>
          </p:nvSpPr>
          <p:spPr>
            <a:xfrm>
              <a:off x="46026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
            <p:cNvSpPr/>
            <p:nvPr/>
          </p:nvSpPr>
          <p:spPr>
            <a:xfrm>
              <a:off x="435564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
            <p:cNvSpPr/>
            <p:nvPr/>
          </p:nvSpPr>
          <p:spPr>
            <a:xfrm>
              <a:off x="4105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
            <p:cNvSpPr/>
            <p:nvPr/>
          </p:nvSpPr>
          <p:spPr>
            <a:xfrm>
              <a:off x="38530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
            <p:cNvSpPr/>
            <p:nvPr/>
          </p:nvSpPr>
          <p:spPr>
            <a:xfrm>
              <a:off x="36032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
            <p:cNvSpPr/>
            <p:nvPr/>
          </p:nvSpPr>
          <p:spPr>
            <a:xfrm>
              <a:off x="33534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
            <p:cNvSpPr/>
            <p:nvPr/>
          </p:nvSpPr>
          <p:spPr>
            <a:xfrm>
              <a:off x="3100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
            <p:cNvSpPr/>
            <p:nvPr/>
          </p:nvSpPr>
          <p:spPr>
            <a:xfrm>
              <a:off x="2850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
            <p:cNvSpPr/>
            <p:nvPr/>
          </p:nvSpPr>
          <p:spPr>
            <a:xfrm>
              <a:off x="260388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
            <p:cNvSpPr/>
            <p:nvPr/>
          </p:nvSpPr>
          <p:spPr>
            <a:xfrm>
              <a:off x="23540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
            <p:cNvSpPr/>
            <p:nvPr/>
          </p:nvSpPr>
          <p:spPr>
            <a:xfrm>
              <a:off x="2101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
            <p:cNvSpPr/>
            <p:nvPr/>
          </p:nvSpPr>
          <p:spPr>
            <a:xfrm>
              <a:off x="1851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
            <p:cNvSpPr/>
            <p:nvPr/>
          </p:nvSpPr>
          <p:spPr>
            <a:xfrm>
              <a:off x="5104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
            <p:cNvSpPr/>
            <p:nvPr/>
          </p:nvSpPr>
          <p:spPr>
            <a:xfrm>
              <a:off x="485244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
            <p:cNvSpPr/>
            <p:nvPr/>
          </p:nvSpPr>
          <p:spPr>
            <a:xfrm>
              <a:off x="46026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
            <p:cNvSpPr/>
            <p:nvPr/>
          </p:nvSpPr>
          <p:spPr>
            <a:xfrm>
              <a:off x="435564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
            <p:cNvSpPr/>
            <p:nvPr/>
          </p:nvSpPr>
          <p:spPr>
            <a:xfrm>
              <a:off x="4105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
            <p:cNvSpPr/>
            <p:nvPr/>
          </p:nvSpPr>
          <p:spPr>
            <a:xfrm>
              <a:off x="38530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
            <p:cNvSpPr/>
            <p:nvPr/>
          </p:nvSpPr>
          <p:spPr>
            <a:xfrm>
              <a:off x="36032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
            <p:cNvSpPr/>
            <p:nvPr/>
          </p:nvSpPr>
          <p:spPr>
            <a:xfrm>
              <a:off x="33534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
            <p:cNvSpPr/>
            <p:nvPr/>
          </p:nvSpPr>
          <p:spPr>
            <a:xfrm>
              <a:off x="3100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
            <p:cNvSpPr/>
            <p:nvPr/>
          </p:nvSpPr>
          <p:spPr>
            <a:xfrm>
              <a:off x="2850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
            <p:cNvSpPr/>
            <p:nvPr/>
          </p:nvSpPr>
          <p:spPr>
            <a:xfrm>
              <a:off x="260388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
            <p:cNvSpPr/>
            <p:nvPr/>
          </p:nvSpPr>
          <p:spPr>
            <a:xfrm>
              <a:off x="23540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
            <p:cNvSpPr/>
            <p:nvPr/>
          </p:nvSpPr>
          <p:spPr>
            <a:xfrm>
              <a:off x="2101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
            <p:cNvSpPr/>
            <p:nvPr/>
          </p:nvSpPr>
          <p:spPr>
            <a:xfrm>
              <a:off x="1851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
            <p:cNvSpPr/>
            <p:nvPr/>
          </p:nvSpPr>
          <p:spPr>
            <a:xfrm>
              <a:off x="5104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
            <p:cNvSpPr/>
            <p:nvPr/>
          </p:nvSpPr>
          <p:spPr>
            <a:xfrm>
              <a:off x="485244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
            <p:cNvSpPr/>
            <p:nvPr/>
          </p:nvSpPr>
          <p:spPr>
            <a:xfrm>
              <a:off x="46026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
            <p:cNvSpPr/>
            <p:nvPr/>
          </p:nvSpPr>
          <p:spPr>
            <a:xfrm>
              <a:off x="435564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
            <p:cNvSpPr/>
            <p:nvPr/>
          </p:nvSpPr>
          <p:spPr>
            <a:xfrm>
              <a:off x="4105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
            <p:cNvSpPr/>
            <p:nvPr/>
          </p:nvSpPr>
          <p:spPr>
            <a:xfrm>
              <a:off x="38530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
            <p:cNvSpPr/>
            <p:nvPr/>
          </p:nvSpPr>
          <p:spPr>
            <a:xfrm>
              <a:off x="36032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
            <p:cNvSpPr/>
            <p:nvPr/>
          </p:nvSpPr>
          <p:spPr>
            <a:xfrm>
              <a:off x="33534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
            <p:cNvSpPr/>
            <p:nvPr/>
          </p:nvSpPr>
          <p:spPr>
            <a:xfrm>
              <a:off x="3100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
            <p:cNvSpPr/>
            <p:nvPr/>
          </p:nvSpPr>
          <p:spPr>
            <a:xfrm>
              <a:off x="2850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
            <p:cNvSpPr/>
            <p:nvPr/>
          </p:nvSpPr>
          <p:spPr>
            <a:xfrm>
              <a:off x="260388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
            <p:cNvSpPr/>
            <p:nvPr/>
          </p:nvSpPr>
          <p:spPr>
            <a:xfrm>
              <a:off x="23540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
            <p:cNvSpPr/>
            <p:nvPr/>
          </p:nvSpPr>
          <p:spPr>
            <a:xfrm>
              <a:off x="2101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
            <p:cNvSpPr/>
            <p:nvPr/>
          </p:nvSpPr>
          <p:spPr>
            <a:xfrm>
              <a:off x="1851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
            <p:cNvSpPr/>
            <p:nvPr/>
          </p:nvSpPr>
          <p:spPr>
            <a:xfrm>
              <a:off x="5104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
            <p:cNvSpPr/>
            <p:nvPr/>
          </p:nvSpPr>
          <p:spPr>
            <a:xfrm>
              <a:off x="485244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
            <p:cNvSpPr/>
            <p:nvPr/>
          </p:nvSpPr>
          <p:spPr>
            <a:xfrm>
              <a:off x="46026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
            <p:cNvSpPr/>
            <p:nvPr/>
          </p:nvSpPr>
          <p:spPr>
            <a:xfrm>
              <a:off x="435564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
            <p:cNvSpPr/>
            <p:nvPr/>
          </p:nvSpPr>
          <p:spPr>
            <a:xfrm>
              <a:off x="4105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
            <p:cNvSpPr/>
            <p:nvPr/>
          </p:nvSpPr>
          <p:spPr>
            <a:xfrm>
              <a:off x="38530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
            <p:cNvSpPr/>
            <p:nvPr/>
          </p:nvSpPr>
          <p:spPr>
            <a:xfrm>
              <a:off x="36032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
            <p:cNvSpPr/>
            <p:nvPr/>
          </p:nvSpPr>
          <p:spPr>
            <a:xfrm>
              <a:off x="33534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
            <p:cNvSpPr/>
            <p:nvPr/>
          </p:nvSpPr>
          <p:spPr>
            <a:xfrm>
              <a:off x="3100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
            <p:cNvSpPr/>
            <p:nvPr/>
          </p:nvSpPr>
          <p:spPr>
            <a:xfrm>
              <a:off x="2850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
            <p:cNvSpPr/>
            <p:nvPr/>
          </p:nvSpPr>
          <p:spPr>
            <a:xfrm>
              <a:off x="260388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
            <p:cNvSpPr/>
            <p:nvPr/>
          </p:nvSpPr>
          <p:spPr>
            <a:xfrm>
              <a:off x="23540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
            <p:cNvSpPr/>
            <p:nvPr/>
          </p:nvSpPr>
          <p:spPr>
            <a:xfrm>
              <a:off x="2101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
            <p:cNvSpPr/>
            <p:nvPr/>
          </p:nvSpPr>
          <p:spPr>
            <a:xfrm>
              <a:off x="1851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
            <p:cNvSpPr/>
            <p:nvPr/>
          </p:nvSpPr>
          <p:spPr>
            <a:xfrm>
              <a:off x="5104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
            <p:cNvSpPr/>
            <p:nvPr/>
          </p:nvSpPr>
          <p:spPr>
            <a:xfrm>
              <a:off x="485244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
            <p:cNvSpPr/>
            <p:nvPr/>
          </p:nvSpPr>
          <p:spPr>
            <a:xfrm>
              <a:off x="46026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
            <p:cNvSpPr/>
            <p:nvPr/>
          </p:nvSpPr>
          <p:spPr>
            <a:xfrm>
              <a:off x="435564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
            <p:cNvSpPr/>
            <p:nvPr/>
          </p:nvSpPr>
          <p:spPr>
            <a:xfrm>
              <a:off x="4105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
            <p:cNvSpPr/>
            <p:nvPr/>
          </p:nvSpPr>
          <p:spPr>
            <a:xfrm>
              <a:off x="38530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
            <p:cNvSpPr/>
            <p:nvPr/>
          </p:nvSpPr>
          <p:spPr>
            <a:xfrm>
              <a:off x="36032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
            <p:cNvSpPr/>
            <p:nvPr/>
          </p:nvSpPr>
          <p:spPr>
            <a:xfrm>
              <a:off x="33534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
            <p:cNvSpPr/>
            <p:nvPr/>
          </p:nvSpPr>
          <p:spPr>
            <a:xfrm>
              <a:off x="3100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
            <p:cNvSpPr/>
            <p:nvPr/>
          </p:nvSpPr>
          <p:spPr>
            <a:xfrm>
              <a:off x="2850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
            <p:cNvSpPr/>
            <p:nvPr/>
          </p:nvSpPr>
          <p:spPr>
            <a:xfrm>
              <a:off x="260388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
            <p:cNvSpPr/>
            <p:nvPr/>
          </p:nvSpPr>
          <p:spPr>
            <a:xfrm>
              <a:off x="23540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
            <p:cNvSpPr/>
            <p:nvPr/>
          </p:nvSpPr>
          <p:spPr>
            <a:xfrm>
              <a:off x="2101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
            <p:cNvSpPr/>
            <p:nvPr/>
          </p:nvSpPr>
          <p:spPr>
            <a:xfrm>
              <a:off x="1851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
            <p:cNvSpPr/>
            <p:nvPr/>
          </p:nvSpPr>
          <p:spPr>
            <a:xfrm>
              <a:off x="5104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
            <p:cNvSpPr/>
            <p:nvPr/>
          </p:nvSpPr>
          <p:spPr>
            <a:xfrm>
              <a:off x="485244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
            <p:cNvSpPr/>
            <p:nvPr/>
          </p:nvSpPr>
          <p:spPr>
            <a:xfrm>
              <a:off x="46026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
            <p:cNvSpPr/>
            <p:nvPr/>
          </p:nvSpPr>
          <p:spPr>
            <a:xfrm>
              <a:off x="435564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
            <p:cNvSpPr/>
            <p:nvPr/>
          </p:nvSpPr>
          <p:spPr>
            <a:xfrm>
              <a:off x="4105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
            <p:cNvSpPr/>
            <p:nvPr/>
          </p:nvSpPr>
          <p:spPr>
            <a:xfrm>
              <a:off x="38530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
            <p:cNvSpPr/>
            <p:nvPr/>
          </p:nvSpPr>
          <p:spPr>
            <a:xfrm>
              <a:off x="36032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
            <p:cNvSpPr/>
            <p:nvPr/>
          </p:nvSpPr>
          <p:spPr>
            <a:xfrm>
              <a:off x="33534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
            <p:cNvSpPr/>
            <p:nvPr/>
          </p:nvSpPr>
          <p:spPr>
            <a:xfrm>
              <a:off x="3100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
            <p:cNvSpPr/>
            <p:nvPr/>
          </p:nvSpPr>
          <p:spPr>
            <a:xfrm>
              <a:off x="2850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
            <p:cNvSpPr/>
            <p:nvPr/>
          </p:nvSpPr>
          <p:spPr>
            <a:xfrm>
              <a:off x="260388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
            <p:cNvSpPr/>
            <p:nvPr/>
          </p:nvSpPr>
          <p:spPr>
            <a:xfrm>
              <a:off x="23540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
            <p:cNvSpPr/>
            <p:nvPr/>
          </p:nvSpPr>
          <p:spPr>
            <a:xfrm>
              <a:off x="2101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
            <p:cNvSpPr/>
            <p:nvPr/>
          </p:nvSpPr>
          <p:spPr>
            <a:xfrm>
              <a:off x="1851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
            <p:cNvSpPr/>
            <p:nvPr/>
          </p:nvSpPr>
          <p:spPr>
            <a:xfrm>
              <a:off x="5104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
            <p:cNvSpPr/>
            <p:nvPr/>
          </p:nvSpPr>
          <p:spPr>
            <a:xfrm>
              <a:off x="485244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
            <p:cNvSpPr/>
            <p:nvPr/>
          </p:nvSpPr>
          <p:spPr>
            <a:xfrm>
              <a:off x="46026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
            <p:cNvSpPr/>
            <p:nvPr/>
          </p:nvSpPr>
          <p:spPr>
            <a:xfrm>
              <a:off x="435564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
            <p:cNvSpPr/>
            <p:nvPr/>
          </p:nvSpPr>
          <p:spPr>
            <a:xfrm>
              <a:off x="4105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
            <p:cNvSpPr/>
            <p:nvPr/>
          </p:nvSpPr>
          <p:spPr>
            <a:xfrm>
              <a:off x="38530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
            <p:cNvSpPr/>
            <p:nvPr/>
          </p:nvSpPr>
          <p:spPr>
            <a:xfrm>
              <a:off x="36032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
            <p:cNvSpPr/>
            <p:nvPr/>
          </p:nvSpPr>
          <p:spPr>
            <a:xfrm>
              <a:off x="33534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
            <p:cNvSpPr/>
            <p:nvPr/>
          </p:nvSpPr>
          <p:spPr>
            <a:xfrm>
              <a:off x="3100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
            <p:cNvSpPr/>
            <p:nvPr/>
          </p:nvSpPr>
          <p:spPr>
            <a:xfrm>
              <a:off x="2850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
            <p:cNvSpPr/>
            <p:nvPr/>
          </p:nvSpPr>
          <p:spPr>
            <a:xfrm>
              <a:off x="260388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
            <p:cNvSpPr/>
            <p:nvPr/>
          </p:nvSpPr>
          <p:spPr>
            <a:xfrm>
              <a:off x="23540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
            <p:cNvSpPr/>
            <p:nvPr/>
          </p:nvSpPr>
          <p:spPr>
            <a:xfrm>
              <a:off x="2101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
            <p:cNvSpPr/>
            <p:nvPr/>
          </p:nvSpPr>
          <p:spPr>
            <a:xfrm>
              <a:off x="1851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
            <p:cNvSpPr/>
            <p:nvPr/>
          </p:nvSpPr>
          <p:spPr>
            <a:xfrm>
              <a:off x="5104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
            <p:cNvSpPr/>
            <p:nvPr/>
          </p:nvSpPr>
          <p:spPr>
            <a:xfrm>
              <a:off x="485244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
            <p:cNvSpPr/>
            <p:nvPr/>
          </p:nvSpPr>
          <p:spPr>
            <a:xfrm>
              <a:off x="46026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
            <p:cNvSpPr/>
            <p:nvPr/>
          </p:nvSpPr>
          <p:spPr>
            <a:xfrm>
              <a:off x="435564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
            <p:cNvSpPr/>
            <p:nvPr/>
          </p:nvSpPr>
          <p:spPr>
            <a:xfrm>
              <a:off x="4105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
            <p:cNvSpPr/>
            <p:nvPr/>
          </p:nvSpPr>
          <p:spPr>
            <a:xfrm>
              <a:off x="38530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
            <p:cNvSpPr/>
            <p:nvPr/>
          </p:nvSpPr>
          <p:spPr>
            <a:xfrm>
              <a:off x="36032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
            <p:cNvSpPr/>
            <p:nvPr/>
          </p:nvSpPr>
          <p:spPr>
            <a:xfrm>
              <a:off x="33534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
            <p:cNvSpPr/>
            <p:nvPr/>
          </p:nvSpPr>
          <p:spPr>
            <a:xfrm>
              <a:off x="3100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
            <p:cNvSpPr/>
            <p:nvPr/>
          </p:nvSpPr>
          <p:spPr>
            <a:xfrm>
              <a:off x="2850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
            <p:cNvSpPr/>
            <p:nvPr/>
          </p:nvSpPr>
          <p:spPr>
            <a:xfrm>
              <a:off x="260388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23540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2101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
            <p:cNvSpPr/>
            <p:nvPr/>
          </p:nvSpPr>
          <p:spPr>
            <a:xfrm>
              <a:off x="1851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
            <p:cNvSpPr/>
            <p:nvPr/>
          </p:nvSpPr>
          <p:spPr>
            <a:xfrm>
              <a:off x="5104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
            <p:cNvSpPr/>
            <p:nvPr/>
          </p:nvSpPr>
          <p:spPr>
            <a:xfrm>
              <a:off x="485244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46026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435564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
            <p:cNvSpPr/>
            <p:nvPr/>
          </p:nvSpPr>
          <p:spPr>
            <a:xfrm>
              <a:off x="4105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
            <p:cNvSpPr/>
            <p:nvPr/>
          </p:nvSpPr>
          <p:spPr>
            <a:xfrm>
              <a:off x="38530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
            <p:cNvSpPr/>
            <p:nvPr/>
          </p:nvSpPr>
          <p:spPr>
            <a:xfrm>
              <a:off x="36032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
            <p:cNvSpPr/>
            <p:nvPr/>
          </p:nvSpPr>
          <p:spPr>
            <a:xfrm>
              <a:off x="33534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
            <p:cNvSpPr/>
            <p:nvPr/>
          </p:nvSpPr>
          <p:spPr>
            <a:xfrm>
              <a:off x="3100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
            <p:cNvSpPr/>
            <p:nvPr/>
          </p:nvSpPr>
          <p:spPr>
            <a:xfrm>
              <a:off x="2850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
            <p:cNvSpPr/>
            <p:nvPr/>
          </p:nvSpPr>
          <p:spPr>
            <a:xfrm>
              <a:off x="260388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
            <p:cNvSpPr/>
            <p:nvPr/>
          </p:nvSpPr>
          <p:spPr>
            <a:xfrm>
              <a:off x="23540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
            <p:cNvSpPr/>
            <p:nvPr/>
          </p:nvSpPr>
          <p:spPr>
            <a:xfrm>
              <a:off x="2101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
            <p:cNvSpPr/>
            <p:nvPr/>
          </p:nvSpPr>
          <p:spPr>
            <a:xfrm>
              <a:off x="1851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
            <p:cNvSpPr/>
            <p:nvPr/>
          </p:nvSpPr>
          <p:spPr>
            <a:xfrm>
              <a:off x="5104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
            <p:cNvSpPr/>
            <p:nvPr/>
          </p:nvSpPr>
          <p:spPr>
            <a:xfrm>
              <a:off x="485244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
            <p:cNvSpPr/>
            <p:nvPr/>
          </p:nvSpPr>
          <p:spPr>
            <a:xfrm>
              <a:off x="46026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
            <p:cNvSpPr/>
            <p:nvPr/>
          </p:nvSpPr>
          <p:spPr>
            <a:xfrm>
              <a:off x="435564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
            <p:cNvSpPr/>
            <p:nvPr/>
          </p:nvSpPr>
          <p:spPr>
            <a:xfrm>
              <a:off x="4105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
            <p:cNvSpPr/>
            <p:nvPr/>
          </p:nvSpPr>
          <p:spPr>
            <a:xfrm>
              <a:off x="38530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
            <p:cNvSpPr/>
            <p:nvPr/>
          </p:nvSpPr>
          <p:spPr>
            <a:xfrm>
              <a:off x="36032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
            <p:cNvSpPr/>
            <p:nvPr/>
          </p:nvSpPr>
          <p:spPr>
            <a:xfrm>
              <a:off x="33534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7" name=""/>
            <p:cNvSpPr/>
            <p:nvPr/>
          </p:nvSpPr>
          <p:spPr>
            <a:xfrm>
              <a:off x="3100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
            <p:cNvSpPr/>
            <p:nvPr/>
          </p:nvSpPr>
          <p:spPr>
            <a:xfrm>
              <a:off x="2850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
            <p:cNvSpPr/>
            <p:nvPr/>
          </p:nvSpPr>
          <p:spPr>
            <a:xfrm>
              <a:off x="260388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
            <p:cNvSpPr/>
            <p:nvPr/>
          </p:nvSpPr>
          <p:spPr>
            <a:xfrm>
              <a:off x="23540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
            <p:cNvSpPr/>
            <p:nvPr/>
          </p:nvSpPr>
          <p:spPr>
            <a:xfrm>
              <a:off x="2101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
            <p:cNvSpPr/>
            <p:nvPr/>
          </p:nvSpPr>
          <p:spPr>
            <a:xfrm>
              <a:off x="1851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
            <p:cNvSpPr/>
            <p:nvPr/>
          </p:nvSpPr>
          <p:spPr>
            <a:xfrm>
              <a:off x="5104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
            <p:cNvSpPr/>
            <p:nvPr/>
          </p:nvSpPr>
          <p:spPr>
            <a:xfrm>
              <a:off x="485244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
            <p:cNvSpPr/>
            <p:nvPr/>
          </p:nvSpPr>
          <p:spPr>
            <a:xfrm>
              <a:off x="46026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
            <p:cNvSpPr/>
            <p:nvPr/>
          </p:nvSpPr>
          <p:spPr>
            <a:xfrm>
              <a:off x="435564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
            <p:cNvSpPr/>
            <p:nvPr/>
          </p:nvSpPr>
          <p:spPr>
            <a:xfrm>
              <a:off x="4105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
            <p:cNvSpPr/>
            <p:nvPr/>
          </p:nvSpPr>
          <p:spPr>
            <a:xfrm>
              <a:off x="38530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
            <p:cNvSpPr/>
            <p:nvPr/>
          </p:nvSpPr>
          <p:spPr>
            <a:xfrm>
              <a:off x="36032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
            <p:cNvSpPr/>
            <p:nvPr/>
          </p:nvSpPr>
          <p:spPr>
            <a:xfrm>
              <a:off x="33534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
            <p:cNvSpPr/>
            <p:nvPr/>
          </p:nvSpPr>
          <p:spPr>
            <a:xfrm>
              <a:off x="3100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
            <p:cNvSpPr/>
            <p:nvPr/>
          </p:nvSpPr>
          <p:spPr>
            <a:xfrm>
              <a:off x="2850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
            <p:cNvSpPr/>
            <p:nvPr/>
          </p:nvSpPr>
          <p:spPr>
            <a:xfrm>
              <a:off x="260388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
            <p:cNvSpPr/>
            <p:nvPr/>
          </p:nvSpPr>
          <p:spPr>
            <a:xfrm>
              <a:off x="23540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
            <p:cNvSpPr/>
            <p:nvPr/>
          </p:nvSpPr>
          <p:spPr>
            <a:xfrm>
              <a:off x="2101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
            <p:cNvSpPr/>
            <p:nvPr/>
          </p:nvSpPr>
          <p:spPr>
            <a:xfrm>
              <a:off x="1851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
            <p:cNvSpPr/>
            <p:nvPr/>
          </p:nvSpPr>
          <p:spPr>
            <a:xfrm>
              <a:off x="5104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
            <p:cNvSpPr/>
            <p:nvPr/>
          </p:nvSpPr>
          <p:spPr>
            <a:xfrm>
              <a:off x="485244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
            <p:cNvSpPr/>
            <p:nvPr/>
          </p:nvSpPr>
          <p:spPr>
            <a:xfrm>
              <a:off x="46026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
            <p:cNvSpPr/>
            <p:nvPr/>
          </p:nvSpPr>
          <p:spPr>
            <a:xfrm>
              <a:off x="435564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4105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
            <p:cNvSpPr/>
            <p:nvPr/>
          </p:nvSpPr>
          <p:spPr>
            <a:xfrm>
              <a:off x="38530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
            <p:cNvSpPr/>
            <p:nvPr/>
          </p:nvSpPr>
          <p:spPr>
            <a:xfrm>
              <a:off x="36032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
            <p:cNvSpPr/>
            <p:nvPr/>
          </p:nvSpPr>
          <p:spPr>
            <a:xfrm>
              <a:off x="33534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
            <p:cNvSpPr/>
            <p:nvPr/>
          </p:nvSpPr>
          <p:spPr>
            <a:xfrm>
              <a:off x="3100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
            <p:cNvSpPr/>
            <p:nvPr/>
          </p:nvSpPr>
          <p:spPr>
            <a:xfrm>
              <a:off x="2850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
            <p:cNvSpPr/>
            <p:nvPr/>
          </p:nvSpPr>
          <p:spPr>
            <a:xfrm>
              <a:off x="260388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
            <p:cNvSpPr/>
            <p:nvPr/>
          </p:nvSpPr>
          <p:spPr>
            <a:xfrm>
              <a:off x="23540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
            <p:cNvSpPr/>
            <p:nvPr/>
          </p:nvSpPr>
          <p:spPr>
            <a:xfrm>
              <a:off x="2101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
            <p:cNvSpPr/>
            <p:nvPr/>
          </p:nvSpPr>
          <p:spPr>
            <a:xfrm>
              <a:off x="1851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
            <p:cNvSpPr/>
            <p:nvPr/>
          </p:nvSpPr>
          <p:spPr>
            <a:xfrm>
              <a:off x="5104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
            <p:cNvSpPr/>
            <p:nvPr/>
          </p:nvSpPr>
          <p:spPr>
            <a:xfrm>
              <a:off x="485244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
            <p:cNvSpPr/>
            <p:nvPr/>
          </p:nvSpPr>
          <p:spPr>
            <a:xfrm>
              <a:off x="46026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
            <p:cNvSpPr/>
            <p:nvPr/>
          </p:nvSpPr>
          <p:spPr>
            <a:xfrm>
              <a:off x="435564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
            <p:cNvSpPr/>
            <p:nvPr/>
          </p:nvSpPr>
          <p:spPr>
            <a:xfrm>
              <a:off x="4105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6" name=""/>
            <p:cNvSpPr/>
            <p:nvPr/>
          </p:nvSpPr>
          <p:spPr>
            <a:xfrm>
              <a:off x="38530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
            <p:cNvSpPr/>
            <p:nvPr/>
          </p:nvSpPr>
          <p:spPr>
            <a:xfrm>
              <a:off x="36032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
            <p:cNvSpPr/>
            <p:nvPr/>
          </p:nvSpPr>
          <p:spPr>
            <a:xfrm>
              <a:off x="33534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
            <p:cNvSpPr/>
            <p:nvPr/>
          </p:nvSpPr>
          <p:spPr>
            <a:xfrm>
              <a:off x="3100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
            <p:cNvSpPr/>
            <p:nvPr/>
          </p:nvSpPr>
          <p:spPr>
            <a:xfrm>
              <a:off x="2850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
            <p:cNvSpPr/>
            <p:nvPr/>
          </p:nvSpPr>
          <p:spPr>
            <a:xfrm>
              <a:off x="260388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
            <p:cNvSpPr/>
            <p:nvPr/>
          </p:nvSpPr>
          <p:spPr>
            <a:xfrm>
              <a:off x="23540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
            <p:cNvSpPr/>
            <p:nvPr/>
          </p:nvSpPr>
          <p:spPr>
            <a:xfrm>
              <a:off x="2101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
            <p:cNvSpPr/>
            <p:nvPr/>
          </p:nvSpPr>
          <p:spPr>
            <a:xfrm>
              <a:off x="1851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
            <p:cNvSpPr/>
            <p:nvPr/>
          </p:nvSpPr>
          <p:spPr>
            <a:xfrm>
              <a:off x="1851840" y="24570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
            <p:cNvSpPr/>
            <p:nvPr/>
          </p:nvSpPr>
          <p:spPr>
            <a:xfrm>
              <a:off x="1851840" y="26560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1851840" y="285408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1851840" y="30531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
            <p:cNvSpPr/>
            <p:nvPr/>
          </p:nvSpPr>
          <p:spPr>
            <a:xfrm>
              <a:off x="1851840" y="32536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1851840" y="34527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1851840" y="36522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1851840" y="38523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1851840" y="40518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
            <p:cNvSpPr/>
            <p:nvPr/>
          </p:nvSpPr>
          <p:spPr>
            <a:xfrm>
              <a:off x="1851840" y="424944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1851840" y="44488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851840" y="46494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1851840" y="4848480"/>
              <a:ext cx="350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18518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a:off x="23540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
            <p:cNvSpPr/>
            <p:nvPr/>
          </p:nvSpPr>
          <p:spPr>
            <a:xfrm>
              <a:off x="26038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
            <p:cNvSpPr/>
            <p:nvPr/>
          </p:nvSpPr>
          <p:spPr>
            <a:xfrm>
              <a:off x="28508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
            <p:cNvSpPr/>
            <p:nvPr/>
          </p:nvSpPr>
          <p:spPr>
            <a:xfrm>
              <a:off x="31006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
            <p:cNvSpPr/>
            <p:nvPr/>
          </p:nvSpPr>
          <p:spPr>
            <a:xfrm>
              <a:off x="33534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
            <p:cNvSpPr/>
            <p:nvPr/>
          </p:nvSpPr>
          <p:spPr>
            <a:xfrm>
              <a:off x="3603240" y="2057400"/>
              <a:ext cx="0" cy="79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38530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a:off x="4105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43556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46026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a:off x="48524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5104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53546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2101680" y="2057400"/>
              <a:ext cx="32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
            <p:cNvSpPr/>
            <p:nvPr/>
          </p:nvSpPr>
          <p:spPr>
            <a:xfrm>
              <a:off x="2101680" y="2256480"/>
              <a:ext cx="0" cy="259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2101680" y="2057400"/>
              <a:ext cx="0" cy="19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a:off x="2101680" y="2256480"/>
              <a:ext cx="32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a:off x="1851840" y="225648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51840" y="205740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3603240" y="285408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
            <p:cNvSpPr/>
            <p:nvPr/>
          </p:nvSpPr>
          <p:spPr>
            <a:xfrm>
              <a:off x="3603240" y="2854080"/>
              <a:ext cx="0" cy="1794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3603240" y="4649400"/>
              <a:ext cx="0" cy="19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a:off x="5691600" y="286956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3012" name=""/>
            <p:cNvSpPr/>
            <p:nvPr/>
          </p:nvSpPr>
          <p:spPr>
            <a:xfrm>
              <a:off x="1447920" y="493200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013" name=""/>
            <p:cNvSpPr/>
            <p:nvPr/>
          </p:nvSpPr>
          <p:spPr>
            <a:xfrm>
              <a:off x="5489640" y="3182040"/>
              <a:ext cx="40392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1716840" y="4869360"/>
              <a:ext cx="303120" cy="260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5" name=""/>
          <p:cNvSpPr/>
          <p:nvPr/>
        </p:nvSpPr>
        <p:spPr>
          <a:xfrm>
            <a:off x="3200400" y="53341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41DEBD-B603-49B7-B351-8EE47E782E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6"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7"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534D80DA-BC44-4407-B658-079FB056B9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8"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9"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61F5BFE1-7183-45F9-A54E-1E323336E0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02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a </a:t>
            </a:r>
            <a:r>
              <a:rPr b="0" i="1" lang="en-US" sz="2400" spc="-1" strike="noStrike">
                <a:solidFill>
                  <a:srgbClr val="000000"/>
                </a:solidFill>
                <a:latin typeface="Arial"/>
              </a:rPr>
              <a:t>heuristic</a:t>
            </a:r>
            <a:r>
              <a:rPr b="0" lang="en-US" sz="2400" spc="-1" strike="noStrike">
                <a:solidFill>
                  <a:srgbClr val="000000"/>
                </a:solidFill>
                <a:latin typeface="Arial"/>
              </a:rPr>
              <a:t>.  A heuristic function maps a state onto an estimate of the cost to the goal from that state.</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 of heuristics?</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the 8-puzz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planning a path through a maz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the heuristic by a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from states to a cost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9D6BA8-0EC8-43FA-A101-3340125FE1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euristic Search</a:t>
            </a:r>
            <a:endParaRPr b="0" lang="en-US" sz="4000" spc="-1" strike="noStrike">
              <a:solidFill>
                <a:srgbClr val="009900"/>
              </a:solidFill>
              <a:latin typeface="Arial"/>
            </a:endParaRPr>
          </a:p>
        </p:txBody>
      </p:sp>
      <p:sp>
        <p:nvSpPr>
          <p:cNvPr id="3023"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in addition to the standard search specification we also have a </a:t>
            </a:r>
            <a:r>
              <a:rPr b="0" i="1" lang="en-US" sz="2800" spc="-1" strike="noStrike">
                <a:solidFill>
                  <a:srgbClr val="000000"/>
                </a:solidFill>
                <a:latin typeface="Arial"/>
              </a:rPr>
              <a:t>heuristic</a:t>
            </a:r>
            <a:r>
              <a:rPr b="0" lang="en-US" sz="2800" spc="-1" strike="noStrike">
                <a:solidFill>
                  <a:srgbClr val="000000"/>
                </a:solidFill>
                <a:latin typeface="Arial"/>
              </a:rPr>
              <a:t>.  </a:t>
            </a:r>
            <a:endParaRPr b="0" lang="en-US" sz="2800" spc="-1" strike="noStrike">
              <a:solidFill>
                <a:srgbClr val="000000"/>
              </a:solidFill>
              <a:latin typeface="Arial"/>
            </a:endParaRPr>
          </a:p>
          <a:p>
            <a:pPr marL="349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 heuristic function maps a state onto an estimate of the cost to the goal from that state.</a:t>
            </a:r>
            <a:endParaRPr b="0" lang="en-US" sz="4000" spc="-1" strike="noStrike">
              <a:solidFill>
                <a:srgbClr val="000000"/>
              </a:solidFill>
              <a:latin typeface="Arial"/>
            </a:endParaRPr>
          </a:p>
          <a:p>
            <a:pPr marL="349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think of examples of heuristics?</a:t>
            </a:r>
            <a:endParaRPr b="0" lang="en-US" sz="2800" spc="-1" strike="noStrike">
              <a:solidFill>
                <a:srgbClr val="000000"/>
              </a:solidFill>
              <a:latin typeface="Arial"/>
            </a:endParaRPr>
          </a:p>
          <a:p>
            <a:pPr marL="349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he 8-puzzle?</a:t>
            </a:r>
            <a:endParaRPr b="0" lang="en-US" sz="28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planning a path through a maze?</a:t>
            </a: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ote the heuristic by a function </a:t>
            </a:r>
            <a:r>
              <a:rPr b="0" i="1" lang="en-US" sz="2800" spc="-1" strike="noStrike">
                <a:solidFill>
                  <a:srgbClr val="000000"/>
                </a:solidFill>
                <a:latin typeface="Arial"/>
              </a:rPr>
              <a:t>h</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from states to a cost val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2DF9AD-178C-4F00-A033-464B30DA73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25" name=""/>
          <p:cNvGrpSpPr/>
          <p:nvPr/>
        </p:nvGrpSpPr>
        <p:grpSpPr>
          <a:xfrm>
            <a:off x="762120" y="1066680"/>
            <a:ext cx="7238160" cy="4342680"/>
            <a:chOff x="762120" y="1066680"/>
            <a:chExt cx="7238160" cy="4342680"/>
          </a:xfrm>
        </p:grpSpPr>
        <p:grpSp>
          <p:nvGrpSpPr>
            <p:cNvPr id="3026" name=""/>
            <p:cNvGrpSpPr/>
            <p:nvPr/>
          </p:nvGrpSpPr>
          <p:grpSpPr>
            <a:xfrm>
              <a:off x="762120" y="1066680"/>
              <a:ext cx="7238160" cy="4342680"/>
              <a:chOff x="762120" y="1066680"/>
              <a:chExt cx="7238160" cy="4342680"/>
            </a:xfrm>
          </p:grpSpPr>
          <p:sp>
            <p:nvSpPr>
              <p:cNvPr id="3027"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28"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29"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30"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31"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32"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33"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34"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35"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36"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37"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38"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039" name=""/>
              <p:cNvCxnSpPr>
                <a:stCxn id="3027" idx="5"/>
                <a:endCxn id="3031"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040" name=""/>
              <p:cNvCxnSpPr>
                <a:stCxn id="3031" idx="5"/>
                <a:endCxn id="3032"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041" name=""/>
              <p:cNvCxnSpPr>
                <a:stCxn id="3035" idx="3"/>
                <a:endCxn id="3032"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042" name=""/>
              <p:cNvCxnSpPr>
                <a:stCxn id="3035" idx="2"/>
                <a:endCxn id="3031"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043" name=""/>
              <p:cNvCxnSpPr>
                <a:stCxn id="3034" idx="4"/>
                <a:endCxn id="3035"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044" name=""/>
              <p:cNvCxnSpPr>
                <a:stCxn id="3034" idx="5"/>
                <a:endCxn id="3038"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045" name=""/>
              <p:cNvCxnSpPr>
                <a:stCxn id="3038" idx="0"/>
                <a:endCxn id="3037"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046" name=""/>
              <p:cNvCxnSpPr>
                <a:stCxn id="3037" idx="0"/>
                <a:endCxn id="3028"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047" name=""/>
              <p:cNvCxnSpPr>
                <a:stCxn id="3027"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048" name=""/>
              <p:cNvCxnSpPr>
                <a:stCxn id="3029" idx="1"/>
                <a:endCxn id="3030"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049" name=""/>
              <p:cNvCxnSpPr>
                <a:endCxn id="3036"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050" name=""/>
              <p:cNvCxnSpPr>
                <a:stCxn id="3033" idx="2"/>
                <a:endCxn id="3036"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051" name=""/>
              <p:cNvCxnSpPr>
                <a:stCxn id="3029" idx="7"/>
                <a:endCxn id="3033"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052" name=""/>
              <p:cNvCxnSpPr>
                <a:stCxn id="3029" idx="6"/>
                <a:endCxn id="3034"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053" name=""/>
              <p:cNvCxnSpPr>
                <a:stCxn id="3037" idx="1"/>
                <a:endCxn id="3033"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054" name=""/>
              <p:cNvCxnSpPr>
                <a:stCxn id="3027" idx="6"/>
                <a:endCxn id="3034"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055"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56"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7"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8"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059"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0"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1"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62"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3"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064"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5"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6"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7"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068"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9"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70"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071" name=""/>
            <p:cNvCxnSpPr>
              <a:stCxn id="3032" idx="6"/>
              <a:endCxn id="3038"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072"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073"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074"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075"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6"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7"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078"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79"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0"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081"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082"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83"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4"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395475-1F5A-43D1-90A5-6E071E21E7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86" name=""/>
          <p:cNvGrpSpPr/>
          <p:nvPr/>
        </p:nvGrpSpPr>
        <p:grpSpPr>
          <a:xfrm>
            <a:off x="762120" y="1066680"/>
            <a:ext cx="7238160" cy="4342680"/>
            <a:chOff x="762120" y="1066680"/>
            <a:chExt cx="7238160" cy="4342680"/>
          </a:xfrm>
        </p:grpSpPr>
        <p:grpSp>
          <p:nvGrpSpPr>
            <p:cNvPr id="3087" name=""/>
            <p:cNvGrpSpPr/>
            <p:nvPr/>
          </p:nvGrpSpPr>
          <p:grpSpPr>
            <a:xfrm>
              <a:off x="762120" y="1066680"/>
              <a:ext cx="7238160" cy="4342680"/>
              <a:chOff x="762120" y="1066680"/>
              <a:chExt cx="7238160" cy="4342680"/>
            </a:xfrm>
          </p:grpSpPr>
          <p:sp>
            <p:nvSpPr>
              <p:cNvPr id="3088"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89"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90"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91"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92"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93"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94"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95"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96"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97"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98"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99"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100" name=""/>
              <p:cNvCxnSpPr>
                <a:stCxn id="3088" idx="5"/>
                <a:endCxn id="3092"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101" name=""/>
              <p:cNvCxnSpPr>
                <a:stCxn id="3092" idx="5"/>
                <a:endCxn id="3093"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102" name=""/>
              <p:cNvCxnSpPr>
                <a:stCxn id="3096" idx="3"/>
                <a:endCxn id="3093"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103" name=""/>
              <p:cNvCxnSpPr>
                <a:stCxn id="3096" idx="2"/>
                <a:endCxn id="3092"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104" name=""/>
              <p:cNvCxnSpPr>
                <a:stCxn id="3095" idx="4"/>
                <a:endCxn id="3096"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105" name=""/>
              <p:cNvCxnSpPr>
                <a:stCxn id="3095" idx="5"/>
                <a:endCxn id="3099"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106" name=""/>
              <p:cNvCxnSpPr>
                <a:stCxn id="3099" idx="0"/>
                <a:endCxn id="3098"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107" name=""/>
              <p:cNvCxnSpPr>
                <a:stCxn id="3098" idx="0"/>
                <a:endCxn id="3089"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108" name=""/>
              <p:cNvCxnSpPr>
                <a:stCxn id="3088"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109" name=""/>
              <p:cNvCxnSpPr>
                <a:stCxn id="3090" idx="1"/>
                <a:endCxn id="3091"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110" name=""/>
              <p:cNvCxnSpPr>
                <a:endCxn id="3097"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111" name=""/>
              <p:cNvCxnSpPr>
                <a:stCxn id="3094" idx="2"/>
                <a:endCxn id="3097"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112" name=""/>
              <p:cNvCxnSpPr>
                <a:stCxn id="3090" idx="7"/>
                <a:endCxn id="3094"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113" name=""/>
              <p:cNvCxnSpPr>
                <a:stCxn id="3090" idx="6"/>
                <a:endCxn id="3095"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114" name=""/>
              <p:cNvCxnSpPr>
                <a:stCxn id="3098" idx="1"/>
                <a:endCxn id="3094"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115" name=""/>
              <p:cNvCxnSpPr>
                <a:stCxn id="3088" idx="6"/>
                <a:endCxn id="3095"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116"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17"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8"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9"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120"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1"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2"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23"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4"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25"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6"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7"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8"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129"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30"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31"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132" name=""/>
            <p:cNvCxnSpPr>
              <a:stCxn id="3093" idx="6"/>
              <a:endCxn id="3099"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133"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134"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135"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36"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7"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8"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139"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0"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1"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142"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143"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4"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5"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46" name=""/>
          <p:cNvSpPr/>
          <p:nvPr/>
        </p:nvSpPr>
        <p:spPr>
          <a:xfrm rot="20877600">
            <a:off x="2286000" y="2361960"/>
            <a:ext cx="5867280" cy="13816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ority queue algorithm.</a:t>
            </a:r>
            <a:endParaRPr b="0" lang="en-US" sz="2400" spc="-1" strike="noStrike">
              <a:solidFill>
                <a:srgbClr val="000000"/>
              </a:solidFill>
              <a:latin typeface="Arial"/>
            </a:endParaRPr>
          </a:p>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time, priority is the heuristic valu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C884FE3-44AA-49B4-B2CC-09498AEA69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148"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START,h(STA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Q is not empty and PQ does not contain a goal st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 , h ) := Pop-least(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ach s’ in succs(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 is not already in PQ and s’ never previously been visite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ert-PriQueue(PQ,s’,h(s’))</a:t>
            </a:r>
            <a:endParaRPr b="0" lang="en-US" sz="20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improvements to this algorithm can make things much better.  It’s a little thing we like to call: A*….       </a:t>
            </a:r>
            <a:endParaRPr b="0" lang="en-US" sz="24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i="1" lang="en-US" sz="2400" spc="-1" strike="noStrike">
                <a:solidFill>
                  <a:srgbClr val="ff0000"/>
                </a:solidFill>
                <a:latin typeface="Arial"/>
              </a:rPr>
              <a:t>to be continued</a:t>
            </a:r>
            <a:r>
              <a:rPr b="0" i="1" lang="en-US" sz="3200" spc="-1" strike="noStrike">
                <a:solidFill>
                  <a:srgbClr val="ff0000"/>
                </a:solidFill>
                <a:latin typeface="Arial"/>
              </a:rPr>
              <a:t>!</a:t>
            </a:r>
            <a:endParaRPr b="0" lang="en-US" sz="3200" spc="-1" strike="noStrike">
              <a:solidFill>
                <a:srgbClr val="000000"/>
              </a:solidFill>
              <a:latin typeface="Arial"/>
            </a:endParaRPr>
          </a:p>
        </p:txBody>
      </p:sp>
      <p:graphicFrame>
        <p:nvGraphicFramePr>
          <p:cNvPr id="3149" name=""/>
          <p:cNvGraphicFramePr/>
          <p:nvPr/>
        </p:nvGraphicFramePr>
        <p:xfrm>
          <a:off x="152280" y="3660840"/>
          <a:ext cx="8839440" cy="12160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DC1043D-5175-49A7-B21B-60503E0615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151" name="PlaceHolder 2"/>
          <p:cNvSpPr>
            <a:spLocks noGrp="1"/>
          </p:cNvSpPr>
          <p:nvPr>
            <p:ph/>
          </p:nvPr>
        </p:nvSpPr>
        <p:spPr>
          <a:xfrm>
            <a:off x="533520" y="1341000"/>
            <a:ext cx="8229600" cy="490716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rough understanding of BFS, LCBFS, UCS. PCDFS, MEMDF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oncepts of whether a search is complete, optimal, its time and space complexity</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deas behind iterative deepening and bidirectional search</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discuss at cocktail parties the pros and cons of the above search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38EBA-3D05-4D2A-BE73-5D8B3A7497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60" name="" descr=""/>
          <p:cNvPicPr/>
          <p:nvPr/>
        </p:nvPicPr>
        <p:blipFill>
          <a:blip r:embed="rId1"/>
          <a:stretch/>
        </p:blipFill>
        <p:spPr>
          <a:xfrm>
            <a:off x="304920" y="1143000"/>
            <a:ext cx="4952880" cy="3598920"/>
          </a:xfrm>
          <a:prstGeom prst="rect">
            <a:avLst/>
          </a:prstGeom>
          <a:ln w="0">
            <a:noFill/>
          </a:ln>
        </p:spPr>
      </p:pic>
      <p:sp>
        <p:nvSpPr>
          <p:cNvPr id="16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62" name="" descr=""/>
          <p:cNvPicPr/>
          <p:nvPr/>
        </p:nvPicPr>
        <p:blipFill>
          <a:blip r:embed="rId2"/>
          <a:stretch/>
        </p:blipFill>
        <p:spPr>
          <a:xfrm>
            <a:off x="5715000" y="2438280"/>
            <a:ext cx="2743200" cy="1771920"/>
          </a:xfrm>
          <a:prstGeom prst="rect">
            <a:avLst/>
          </a:prstGeom>
          <a:ln w="0">
            <a:noFill/>
          </a:ln>
        </p:spPr>
      </p:pic>
      <p:sp>
        <p:nvSpPr>
          <p:cNvPr id="16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64" name="" descr=""/>
          <p:cNvPicPr/>
          <p:nvPr/>
        </p:nvPicPr>
        <p:blipFill>
          <a:blip r:embed="rId3"/>
          <a:stretch/>
        </p:blipFill>
        <p:spPr>
          <a:xfrm>
            <a:off x="152280" y="5105520"/>
            <a:ext cx="1505160" cy="1504800"/>
          </a:xfrm>
          <a:prstGeom prst="rect">
            <a:avLst/>
          </a:prstGeom>
          <a:ln w="0">
            <a:noFill/>
          </a:ln>
        </p:spPr>
      </p:pic>
      <p:pic>
        <p:nvPicPr>
          <p:cNvPr id="165" name="" descr=""/>
          <p:cNvPicPr/>
          <p:nvPr/>
        </p:nvPicPr>
        <p:blipFill>
          <a:blip r:embed="rId4"/>
          <a:stretch/>
        </p:blipFill>
        <p:spPr>
          <a:xfrm>
            <a:off x="1676520" y="4952880"/>
            <a:ext cx="1490400" cy="1552680"/>
          </a:xfrm>
          <a:prstGeom prst="rect">
            <a:avLst/>
          </a:prstGeom>
          <a:ln w="0">
            <a:noFill/>
          </a:ln>
        </p:spPr>
      </p:pic>
      <p:pic>
        <p:nvPicPr>
          <p:cNvPr id="166" name="" descr=""/>
          <p:cNvPicPr/>
          <p:nvPr/>
        </p:nvPicPr>
        <p:blipFill>
          <a:blip r:embed="rId5"/>
          <a:stretch/>
        </p:blipFill>
        <p:spPr>
          <a:xfrm>
            <a:off x="3200400" y="4916520"/>
            <a:ext cx="2286000" cy="1712880"/>
          </a:xfrm>
          <a:prstGeom prst="rect">
            <a:avLst/>
          </a:prstGeom>
          <a:ln w="0">
            <a:noFill/>
          </a:ln>
        </p:spPr>
      </p:pic>
      <p:pic>
        <p:nvPicPr>
          <p:cNvPr id="167" name="" descr=""/>
          <p:cNvPicPr/>
          <p:nvPr/>
        </p:nvPicPr>
        <p:blipFill>
          <a:blip r:embed="rId6"/>
          <a:stretch/>
        </p:blipFill>
        <p:spPr>
          <a:xfrm>
            <a:off x="5715000" y="4419720"/>
            <a:ext cx="3048120" cy="1904760"/>
          </a:xfrm>
          <a:prstGeom prst="rect">
            <a:avLst/>
          </a:prstGeom>
          <a:ln w="0">
            <a:noFill/>
          </a:ln>
        </p:spPr>
      </p:pic>
      <p:sp>
        <p:nvSpPr>
          <p:cNvPr id="16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169" name=""/>
          <p:cNvSpPr/>
          <p:nvPr/>
        </p:nvSpPr>
        <p:spPr>
          <a:xfrm>
            <a:off x="304920" y="762120"/>
            <a:ext cx="6553080" cy="11912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re are plenty of things which we’d normally call search problems that don’t fit our rigid definition…</a:t>
            </a:r>
            <a:endParaRPr b="0" lang="en-US" sz="2400" spc="-1" strike="noStrike">
              <a:solidFill>
                <a:srgbClr val="000000"/>
              </a:solidFill>
              <a:latin typeface="Arial"/>
            </a:endParaRPr>
          </a:p>
        </p:txBody>
      </p:sp>
      <p:sp>
        <p:nvSpPr>
          <p:cNvPr id="170" name="PlaceHolder 2"/>
          <p:cNvSpPr>
            <a:spLocks noGrp="1"/>
          </p:cNvSpPr>
          <p:nvPr>
            <p:ph/>
          </p:nvPr>
        </p:nvSpPr>
        <p:spPr>
          <a:xfrm>
            <a:off x="2819520" y="1676520"/>
            <a:ext cx="5867280" cy="4038480"/>
          </a:xfrm>
          <a:prstGeom prst="rect">
            <a:avLst/>
          </a:prstGeom>
          <a:solidFill>
            <a:srgbClr val="ffffcc"/>
          </a:solidFill>
          <a:ln w="9360">
            <a:solidFill>
              <a:srgbClr val="cc330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rch problem has five compon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G</a:t>
            </a:r>
            <a:r>
              <a:rPr b="0" lang="en-US" sz="2000" spc="-1" strike="noStrike">
                <a:solidFill>
                  <a:srgbClr val="000000"/>
                </a:solidFill>
                <a:latin typeface="Arial"/>
              </a:rPr>
              <a:t> , </a:t>
            </a:r>
            <a:r>
              <a:rPr b="1" lang="en-US" sz="2000" spc="-1" strike="noStrike">
                <a:solidFill>
                  <a:srgbClr val="000000"/>
                </a:solidFill>
                <a:latin typeface="Arial"/>
              </a:rPr>
              <a:t>succs</a:t>
            </a:r>
            <a:r>
              <a:rPr b="0" lang="en-US" sz="2000" spc="-1" strike="noStrike">
                <a:solidFill>
                  <a:srgbClr val="000000"/>
                </a:solidFill>
                <a:latin typeface="Arial"/>
              </a:rPr>
              <a:t> , </a:t>
            </a:r>
            <a:r>
              <a:rPr b="1" lang="en-US" sz="2000" spc="-1" strike="noStrike">
                <a:solidFill>
                  <a:srgbClr val="000000"/>
                </a:solidFill>
                <a:latin typeface="Arial"/>
              </a:rPr>
              <a:t>c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is a finite set of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 </a:t>
            </a:r>
            <a:r>
              <a:rPr b="0" lang="en-US" sz="2000" spc="-1" strike="noStrike">
                <a:solidFill>
                  <a:srgbClr val="000000"/>
                </a:solidFill>
                <a:latin typeface="Symbol"/>
                <a:ea typeface="Symbol"/>
              </a:rPr>
              <a:t></a:t>
            </a:r>
            <a:r>
              <a:rPr b="0" i="1" lang="en-US" sz="2000" spc="-1" strike="noStrike">
                <a:solidFill>
                  <a:srgbClr val="000000"/>
                </a:solidFill>
                <a:latin typeface="Arial"/>
              </a:rPr>
              <a:t> Q</a:t>
            </a:r>
            <a:r>
              <a:rPr b="0" lang="en-US" sz="2000" spc="-1" strike="noStrike">
                <a:solidFill>
                  <a:srgbClr val="000000"/>
                </a:solidFill>
                <a:latin typeface="Arial"/>
              </a:rPr>
              <a:t> is a non-empty set of start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is a non-empty set of goal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Q)</a:t>
            </a:r>
            <a:r>
              <a:rPr b="0" lang="en-US" sz="2000" spc="-1" strike="noStrike">
                <a:solidFill>
                  <a:srgbClr val="000000"/>
                </a:solidFill>
                <a:latin typeface="Arial"/>
              </a:rPr>
              <a:t> is a function which takes a state as input and returns a set of states as output.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means “the set of states you can reach from </a:t>
            </a:r>
            <a:r>
              <a:rPr b="0" i="1" lang="en-US" sz="2000" spc="-1" strike="noStrike">
                <a:solidFill>
                  <a:srgbClr val="000000"/>
                </a:solidFill>
                <a:latin typeface="Arial"/>
              </a:rPr>
              <a:t>s</a:t>
            </a:r>
            <a:r>
              <a:rPr b="0" lang="en-US" sz="2000" spc="-1" strike="noStrike">
                <a:solidFill>
                  <a:srgbClr val="000000"/>
                </a:solidFill>
                <a:latin typeface="Arial"/>
              </a:rPr>
              <a:t> in one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ositive Number</a:t>
            </a:r>
            <a:r>
              <a:rPr b="0" lang="en-US" sz="2000" spc="-1" strike="noStrike">
                <a:solidFill>
                  <a:srgbClr val="000000"/>
                </a:solidFill>
                <a:latin typeface="Arial"/>
              </a:rPr>
              <a:t> is a function which takes two states, </a:t>
            </a:r>
            <a:r>
              <a:rPr b="0" i="1" lang="en-US" sz="2000" spc="-1" strike="noStrike">
                <a:solidFill>
                  <a:srgbClr val="000000"/>
                </a:solidFill>
                <a:latin typeface="Arial"/>
              </a:rPr>
              <a:t>s</a:t>
            </a:r>
            <a:r>
              <a:rPr b="0" lang="en-US" sz="2000" spc="-1" strike="noStrike">
                <a:solidFill>
                  <a:srgbClr val="000000"/>
                </a:solidFill>
                <a:latin typeface="Arial"/>
              </a:rPr>
              <a:t> and </a:t>
            </a:r>
            <a:r>
              <a:rPr b="0" i="1" lang="en-US" sz="2000" spc="-1" strike="noStrike">
                <a:solidFill>
                  <a:srgbClr val="000000"/>
                </a:solidFill>
                <a:latin typeface="Arial"/>
              </a:rPr>
              <a:t>s</a:t>
            </a:r>
            <a:r>
              <a:rPr b="0" lang="en-US" sz="2000" spc="-1" strike="noStrike">
                <a:solidFill>
                  <a:srgbClr val="000000"/>
                </a:solidFill>
                <a:latin typeface="Arial"/>
              </a:rPr>
              <a:t>’, as input.  It returns the one-step cost of traveling from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s</a:t>
            </a:r>
            <a:r>
              <a:rPr b="0" lang="en-US" sz="2000" spc="-1" strike="noStrike">
                <a:solidFill>
                  <a:srgbClr val="000000"/>
                </a:solidFill>
                <a:latin typeface="Arial"/>
              </a:rPr>
              <a:t>’.  The cost function is only defined when </a:t>
            </a:r>
            <a:r>
              <a:rPr b="0" i="1" lang="en-US" sz="2000" spc="-1" strike="noStrike">
                <a:solidFill>
                  <a:srgbClr val="000000"/>
                </a:solidFill>
                <a:latin typeface="Arial"/>
              </a:rPr>
              <a:t>s</a:t>
            </a:r>
            <a:r>
              <a:rPr b="0" lang="en-US" sz="2000" spc="-1" strike="noStrike">
                <a:solidFill>
                  <a:srgbClr val="000000"/>
                </a:solidFill>
                <a:latin typeface="Arial"/>
              </a:rPr>
              <a:t>’ is a successor state of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1" name=""/>
          <p:cNvSpPr/>
          <p:nvPr/>
        </p:nvSpPr>
        <p:spPr>
          <a:xfrm rot="1046400">
            <a:off x="457920" y="5486400"/>
            <a:ext cx="4038480" cy="45972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E96878-AFFE-4018-8055-2795EB123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1-15T18:03:35Z</dcterms:modified>
  <cp:revision>73</cp:revision>
  <dc:subject/>
  <dc:title>Short Bayes Nets  and how they got that way</dc:title>
</cp:coreProperties>
</file>