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1B55-AC35-461F-91BC-160A854BD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85741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240" y="3868920"/>
            <a:ext cx="85741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39F9-CB02-4656-8DAE-41BACC20B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2168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42E9-7619-4F06-962A-420987FA8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26960" y="101736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6040" y="101736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240" y="386892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26960" y="386892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6040" y="386892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D55B-DBCF-4739-BA80-051A9770B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1017360"/>
            <a:ext cx="857412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85741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5345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2824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240" y="1017360"/>
            <a:ext cx="857412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5592-7AE6-47B4-8FCB-61BFF8AA4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2168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240" y="3868920"/>
            <a:ext cx="85741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85741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28240" y="3868920"/>
            <a:ext cx="85741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2168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26960" y="101736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6040" y="101736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28240" y="386892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26960" y="386892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6040" y="386892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85741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E7C1-39A6-4266-86BD-AA5137907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078C-11BB-4514-B986-4428AA322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70A0-C7D5-4EA8-BF5E-FD2DF3021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5345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D4BD-8974-4915-A978-16A4AFBB9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24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016C-2CFE-4ECB-B0BF-680F1C098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2168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01EC-C440-4C28-B20E-0F73401FD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240" y="3868920"/>
            <a:ext cx="85741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577F-2DF4-4A99-A342-B7A3BF56D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017360"/>
            <a:ext cx="85741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029200" y="6629040"/>
            <a:ext cx="4114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BBDC-F56E-488E-B82E-4A4C9958A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ahoma"/>
              </a:rPr>
              <a:t>Click to edit the title text format</a:t>
            </a:r>
            <a:endParaRPr b="1" lang="en-US" sz="6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wm@cs.cmu.ed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-1446120" y="1960560"/>
            <a:ext cx="3870000" cy="2666520"/>
            <a:chOff x="-1446120" y="1960560"/>
            <a:chExt cx="3870000" cy="266652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-1103040" y="2212200"/>
              <a:ext cx="303768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-1446120" y="1960560"/>
              <a:ext cx="1812600" cy="256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93280" y="2061000"/>
              <a:ext cx="930600" cy="256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ahoma"/>
              </a:rPr>
              <a:t>AI</a:t>
            </a:r>
            <a:br>
              <a:rPr sz="5400"/>
            </a:br>
            <a:br>
              <a:rPr sz="2400"/>
            </a:br>
            <a:r>
              <a:rPr b="0" lang="en-US" sz="3600" spc="-1" strike="noStrike">
                <a:solidFill>
                  <a:srgbClr val="0066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6600"/>
              </a:solidFill>
              <a:latin typeface="Tahom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609560" y="2087640"/>
          <a:ext cx="5781600" cy="4054320"/>
        </p:xfrm>
        <a:graphic>
          <a:graphicData uri="http://schemas.openxmlformats.org/drawingml/2006/table">
            <a:tbl>
              <a:tblPr/>
              <a:tblGrid>
                <a:gridCol w="5781600"/>
              </a:tblGrid>
              <a:tr h="293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rew W. Moo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negie Mellon Univers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"/>
                        </a:rPr>
                        <a:t>awm@cs.cmu.ed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Questions welcome about anything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3320" y="365040"/>
            <a:ext cx="8937360" cy="606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F912-AAFB-41A5-9728-8D856BC09D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3320" y="139680"/>
            <a:ext cx="8915400" cy="423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354D-64A3-47E3-AFBD-BBC41C7EAE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8000" y="122400"/>
            <a:ext cx="8928000" cy="529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1F1A-8111-4BB8-93CE-33DF18E193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34800" y="157320"/>
            <a:ext cx="8483760" cy="636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B487-F003-4B12-95D1-4DC13ACDF4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9440" y="119160"/>
            <a:ext cx="889956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102E-C083-4BD8-84C9-9199108BF2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7080" y="1362240"/>
            <a:ext cx="8791560" cy="2259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981080" y="228600"/>
            <a:ext cx="47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Snake-Oil  A.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EE8E-DEC9-468F-935F-55F88FFA13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9160" y="135000"/>
            <a:ext cx="8880480" cy="3541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529240" y="3073320"/>
            <a:ext cx="3454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120E-D048-4BEE-85BB-951B71FD95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9160" y="135000"/>
            <a:ext cx="8880480" cy="354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4493-2700-4A42-91C6-1459C3616A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7760" y="117360"/>
            <a:ext cx="8453520" cy="648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3D13-C206-4541-88CA-93B41EF410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3840" y="135000"/>
            <a:ext cx="8862840" cy="557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E8C1-F6C1-4594-B3FE-90F8F05BCC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39320" y="153720"/>
            <a:ext cx="76726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An AI cocktail party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39840" y="1174680"/>
            <a:ext cx="5173920" cy="531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00C9-9D9F-41F7-8634-44702618CE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9320" y="153720"/>
            <a:ext cx="76726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An AI cocktail party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39840" y="1174680"/>
            <a:ext cx="5173920" cy="5316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46840" y="5842080"/>
            <a:ext cx="2574720" cy="685800"/>
          </a:xfrm>
          <a:prstGeom prst="wedgeRectCallout">
            <a:avLst>
              <a:gd name="adj1" fmla="val -46055"/>
              <a:gd name="adj2" fmla="val -183564"/>
            </a:avLst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w does intelligence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3959-6011-4E6C-A90C-18184A35DC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39320" y="153720"/>
            <a:ext cx="76726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An AI cocktail party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139840" y="1174680"/>
            <a:ext cx="5173920" cy="5316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46840" y="5842080"/>
            <a:ext cx="2574720" cy="685800"/>
          </a:xfrm>
          <a:prstGeom prst="wedgeRectCallout">
            <a:avLst>
              <a:gd name="adj1" fmla="val -46055"/>
              <a:gd name="adj2" fmla="val -183564"/>
            </a:avLst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w does intelligence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240" y="693720"/>
            <a:ext cx="2871720" cy="1023840"/>
          </a:xfrm>
          <a:prstGeom prst="wedgeRectCallout">
            <a:avLst>
              <a:gd name="adj1" fmla="val 45189"/>
              <a:gd name="adj2" fmla="val 77129"/>
            </a:avLst>
          </a:prstGeom>
          <a:solidFill>
            <a:srgbClr val="ffadad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w can we put professional decision-makers out of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0375-09CC-4BE1-A0BE-D0C13276C4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39320" y="153720"/>
            <a:ext cx="76726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An AI cocktail party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39840" y="1174680"/>
            <a:ext cx="5173920" cy="5316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046840" y="5842080"/>
            <a:ext cx="2574720" cy="685800"/>
          </a:xfrm>
          <a:prstGeom prst="wedgeRectCallout">
            <a:avLst>
              <a:gd name="adj1" fmla="val -46055"/>
              <a:gd name="adj2" fmla="val -183564"/>
            </a:avLst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w does intelligence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240" y="693720"/>
            <a:ext cx="2871720" cy="1023840"/>
          </a:xfrm>
          <a:prstGeom prst="wedgeRectCallout">
            <a:avLst>
              <a:gd name="adj1" fmla="val 45189"/>
              <a:gd name="adj2" fmla="val 77129"/>
            </a:avLst>
          </a:prstGeom>
          <a:solidFill>
            <a:srgbClr val="ffadad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w can we put professional decision-makers out of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4840" y="5537160"/>
            <a:ext cx="2871720" cy="1023840"/>
          </a:xfrm>
          <a:prstGeom prst="wedgeRectCallout">
            <a:avLst>
              <a:gd name="adj1" fmla="val 68462"/>
              <a:gd name="adj2" fmla="val -63486"/>
            </a:avLst>
          </a:prstGeom>
          <a:solidFill>
            <a:srgbClr val="dcffb9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hese people have produced some fun questions to play wit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BF9E-9699-43CF-9531-27AC1DE14B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39320" y="153720"/>
            <a:ext cx="76726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An AI cocktail party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39840" y="1174680"/>
            <a:ext cx="5173920" cy="5316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46840" y="5842080"/>
            <a:ext cx="2574720" cy="685800"/>
          </a:xfrm>
          <a:prstGeom prst="wedgeRectCallout">
            <a:avLst>
              <a:gd name="adj1" fmla="val -46055"/>
              <a:gd name="adj2" fmla="val -183564"/>
            </a:avLst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w does intelligence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240" y="693720"/>
            <a:ext cx="2871720" cy="1023840"/>
          </a:xfrm>
          <a:prstGeom prst="wedgeRectCallout">
            <a:avLst>
              <a:gd name="adj1" fmla="val 45189"/>
              <a:gd name="adj2" fmla="val 77129"/>
            </a:avLst>
          </a:prstGeom>
          <a:solidFill>
            <a:srgbClr val="ffadad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w can we put professional decision-makers out of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4840" y="5537160"/>
            <a:ext cx="2871720" cy="1023840"/>
          </a:xfrm>
          <a:prstGeom prst="wedgeRectCallout">
            <a:avLst>
              <a:gd name="adj1" fmla="val 68462"/>
              <a:gd name="adj2" fmla="val -63486"/>
            </a:avLst>
          </a:prstGeom>
          <a:solidFill>
            <a:srgbClr val="dcffb9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hese people have produced some fun questions to play wit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80120" y="906480"/>
            <a:ext cx="1838520" cy="1023840"/>
          </a:xfrm>
          <a:prstGeom prst="wedgeRectCallout">
            <a:avLst>
              <a:gd name="adj1" fmla="val -72194"/>
              <a:gd name="adj2" fmla="val 34032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we actually apply this profitab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9E8A-E849-4F10-A70C-6CE2296F92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39320" y="153720"/>
            <a:ext cx="76726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An AI cocktail party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39840" y="1174680"/>
            <a:ext cx="5173920" cy="5316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046840" y="5842080"/>
            <a:ext cx="2574720" cy="685800"/>
          </a:xfrm>
          <a:prstGeom prst="wedgeRectCallout">
            <a:avLst>
              <a:gd name="adj1" fmla="val -46055"/>
              <a:gd name="adj2" fmla="val -183564"/>
            </a:avLst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w does intelligence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240" y="693720"/>
            <a:ext cx="2871720" cy="1023840"/>
          </a:xfrm>
          <a:prstGeom prst="wedgeRectCallout">
            <a:avLst>
              <a:gd name="adj1" fmla="val 45189"/>
              <a:gd name="adj2" fmla="val 77129"/>
            </a:avLst>
          </a:prstGeom>
          <a:solidFill>
            <a:srgbClr val="ffadad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w can we put professional decision-makers out of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4840" y="5537160"/>
            <a:ext cx="2871720" cy="1023840"/>
          </a:xfrm>
          <a:prstGeom prst="wedgeRectCallout">
            <a:avLst>
              <a:gd name="adj1" fmla="val 68462"/>
              <a:gd name="adj2" fmla="val -63486"/>
            </a:avLst>
          </a:prstGeom>
          <a:solidFill>
            <a:srgbClr val="dcffb9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hese people have produced some fun questions to play wit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80120" y="906480"/>
            <a:ext cx="1838520" cy="1023840"/>
          </a:xfrm>
          <a:prstGeom prst="wedgeRectCallout">
            <a:avLst>
              <a:gd name="adj1" fmla="val -72194"/>
              <a:gd name="adj2" fmla="val 34032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we actually apply this profitab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5840" y="2879640"/>
            <a:ext cx="1838160" cy="2894040"/>
          </a:xfrm>
          <a:prstGeom prst="wedgeRectCallout">
            <a:avLst>
              <a:gd name="adj1" fmla="val -71504"/>
              <a:gd name="adj2" fmla="val -20324"/>
            </a:avLst>
          </a:prstGeom>
          <a:solidFill>
            <a:srgbClr val="ffff99"/>
          </a:solidFill>
          <a:ln w="12600">
            <a:solidFill>
              <a:srgbClr val="ae8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e8512"/>
                </a:solidFill>
                <a:latin typeface="Arial"/>
              </a:rPr>
              <a:t>Revolution. 5 years from now. A new age dawns. Paradigm shift. The one thing they missed up to now i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BE31-4E0B-4478-BAA4-4938137BD5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Why do AI research?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76080"/>
            <a:ext cx="857412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ld fashioned answer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Make programs that behave like the brain behav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DAE0-4479-4706-BDF4-95E88F9150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Why do AI research?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76080"/>
            <a:ext cx="857412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w fashioned answer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Make programs that behave like the brain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should</a:t>
            </a: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 behav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14F5-9902-42D5-86BA-B2F49A2D3F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22:52:10Z</dcterms:created>
  <dc:creator>awm</dc:creator>
  <dc:description/>
  <dc:language>en-US</dc:language>
  <cp:lastModifiedBy>awm</cp:lastModifiedBy>
  <dcterms:modified xsi:type="dcterms:W3CDTF">2004-01-12T18:02:38Z</dcterms:modified>
  <cp:revision>385</cp:revision>
  <dc:subject/>
  <dc:title>PowerPoint Presentation</dc:title>
</cp:coreProperties>
</file>